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C8C-B22F-4337-968E-0814ABD6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54F-21B2-405C-8FEF-FD08846C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4B2-F457-4296-9AEB-97883B95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A63-CBA1-4B3B-9001-1A0064A7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2D6-0D04-479E-A02B-AFAE1657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260-AD66-4F38-859A-8FCA6751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B98-11CE-472A-9D35-08BA9191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86D-DA8A-4877-B472-22E9A753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9A2-2EA1-40C3-98B1-CA21F1CA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B94-C92E-4DD5-9D4B-1B57FC09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576-2CD7-4855-913C-187678BE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37B-29C5-4E1E-8253-833DB7AD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B3B0-EB7E-4D22-B5B3-ABD4F5B18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October 5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arm – 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Write in standard form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(8 x 10</a:t>
            </a:r>
            <a:r>
              <a:rPr b="0" lang="en-US" sz="3300" spc="-1" strike="noStrike" baseline="30000">
                <a:solidFill>
                  <a:srgbClr val="99cc00"/>
                </a:solidFill>
                <a:latin typeface="Arial"/>
              </a:rPr>
              <a:t>5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) + (3 x 10</a:t>
            </a:r>
            <a:r>
              <a:rPr b="0" lang="en-US" sz="33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) + (2 x 10</a:t>
            </a:r>
            <a:r>
              <a:rPr b="0" lang="en-US" sz="3300" spc="-1" strike="noStrike" baseline="30000">
                <a:solidFill>
                  <a:srgbClr val="99cc00"/>
                </a:solidFill>
                <a:latin typeface="Arial"/>
              </a:rPr>
              <a:t>0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Write in exponential notatio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14,028</a:t>
            </a:r>
            <a:r>
              <a:rPr b="0" lang="en-US" sz="33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87840" y="3830760"/>
            <a:ext cx="9360" cy="90360"/>
          </a:xfrm>
          <a:custGeom>
            <a:avLst/>
            <a:gdLst/>
            <a:ahLst/>
            <a:rect l="l" t="t" r="r" b="b"/>
            <a:pathLst>
              <a:path w="26" h="249">
                <a:moveTo>
                  <a:pt x="10244" y="10641"/>
                </a:moveTo>
                <a:cubicBezTo>
                  <a:pt x="10265" y="10737"/>
                  <a:pt x="10270" y="10794"/>
                  <a:pt x="10244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7120" y="3367080"/>
            <a:ext cx="1465200" cy="507960"/>
          </a:xfrm>
          <a:custGeom>
            <a:avLst/>
            <a:gdLst/>
            <a:ahLst/>
            <a:rect l="l" t="t" r="r" b="b"/>
            <a:pathLst>
              <a:path w="4069" h="1415">
                <a:moveTo>
                  <a:pt x="4663" y="9922"/>
                </a:moveTo>
                <a:cubicBezTo>
                  <a:pt x="4645" y="9814"/>
                  <a:pt x="4487" y="9844"/>
                  <a:pt x="4390" y="9872"/>
                </a:cubicBezTo>
                <a:cubicBezTo>
                  <a:pt x="4308" y="9914"/>
                  <a:pt x="4291" y="9922"/>
                  <a:pt x="4242" y="9947"/>
                </a:cubicBezTo>
                <a:cubicBezTo>
                  <a:pt x="4312" y="10088"/>
                  <a:pt x="4472" y="10114"/>
                  <a:pt x="4539" y="10244"/>
                </a:cubicBezTo>
                <a:cubicBezTo>
                  <a:pt x="4606" y="10373"/>
                  <a:pt x="4451" y="10380"/>
                  <a:pt x="4390" y="10393"/>
                </a:cubicBezTo>
                <a:cubicBezTo>
                  <a:pt x="4264" y="10196"/>
                  <a:pt x="4360" y="10143"/>
                  <a:pt x="4514" y="9971"/>
                </a:cubicBezTo>
                <a:cubicBezTo>
                  <a:pt x="4553" y="9933"/>
                  <a:pt x="4570" y="9931"/>
                  <a:pt x="4564" y="9897"/>
                </a:cubicBezTo>
              </a:path>
              <a:path w="4069" h="1415">
                <a:moveTo>
                  <a:pt x="4986" y="9947"/>
                </a:moveTo>
                <a:cubicBezTo>
                  <a:pt x="4893" y="9916"/>
                  <a:pt x="4794" y="9893"/>
                  <a:pt x="4713" y="9971"/>
                </a:cubicBezTo>
                <a:cubicBezTo>
                  <a:pt x="4608" y="10072"/>
                  <a:pt x="4507" y="10266"/>
                  <a:pt x="4663" y="10368"/>
                </a:cubicBezTo>
                <a:cubicBezTo>
                  <a:pt x="4783" y="10447"/>
                  <a:pt x="5024" y="10355"/>
                  <a:pt x="5085" y="10244"/>
                </a:cubicBezTo>
                <a:cubicBezTo>
                  <a:pt x="5144" y="10136"/>
                  <a:pt x="5081" y="10047"/>
                  <a:pt x="5011" y="9971"/>
                </a:cubicBezTo>
                <a:cubicBezTo>
                  <a:pt x="4986" y="9947"/>
                  <a:pt x="4978" y="9939"/>
                  <a:pt x="4961" y="9971"/>
                </a:cubicBezTo>
              </a:path>
              <a:path w="4069" h="1415">
                <a:moveTo>
                  <a:pt x="5457" y="9947"/>
                </a:moveTo>
                <a:cubicBezTo>
                  <a:pt x="5340" y="9876"/>
                  <a:pt x="5250" y="10002"/>
                  <a:pt x="5184" y="10096"/>
                </a:cubicBezTo>
                <a:cubicBezTo>
                  <a:pt x="5072" y="10256"/>
                  <a:pt x="5200" y="10412"/>
                  <a:pt x="5383" y="10344"/>
                </a:cubicBezTo>
                <a:cubicBezTo>
                  <a:pt x="5546" y="10283"/>
                  <a:pt x="5726" y="10125"/>
                  <a:pt x="5556" y="9971"/>
                </a:cubicBezTo>
                <a:cubicBezTo>
                  <a:pt x="5488" y="9910"/>
                  <a:pt x="5469" y="9910"/>
                  <a:pt x="5407" y="9947"/>
                </a:cubicBezTo>
              </a:path>
              <a:path w="4069" h="1415">
                <a:moveTo>
                  <a:pt x="5904" y="9971"/>
                </a:moveTo>
                <a:cubicBezTo>
                  <a:pt x="5773" y="9924"/>
                  <a:pt x="5673" y="9987"/>
                  <a:pt x="5606" y="10120"/>
                </a:cubicBezTo>
                <a:cubicBezTo>
                  <a:pt x="5582" y="10239"/>
                  <a:pt x="5571" y="10276"/>
                  <a:pt x="5631" y="10344"/>
                </a:cubicBezTo>
                <a:cubicBezTo>
                  <a:pt x="5769" y="10358"/>
                  <a:pt x="6121" y="10361"/>
                  <a:pt x="6102" y="10120"/>
                </a:cubicBezTo>
                <a:cubicBezTo>
                  <a:pt x="6093" y="10002"/>
                  <a:pt x="5919" y="9974"/>
                  <a:pt x="5854" y="9996"/>
                </a:cubicBezTo>
              </a:path>
              <a:path w="4069" h="1415">
                <a:moveTo>
                  <a:pt x="6400" y="10021"/>
                </a:moveTo>
                <a:cubicBezTo>
                  <a:pt x="6312" y="9992"/>
                  <a:pt x="6247" y="9950"/>
                  <a:pt x="6152" y="10021"/>
                </a:cubicBezTo>
                <a:cubicBezTo>
                  <a:pt x="6025" y="10116"/>
                  <a:pt x="6036" y="10179"/>
                  <a:pt x="6028" y="10319"/>
                </a:cubicBezTo>
                <a:cubicBezTo>
                  <a:pt x="6233" y="10376"/>
                  <a:pt x="6444" y="10357"/>
                  <a:pt x="6573" y="10145"/>
                </a:cubicBezTo>
                <a:cubicBezTo>
                  <a:pt x="6646" y="10024"/>
                  <a:pt x="6358" y="10025"/>
                  <a:pt x="6300" y="10021"/>
                </a:cubicBezTo>
              </a:path>
              <a:path w="4069" h="1415">
                <a:moveTo>
                  <a:pt x="6896" y="9922"/>
                </a:moveTo>
                <a:cubicBezTo>
                  <a:pt x="6750" y="9946"/>
                  <a:pt x="6659" y="10012"/>
                  <a:pt x="6623" y="10170"/>
                </a:cubicBezTo>
                <a:cubicBezTo>
                  <a:pt x="6576" y="10378"/>
                  <a:pt x="6855" y="10368"/>
                  <a:pt x="6970" y="10294"/>
                </a:cubicBezTo>
                <a:cubicBezTo>
                  <a:pt x="7104" y="10209"/>
                  <a:pt x="7151" y="9969"/>
                  <a:pt x="7020" y="9872"/>
                </a:cubicBezTo>
                <a:cubicBezTo>
                  <a:pt x="6970" y="9872"/>
                  <a:pt x="6954" y="9872"/>
                  <a:pt x="6921" y="9872"/>
                </a:cubicBezTo>
              </a:path>
              <a:path w="4069" h="1415">
                <a:moveTo>
                  <a:pt x="5507" y="10443"/>
                </a:moveTo>
                <a:cubicBezTo>
                  <a:pt x="5556" y="10460"/>
                  <a:pt x="5531" y="10570"/>
                  <a:pt x="5507" y="10616"/>
                </a:cubicBezTo>
                <a:cubicBezTo>
                  <a:pt x="5430" y="10718"/>
                  <a:pt x="5403" y="10753"/>
                  <a:pt x="5308" y="10765"/>
                </a:cubicBezTo>
              </a:path>
              <a:path w="4069" h="1415">
                <a:moveTo>
                  <a:pt x="7169" y="9376"/>
                </a:moveTo>
                <a:cubicBezTo>
                  <a:pt x="7222" y="9376"/>
                  <a:pt x="7239" y="9356"/>
                  <a:pt x="7293" y="9351"/>
                </a:cubicBezTo>
                <a:cubicBezTo>
                  <a:pt x="7317" y="9351"/>
                  <a:pt x="7325" y="9351"/>
                  <a:pt x="7317" y="9376"/>
                </a:cubicBezTo>
              </a:path>
              <a:path w="4069" h="1415">
                <a:moveTo>
                  <a:pt x="7838" y="10244"/>
                </a:moveTo>
                <a:cubicBezTo>
                  <a:pt x="7838" y="10184"/>
                  <a:pt x="7817" y="10370"/>
                  <a:pt x="7813" y="10418"/>
                </a:cubicBezTo>
              </a:path>
              <a:path w="4069" h="1415">
                <a:moveTo>
                  <a:pt x="7665" y="10393"/>
                </a:moveTo>
                <a:cubicBezTo>
                  <a:pt x="7771" y="10363"/>
                  <a:pt x="7878" y="10331"/>
                  <a:pt x="7987" y="10319"/>
                </a:cubicBezTo>
              </a:path>
              <a:path w="4069" h="1415">
                <a:moveTo>
                  <a:pt x="7913" y="10418"/>
                </a:moveTo>
                <a:cubicBezTo>
                  <a:pt x="7923" y="10433"/>
                  <a:pt x="7907" y="10586"/>
                  <a:pt x="7888" y="10641"/>
                </a:cubicBezTo>
                <a:cubicBezTo>
                  <a:pt x="7865" y="10664"/>
                  <a:pt x="7857" y="10668"/>
                  <a:pt x="7863" y="10691"/>
                </a:cubicBezTo>
              </a:path>
              <a:path w="4069" h="1415">
                <a:moveTo>
                  <a:pt x="7913" y="10492"/>
                </a:moveTo>
                <a:cubicBezTo>
                  <a:pt x="7923" y="10434"/>
                  <a:pt x="7938" y="10427"/>
                  <a:pt x="7938" y="10368"/>
                </a:cubicBezTo>
                <a:cubicBezTo>
                  <a:pt x="7938" y="10301"/>
                  <a:pt x="7919" y="10284"/>
                  <a:pt x="7962" y="10269"/>
                </a:cubicBezTo>
                <a:cubicBezTo>
                  <a:pt x="7983" y="10372"/>
                  <a:pt x="7958" y="10433"/>
                  <a:pt x="7938" y="10542"/>
                </a:cubicBezTo>
                <a:cubicBezTo>
                  <a:pt x="7938" y="10567"/>
                  <a:pt x="7938" y="10575"/>
                  <a:pt x="7913" y="10567"/>
                </a:cubicBezTo>
                <a:cubicBezTo>
                  <a:pt x="7921" y="10410"/>
                  <a:pt x="7943" y="10263"/>
                  <a:pt x="8012" y="10120"/>
                </a:cubicBezTo>
                <a:cubicBezTo>
                  <a:pt x="8034" y="10075"/>
                  <a:pt x="8036" y="10113"/>
                  <a:pt x="7987" y="10170"/>
                </a:cubicBezTo>
              </a:path>
              <a:path w="4069" h="1415">
                <a:moveTo>
                  <a:pt x="7714" y="10319"/>
                </a:moveTo>
                <a:cubicBezTo>
                  <a:pt x="7870" y="10341"/>
                  <a:pt x="8026" y="10337"/>
                  <a:pt x="8186" y="10344"/>
                </a:cubicBezTo>
                <a:cubicBezTo>
                  <a:pt x="8260" y="10344"/>
                  <a:pt x="8269" y="10344"/>
                  <a:pt x="8310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63920" y="3544920"/>
            <a:ext cx="804960" cy="241200"/>
          </a:xfrm>
          <a:custGeom>
            <a:avLst/>
            <a:gdLst/>
            <a:ahLst/>
            <a:rect l="l" t="t" r="r" b="b"/>
            <a:pathLst>
              <a:path w="2234" h="671">
                <a:moveTo>
                  <a:pt x="9947" y="9947"/>
                </a:moveTo>
                <a:cubicBezTo>
                  <a:pt x="10096" y="9853"/>
                  <a:pt x="10162" y="9850"/>
                  <a:pt x="10319" y="9897"/>
                </a:cubicBezTo>
                <a:cubicBezTo>
                  <a:pt x="10277" y="10066"/>
                  <a:pt x="10167" y="10181"/>
                  <a:pt x="9971" y="10220"/>
                </a:cubicBezTo>
                <a:cubicBezTo>
                  <a:pt x="9971" y="10212"/>
                  <a:pt x="9971" y="10203"/>
                  <a:pt x="9971" y="10195"/>
                </a:cubicBezTo>
                <a:cubicBezTo>
                  <a:pt x="10168" y="10195"/>
                  <a:pt x="10185" y="10206"/>
                  <a:pt x="10220" y="10393"/>
                </a:cubicBezTo>
                <a:cubicBezTo>
                  <a:pt x="10126" y="10438"/>
                  <a:pt x="9703" y="10656"/>
                  <a:pt x="9624" y="10468"/>
                </a:cubicBezTo>
                <a:cubicBezTo>
                  <a:pt x="9641" y="10443"/>
                  <a:pt x="9657" y="10418"/>
                  <a:pt x="9674" y="10393"/>
                </a:cubicBezTo>
              </a:path>
              <a:path w="2234" h="671">
                <a:moveTo>
                  <a:pt x="10666" y="10046"/>
                </a:moveTo>
                <a:cubicBezTo>
                  <a:pt x="10505" y="10166"/>
                  <a:pt x="10434" y="10262"/>
                  <a:pt x="10344" y="10443"/>
                </a:cubicBezTo>
                <a:cubicBezTo>
                  <a:pt x="10477" y="10487"/>
                  <a:pt x="10777" y="10428"/>
                  <a:pt x="10765" y="10195"/>
                </a:cubicBezTo>
                <a:cubicBezTo>
                  <a:pt x="10760" y="10098"/>
                  <a:pt x="10601" y="10102"/>
                  <a:pt x="10542" y="10096"/>
                </a:cubicBezTo>
              </a:path>
              <a:path w="2234" h="671">
                <a:moveTo>
                  <a:pt x="11088" y="10096"/>
                </a:moveTo>
                <a:cubicBezTo>
                  <a:pt x="10916" y="10164"/>
                  <a:pt x="10874" y="10273"/>
                  <a:pt x="10864" y="10443"/>
                </a:cubicBezTo>
                <a:cubicBezTo>
                  <a:pt x="11160" y="10443"/>
                  <a:pt x="11279" y="10389"/>
                  <a:pt x="11361" y="10120"/>
                </a:cubicBezTo>
                <a:cubicBezTo>
                  <a:pt x="11202" y="10061"/>
                  <a:pt x="11177" y="10030"/>
                  <a:pt x="11013" y="10071"/>
                </a:cubicBezTo>
              </a:path>
              <a:path w="2234" h="671">
                <a:moveTo>
                  <a:pt x="11559" y="10021"/>
                </a:moveTo>
                <a:cubicBezTo>
                  <a:pt x="11401" y="10137"/>
                  <a:pt x="11411" y="10147"/>
                  <a:pt x="11385" y="10344"/>
                </a:cubicBezTo>
                <a:cubicBezTo>
                  <a:pt x="11516" y="10422"/>
                  <a:pt x="11825" y="10480"/>
                  <a:pt x="11857" y="10220"/>
                </a:cubicBezTo>
                <a:cubicBezTo>
                  <a:pt x="11890" y="9958"/>
                  <a:pt x="11630" y="10051"/>
                  <a:pt x="11509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33920" y="3375000"/>
            <a:ext cx="46080" cy="97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12874" y="9401"/>
                </a:moveTo>
                <a:cubicBezTo>
                  <a:pt x="12936" y="9380"/>
                  <a:pt x="13063" y="9376"/>
                  <a:pt x="12923" y="9376"/>
                </a:cubicBezTo>
                <a:cubicBezTo>
                  <a:pt x="12907" y="9376"/>
                  <a:pt x="12890" y="9376"/>
                  <a:pt x="12874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5040" y="3660840"/>
            <a:ext cx="196920" cy="135000"/>
          </a:xfrm>
          <a:custGeom>
            <a:avLst/>
            <a:gdLst/>
            <a:ahLst/>
            <a:rect l="l" t="t" r="r" b="b"/>
            <a:pathLst>
              <a:path w="546" h="373">
                <a:moveTo>
                  <a:pt x="14288" y="10294"/>
                </a:moveTo>
                <a:cubicBezTo>
                  <a:pt x="14288" y="10386"/>
                  <a:pt x="14289" y="10457"/>
                  <a:pt x="14263" y="10542"/>
                </a:cubicBezTo>
              </a:path>
              <a:path w="546" h="373">
                <a:moveTo>
                  <a:pt x="14015" y="10368"/>
                </a:moveTo>
                <a:cubicBezTo>
                  <a:pt x="14200" y="10368"/>
                  <a:pt x="14379" y="10373"/>
                  <a:pt x="14560" y="10344"/>
                </a:cubicBezTo>
              </a:path>
              <a:path w="546" h="373">
                <a:moveTo>
                  <a:pt x="14288" y="10468"/>
                </a:moveTo>
                <a:cubicBezTo>
                  <a:pt x="14300" y="10431"/>
                  <a:pt x="14312" y="10446"/>
                  <a:pt x="14312" y="10393"/>
                </a:cubicBezTo>
                <a:cubicBezTo>
                  <a:pt x="14312" y="10329"/>
                  <a:pt x="14349" y="10257"/>
                  <a:pt x="14362" y="10195"/>
                </a:cubicBezTo>
                <a:cubicBezTo>
                  <a:pt x="14371" y="10155"/>
                  <a:pt x="14362" y="10228"/>
                  <a:pt x="14362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3660840"/>
            <a:ext cx="31248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16197" y="10244"/>
                </a:moveTo>
                <a:cubicBezTo>
                  <a:pt x="16053" y="10244"/>
                  <a:pt x="16309" y="10170"/>
                  <a:pt x="16321" y="10170"/>
                </a:cubicBezTo>
                <a:cubicBezTo>
                  <a:pt x="16363" y="10178"/>
                  <a:pt x="16404" y="10187"/>
                  <a:pt x="16446" y="10195"/>
                </a:cubicBezTo>
                <a:cubicBezTo>
                  <a:pt x="16405" y="10551"/>
                  <a:pt x="16187" y="10753"/>
                  <a:pt x="15776" y="10716"/>
                </a:cubicBezTo>
                <a:cubicBezTo>
                  <a:pt x="15630" y="10653"/>
                  <a:pt x="15572" y="10658"/>
                  <a:pt x="15602" y="10542"/>
                </a:cubicBezTo>
                <a:cubicBezTo>
                  <a:pt x="15888" y="10440"/>
                  <a:pt x="16035" y="10414"/>
                  <a:pt x="16297" y="10592"/>
                </a:cubicBezTo>
                <a:cubicBezTo>
                  <a:pt x="16305" y="10600"/>
                  <a:pt x="16313" y="10608"/>
                  <a:pt x="16321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0040" y="3884760"/>
            <a:ext cx="1625760" cy="633240"/>
          </a:xfrm>
          <a:custGeom>
            <a:avLst/>
            <a:gdLst/>
            <a:ahLst/>
            <a:rect l="l" t="t" r="r" b="b"/>
            <a:pathLst>
              <a:path w="4515" h="1762">
                <a:moveTo>
                  <a:pt x="8880" y="11311"/>
                </a:moveTo>
                <a:cubicBezTo>
                  <a:pt x="8786" y="11216"/>
                  <a:pt x="8594" y="11279"/>
                  <a:pt x="8483" y="11361"/>
                </a:cubicBezTo>
                <a:cubicBezTo>
                  <a:pt x="8467" y="11386"/>
                  <a:pt x="8450" y="11410"/>
                  <a:pt x="8434" y="11435"/>
                </a:cubicBezTo>
                <a:cubicBezTo>
                  <a:pt x="8525" y="11596"/>
                  <a:pt x="8671" y="11681"/>
                  <a:pt x="8756" y="11832"/>
                </a:cubicBezTo>
                <a:cubicBezTo>
                  <a:pt x="8599" y="11933"/>
                  <a:pt x="8464" y="11956"/>
                  <a:pt x="8558" y="11708"/>
                </a:cubicBezTo>
                <a:cubicBezTo>
                  <a:pt x="8593" y="11615"/>
                  <a:pt x="8709" y="11501"/>
                  <a:pt x="8731" y="11435"/>
                </a:cubicBezTo>
              </a:path>
              <a:path w="4515" h="1762">
                <a:moveTo>
                  <a:pt x="9004" y="11361"/>
                </a:moveTo>
                <a:cubicBezTo>
                  <a:pt x="8812" y="11493"/>
                  <a:pt x="8789" y="11590"/>
                  <a:pt x="8830" y="11807"/>
                </a:cubicBezTo>
                <a:cubicBezTo>
                  <a:pt x="8952" y="11800"/>
                  <a:pt x="9274" y="11679"/>
                  <a:pt x="9153" y="11460"/>
                </a:cubicBezTo>
                <a:cubicBezTo>
                  <a:pt x="9039" y="11391"/>
                  <a:pt x="9008" y="11371"/>
                  <a:pt x="8930" y="11336"/>
                </a:cubicBezTo>
              </a:path>
              <a:path w="4515" h="1762">
                <a:moveTo>
                  <a:pt x="9203" y="11311"/>
                </a:moveTo>
                <a:cubicBezTo>
                  <a:pt x="9248" y="11303"/>
                  <a:pt x="9440" y="11229"/>
                  <a:pt x="9451" y="11311"/>
                </a:cubicBezTo>
                <a:cubicBezTo>
                  <a:pt x="9426" y="11411"/>
                  <a:pt x="9416" y="11445"/>
                  <a:pt x="9351" y="11485"/>
                </a:cubicBezTo>
                <a:cubicBezTo>
                  <a:pt x="9335" y="11501"/>
                  <a:pt x="9318" y="11518"/>
                  <a:pt x="9302" y="11534"/>
                </a:cubicBezTo>
                <a:cubicBezTo>
                  <a:pt x="9451" y="11534"/>
                  <a:pt x="9499" y="11557"/>
                  <a:pt x="9599" y="11658"/>
                </a:cubicBezTo>
                <a:cubicBezTo>
                  <a:pt x="9421" y="11837"/>
                  <a:pt x="9306" y="11811"/>
                  <a:pt x="9054" y="11782"/>
                </a:cubicBezTo>
              </a:path>
              <a:path w="4515" h="1762">
                <a:moveTo>
                  <a:pt x="9748" y="11708"/>
                </a:moveTo>
                <a:cubicBezTo>
                  <a:pt x="9748" y="11832"/>
                  <a:pt x="9700" y="12006"/>
                  <a:pt x="9798" y="12005"/>
                </a:cubicBezTo>
              </a:path>
              <a:path w="4515" h="1762">
                <a:moveTo>
                  <a:pt x="9996" y="11485"/>
                </a:moveTo>
                <a:cubicBezTo>
                  <a:pt x="9834" y="11655"/>
                  <a:pt x="9823" y="11673"/>
                  <a:pt x="9823" y="11906"/>
                </a:cubicBezTo>
                <a:cubicBezTo>
                  <a:pt x="10001" y="11935"/>
                  <a:pt x="10411" y="11917"/>
                  <a:pt x="10269" y="11584"/>
                </a:cubicBezTo>
                <a:cubicBezTo>
                  <a:pt x="10207" y="11438"/>
                  <a:pt x="10043" y="11481"/>
                  <a:pt x="9947" y="11509"/>
                </a:cubicBezTo>
              </a:path>
              <a:path w="4515" h="1762">
                <a:moveTo>
                  <a:pt x="10567" y="11460"/>
                </a:moveTo>
                <a:cubicBezTo>
                  <a:pt x="10335" y="11562"/>
                  <a:pt x="10339" y="11643"/>
                  <a:pt x="10393" y="11881"/>
                </a:cubicBezTo>
                <a:cubicBezTo>
                  <a:pt x="10505" y="11865"/>
                  <a:pt x="10943" y="11712"/>
                  <a:pt x="10716" y="11509"/>
                </a:cubicBezTo>
                <a:cubicBezTo>
                  <a:pt x="10598" y="11490"/>
                  <a:pt x="10577" y="11468"/>
                  <a:pt x="10517" y="11509"/>
                </a:cubicBezTo>
              </a:path>
              <a:path w="4515" h="1762">
                <a:moveTo>
                  <a:pt x="10889" y="11336"/>
                </a:moveTo>
                <a:cubicBezTo>
                  <a:pt x="11015" y="11287"/>
                  <a:pt x="11079" y="11268"/>
                  <a:pt x="11212" y="11286"/>
                </a:cubicBezTo>
                <a:cubicBezTo>
                  <a:pt x="11168" y="11503"/>
                  <a:pt x="11050" y="11573"/>
                  <a:pt x="10914" y="11733"/>
                </a:cubicBezTo>
                <a:cubicBezTo>
                  <a:pt x="10914" y="11741"/>
                  <a:pt x="10914" y="11749"/>
                  <a:pt x="10914" y="11757"/>
                </a:cubicBezTo>
                <a:cubicBezTo>
                  <a:pt x="11061" y="11750"/>
                  <a:pt x="11218" y="11744"/>
                  <a:pt x="11361" y="11708"/>
                </a:cubicBezTo>
                <a:cubicBezTo>
                  <a:pt x="11353" y="11708"/>
                  <a:pt x="11344" y="11708"/>
                  <a:pt x="11336" y="11708"/>
                </a:cubicBezTo>
              </a:path>
              <a:path w="4515" h="1762">
                <a:moveTo>
                  <a:pt x="9748" y="11832"/>
                </a:moveTo>
                <a:cubicBezTo>
                  <a:pt x="9680" y="11855"/>
                  <a:pt x="9762" y="11945"/>
                  <a:pt x="9723" y="12005"/>
                </a:cubicBezTo>
                <a:cubicBezTo>
                  <a:pt x="9611" y="12117"/>
                  <a:pt x="9587" y="12158"/>
                  <a:pt x="9475" y="12129"/>
                </a:cubicBezTo>
              </a:path>
              <a:path w="4515" h="1762">
                <a:moveTo>
                  <a:pt x="10294" y="11038"/>
                </a:moveTo>
                <a:cubicBezTo>
                  <a:pt x="10123" y="10977"/>
                  <a:pt x="9954" y="10921"/>
                  <a:pt x="9773" y="10889"/>
                </a:cubicBezTo>
                <a:cubicBezTo>
                  <a:pt x="9507" y="10842"/>
                  <a:pt x="9253" y="10775"/>
                  <a:pt x="8979" y="10790"/>
                </a:cubicBezTo>
                <a:cubicBezTo>
                  <a:pt x="8721" y="10804"/>
                  <a:pt x="8317" y="10814"/>
                  <a:pt x="8086" y="10939"/>
                </a:cubicBezTo>
                <a:cubicBezTo>
                  <a:pt x="7889" y="11045"/>
                  <a:pt x="7860" y="11281"/>
                  <a:pt x="7888" y="11485"/>
                </a:cubicBezTo>
                <a:cubicBezTo>
                  <a:pt x="7927" y="11763"/>
                  <a:pt x="8101" y="11871"/>
                  <a:pt x="8334" y="11981"/>
                </a:cubicBezTo>
                <a:cubicBezTo>
                  <a:pt x="8612" y="12112"/>
                  <a:pt x="8927" y="12188"/>
                  <a:pt x="9227" y="12254"/>
                </a:cubicBezTo>
                <a:cubicBezTo>
                  <a:pt x="9722" y="12363"/>
                  <a:pt x="10259" y="12500"/>
                  <a:pt x="10765" y="12526"/>
                </a:cubicBezTo>
                <a:cubicBezTo>
                  <a:pt x="11067" y="12542"/>
                  <a:pt x="11380" y="12569"/>
                  <a:pt x="11683" y="12551"/>
                </a:cubicBezTo>
                <a:cubicBezTo>
                  <a:pt x="11916" y="12537"/>
                  <a:pt x="12096" y="12541"/>
                  <a:pt x="12254" y="12378"/>
                </a:cubicBezTo>
                <a:cubicBezTo>
                  <a:pt x="12359" y="12269"/>
                  <a:pt x="12424" y="12082"/>
                  <a:pt x="12402" y="11931"/>
                </a:cubicBezTo>
                <a:cubicBezTo>
                  <a:pt x="12349" y="11577"/>
                  <a:pt x="12190" y="11179"/>
                  <a:pt x="11857" y="11013"/>
                </a:cubicBezTo>
                <a:cubicBezTo>
                  <a:pt x="11413" y="10791"/>
                  <a:pt x="10726" y="10780"/>
                  <a:pt x="10244" y="10815"/>
                </a:cubicBezTo>
                <a:cubicBezTo>
                  <a:pt x="9770" y="10886"/>
                  <a:pt x="9626" y="10901"/>
                  <a:pt x="9351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70800" y="3348000"/>
            <a:ext cx="8100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8529" y="9327"/>
                </a:moveTo>
                <a:cubicBezTo>
                  <a:pt x="18610" y="9307"/>
                  <a:pt x="18667" y="9302"/>
                  <a:pt x="18752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62120" y="5411880"/>
            <a:ext cx="196920" cy="196920"/>
          </a:xfrm>
          <a:custGeom>
            <a:avLst/>
            <a:gdLst/>
            <a:ahLst/>
            <a:rect l="l" t="t" r="r" b="b"/>
            <a:pathLst>
              <a:path w="547" h="546">
                <a:moveTo>
                  <a:pt x="7144" y="15032"/>
                </a:moveTo>
                <a:cubicBezTo>
                  <a:pt x="7132" y="15138"/>
                  <a:pt x="7116" y="15355"/>
                  <a:pt x="7317" y="15280"/>
                </a:cubicBezTo>
                <a:cubicBezTo>
                  <a:pt x="7350" y="15255"/>
                  <a:pt x="7384" y="15230"/>
                  <a:pt x="7417" y="15205"/>
                </a:cubicBezTo>
              </a:path>
              <a:path w="547" h="546">
                <a:moveTo>
                  <a:pt x="7665" y="15577"/>
                </a:moveTo>
                <a:lnTo>
                  <a:pt x="7665" y="1557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5392800"/>
            <a:ext cx="928800" cy="268200"/>
          </a:xfrm>
          <a:custGeom>
            <a:avLst/>
            <a:gdLst/>
            <a:ahLst/>
            <a:rect l="l" t="t" r="r" b="b"/>
            <a:pathLst>
              <a:path w="2580" h="745">
                <a:moveTo>
                  <a:pt x="4093" y="14982"/>
                </a:moveTo>
                <a:cubicBezTo>
                  <a:pt x="4115" y="15132"/>
                  <a:pt x="4118" y="15276"/>
                  <a:pt x="4118" y="15429"/>
                </a:cubicBezTo>
                <a:cubicBezTo>
                  <a:pt x="4118" y="15462"/>
                  <a:pt x="4118" y="15495"/>
                  <a:pt x="4118" y="15528"/>
                </a:cubicBezTo>
              </a:path>
              <a:path w="2580" h="745">
                <a:moveTo>
                  <a:pt x="4564" y="15106"/>
                </a:moveTo>
                <a:cubicBezTo>
                  <a:pt x="4433" y="15106"/>
                  <a:pt x="4331" y="15250"/>
                  <a:pt x="4291" y="15379"/>
                </a:cubicBezTo>
                <a:cubicBezTo>
                  <a:pt x="4291" y="15420"/>
                  <a:pt x="4291" y="15462"/>
                  <a:pt x="4291" y="15503"/>
                </a:cubicBezTo>
                <a:cubicBezTo>
                  <a:pt x="4492" y="15575"/>
                  <a:pt x="4650" y="15498"/>
                  <a:pt x="4688" y="15255"/>
                </a:cubicBezTo>
                <a:cubicBezTo>
                  <a:pt x="4705" y="15148"/>
                  <a:pt x="4655" y="15141"/>
                  <a:pt x="4589" y="15131"/>
                </a:cubicBezTo>
              </a:path>
              <a:path w="2580" h="745">
                <a:moveTo>
                  <a:pt x="4887" y="15478"/>
                </a:moveTo>
                <a:cubicBezTo>
                  <a:pt x="4887" y="15548"/>
                  <a:pt x="4846" y="15742"/>
                  <a:pt x="4887" y="15701"/>
                </a:cubicBezTo>
              </a:path>
              <a:path w="2580" h="745">
                <a:moveTo>
                  <a:pt x="5035" y="15056"/>
                </a:moveTo>
                <a:cubicBezTo>
                  <a:pt x="4917" y="15192"/>
                  <a:pt x="4904" y="15243"/>
                  <a:pt x="4887" y="15429"/>
                </a:cubicBezTo>
                <a:cubicBezTo>
                  <a:pt x="5057" y="15519"/>
                  <a:pt x="5308" y="15465"/>
                  <a:pt x="5259" y="15180"/>
                </a:cubicBezTo>
                <a:cubicBezTo>
                  <a:pt x="5240" y="15070"/>
                  <a:pt x="5100" y="15106"/>
                  <a:pt x="5035" y="15106"/>
                </a:cubicBezTo>
              </a:path>
              <a:path w="2580" h="745">
                <a:moveTo>
                  <a:pt x="5457" y="15032"/>
                </a:moveTo>
                <a:cubicBezTo>
                  <a:pt x="5297" y="15085"/>
                  <a:pt x="5241" y="15213"/>
                  <a:pt x="5234" y="15379"/>
                </a:cubicBezTo>
                <a:cubicBezTo>
                  <a:pt x="5242" y="15412"/>
                  <a:pt x="5251" y="15445"/>
                  <a:pt x="5259" y="15478"/>
                </a:cubicBezTo>
                <a:cubicBezTo>
                  <a:pt x="5470" y="15478"/>
                  <a:pt x="5774" y="15408"/>
                  <a:pt x="5730" y="15106"/>
                </a:cubicBezTo>
                <a:cubicBezTo>
                  <a:pt x="5707" y="14950"/>
                  <a:pt x="5519" y="15055"/>
                  <a:pt x="5457" y="15081"/>
                </a:cubicBezTo>
              </a:path>
              <a:path w="2580" h="745">
                <a:moveTo>
                  <a:pt x="5953" y="15007"/>
                </a:moveTo>
                <a:cubicBezTo>
                  <a:pt x="5808" y="15036"/>
                  <a:pt x="5637" y="15157"/>
                  <a:pt x="5631" y="15329"/>
                </a:cubicBezTo>
                <a:cubicBezTo>
                  <a:pt x="5647" y="15346"/>
                  <a:pt x="5664" y="15362"/>
                  <a:pt x="5680" y="15379"/>
                </a:cubicBezTo>
                <a:cubicBezTo>
                  <a:pt x="5828" y="15379"/>
                  <a:pt x="6136" y="15333"/>
                  <a:pt x="6052" y="15081"/>
                </a:cubicBezTo>
                <a:cubicBezTo>
                  <a:pt x="5979" y="15008"/>
                  <a:pt x="5957" y="14984"/>
                  <a:pt x="5879" y="15007"/>
                </a:cubicBezTo>
              </a:path>
              <a:path w="2580" h="745">
                <a:moveTo>
                  <a:pt x="6400" y="15056"/>
                </a:moveTo>
                <a:cubicBezTo>
                  <a:pt x="6428" y="15187"/>
                  <a:pt x="6461" y="15320"/>
                  <a:pt x="6474" y="15453"/>
                </a:cubicBezTo>
              </a:path>
              <a:path w="2580" h="745">
                <a:moveTo>
                  <a:pt x="6176" y="15230"/>
                </a:moveTo>
                <a:cubicBezTo>
                  <a:pt x="6341" y="15230"/>
                  <a:pt x="6507" y="15230"/>
                  <a:pt x="667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43120" y="5286240"/>
            <a:ext cx="1812960" cy="339840"/>
          </a:xfrm>
          <a:custGeom>
            <a:avLst/>
            <a:gdLst/>
            <a:ahLst/>
            <a:rect l="l" t="t" r="r" b="b"/>
            <a:pathLst>
              <a:path w="5037" h="944">
                <a:moveTo>
                  <a:pt x="7342" y="14858"/>
                </a:moveTo>
                <a:cubicBezTo>
                  <a:pt x="7391" y="15100"/>
                  <a:pt x="7433" y="15330"/>
                  <a:pt x="7441" y="15577"/>
                </a:cubicBezTo>
                <a:cubicBezTo>
                  <a:pt x="7441" y="15620"/>
                  <a:pt x="7447" y="15611"/>
                  <a:pt x="7466" y="15528"/>
                </a:cubicBezTo>
              </a:path>
              <a:path w="5037" h="944">
                <a:moveTo>
                  <a:pt x="7615" y="15478"/>
                </a:moveTo>
                <a:cubicBezTo>
                  <a:pt x="7615" y="15596"/>
                  <a:pt x="7575" y="15637"/>
                  <a:pt x="7665" y="15577"/>
                </a:cubicBezTo>
              </a:path>
              <a:path w="5037" h="944">
                <a:moveTo>
                  <a:pt x="7863" y="15056"/>
                </a:moveTo>
                <a:cubicBezTo>
                  <a:pt x="7752" y="15247"/>
                  <a:pt x="7706" y="15251"/>
                  <a:pt x="7789" y="15429"/>
                </a:cubicBezTo>
                <a:cubicBezTo>
                  <a:pt x="7882" y="15417"/>
                  <a:pt x="8364" y="15190"/>
                  <a:pt x="8037" y="15081"/>
                </a:cubicBezTo>
                <a:cubicBezTo>
                  <a:pt x="7895" y="15101"/>
                  <a:pt x="7868" y="15099"/>
                  <a:pt x="7789" y="15131"/>
                </a:cubicBezTo>
              </a:path>
              <a:path w="5037" h="944">
                <a:moveTo>
                  <a:pt x="8384" y="15007"/>
                </a:moveTo>
                <a:cubicBezTo>
                  <a:pt x="8260" y="15146"/>
                  <a:pt x="8220" y="15202"/>
                  <a:pt x="8186" y="15379"/>
                </a:cubicBezTo>
                <a:cubicBezTo>
                  <a:pt x="8358" y="15425"/>
                  <a:pt x="8678" y="15420"/>
                  <a:pt x="8657" y="15131"/>
                </a:cubicBezTo>
                <a:cubicBezTo>
                  <a:pt x="8644" y="14954"/>
                  <a:pt x="8407" y="15022"/>
                  <a:pt x="8310" y="15032"/>
                </a:cubicBezTo>
              </a:path>
              <a:path w="5037" h="944">
                <a:moveTo>
                  <a:pt x="8781" y="14932"/>
                </a:moveTo>
                <a:cubicBezTo>
                  <a:pt x="8614" y="15071"/>
                  <a:pt x="8610" y="15087"/>
                  <a:pt x="8582" y="15304"/>
                </a:cubicBezTo>
                <a:cubicBezTo>
                  <a:pt x="8742" y="15385"/>
                  <a:pt x="9117" y="15435"/>
                  <a:pt x="9054" y="15081"/>
                </a:cubicBezTo>
                <a:cubicBezTo>
                  <a:pt x="9022" y="14900"/>
                  <a:pt x="8856" y="14952"/>
                  <a:pt x="8756" y="14982"/>
                </a:cubicBezTo>
              </a:path>
              <a:path w="5037" h="944">
                <a:moveTo>
                  <a:pt x="9426" y="15007"/>
                </a:moveTo>
                <a:cubicBezTo>
                  <a:pt x="9436" y="15141"/>
                  <a:pt x="9596" y="15344"/>
                  <a:pt x="9475" y="15404"/>
                </a:cubicBezTo>
                <a:cubicBezTo>
                  <a:pt x="9467" y="15387"/>
                  <a:pt x="9459" y="15371"/>
                  <a:pt x="9451" y="15354"/>
                </a:cubicBezTo>
              </a:path>
              <a:path w="5037" h="944">
                <a:moveTo>
                  <a:pt x="9252" y="15156"/>
                </a:moveTo>
                <a:cubicBezTo>
                  <a:pt x="9413" y="15156"/>
                  <a:pt x="9563" y="15148"/>
                  <a:pt x="9723" y="15131"/>
                </a:cubicBezTo>
              </a:path>
              <a:path w="5037" h="944">
                <a:moveTo>
                  <a:pt x="10195" y="14982"/>
                </a:moveTo>
                <a:cubicBezTo>
                  <a:pt x="10133" y="15013"/>
                  <a:pt x="10131" y="15050"/>
                  <a:pt x="10220" y="15007"/>
                </a:cubicBezTo>
                <a:cubicBezTo>
                  <a:pt x="10253" y="14990"/>
                  <a:pt x="10286" y="14974"/>
                  <a:pt x="10319" y="14957"/>
                </a:cubicBezTo>
                <a:cubicBezTo>
                  <a:pt x="10487" y="15160"/>
                  <a:pt x="10386" y="15342"/>
                  <a:pt x="10120" y="15429"/>
                </a:cubicBezTo>
                <a:cubicBezTo>
                  <a:pt x="9991" y="15429"/>
                  <a:pt x="9958" y="15440"/>
                  <a:pt x="9897" y="15379"/>
                </a:cubicBezTo>
                <a:cubicBezTo>
                  <a:pt x="9989" y="15181"/>
                  <a:pt x="10099" y="15289"/>
                  <a:pt x="10294" y="15354"/>
                </a:cubicBezTo>
                <a:cubicBezTo>
                  <a:pt x="10478" y="15416"/>
                  <a:pt x="10501" y="15321"/>
                  <a:pt x="10641" y="15205"/>
                </a:cubicBezTo>
              </a:path>
              <a:path w="5037" h="944">
                <a:moveTo>
                  <a:pt x="10616" y="14957"/>
                </a:moveTo>
                <a:cubicBezTo>
                  <a:pt x="10499" y="15116"/>
                  <a:pt x="10484" y="15155"/>
                  <a:pt x="10492" y="15354"/>
                </a:cubicBezTo>
                <a:cubicBezTo>
                  <a:pt x="10641" y="15387"/>
                  <a:pt x="10970" y="15351"/>
                  <a:pt x="10864" y="15081"/>
                </a:cubicBezTo>
                <a:cubicBezTo>
                  <a:pt x="10771" y="15011"/>
                  <a:pt x="10745" y="14988"/>
                  <a:pt x="10666" y="14982"/>
                </a:cubicBezTo>
              </a:path>
              <a:path w="5037" h="944">
                <a:moveTo>
                  <a:pt x="11410" y="14883"/>
                </a:moveTo>
                <a:cubicBezTo>
                  <a:pt x="11418" y="14920"/>
                  <a:pt x="11488" y="15277"/>
                  <a:pt x="11485" y="15280"/>
                </a:cubicBezTo>
                <a:cubicBezTo>
                  <a:pt x="11477" y="15263"/>
                  <a:pt x="11468" y="15247"/>
                  <a:pt x="11460" y="15230"/>
                </a:cubicBezTo>
              </a:path>
              <a:path w="5037" h="944">
                <a:moveTo>
                  <a:pt x="11212" y="15081"/>
                </a:moveTo>
                <a:cubicBezTo>
                  <a:pt x="11397" y="15067"/>
                  <a:pt x="11573" y="15038"/>
                  <a:pt x="11757" y="15007"/>
                </a:cubicBezTo>
              </a:path>
              <a:path w="5037" h="944">
                <a:moveTo>
                  <a:pt x="12254" y="14684"/>
                </a:moveTo>
                <a:cubicBezTo>
                  <a:pt x="12012" y="14716"/>
                  <a:pt x="11947" y="14734"/>
                  <a:pt x="11782" y="14908"/>
                </a:cubicBezTo>
                <a:cubicBezTo>
                  <a:pt x="11974" y="15058"/>
                  <a:pt x="12209" y="15100"/>
                  <a:pt x="12378" y="15280"/>
                </a:cubicBezTo>
                <a:cubicBezTo>
                  <a:pt x="12125" y="15399"/>
                  <a:pt x="11944" y="15352"/>
                  <a:pt x="12129" y="15032"/>
                </a:cubicBezTo>
                <a:cubicBezTo>
                  <a:pt x="12167" y="14966"/>
                  <a:pt x="12299" y="14882"/>
                  <a:pt x="12254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57680" y="5759280"/>
            <a:ext cx="590400" cy="28584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9302" y="15999"/>
                </a:moveTo>
                <a:cubicBezTo>
                  <a:pt x="9429" y="16053"/>
                  <a:pt x="9543" y="16203"/>
                  <a:pt x="9575" y="16346"/>
                </a:cubicBezTo>
                <a:cubicBezTo>
                  <a:pt x="9610" y="16502"/>
                  <a:pt x="9549" y="16655"/>
                  <a:pt x="9451" y="16768"/>
                </a:cubicBezTo>
                <a:cubicBezTo>
                  <a:pt x="9443" y="16776"/>
                  <a:pt x="9434" y="16785"/>
                  <a:pt x="9426" y="16793"/>
                </a:cubicBezTo>
              </a:path>
              <a:path w="1638" h="795">
                <a:moveTo>
                  <a:pt x="8210" y="16297"/>
                </a:moveTo>
                <a:cubicBezTo>
                  <a:pt x="8151" y="16411"/>
                  <a:pt x="8058" y="16708"/>
                  <a:pt x="7938" y="16768"/>
                </a:cubicBezTo>
                <a:cubicBezTo>
                  <a:pt x="7938" y="16760"/>
                  <a:pt x="7938" y="16751"/>
                  <a:pt x="7938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76200" y="5769000"/>
            <a:ext cx="125640" cy="339840"/>
          </a:xfrm>
          <a:custGeom>
            <a:avLst/>
            <a:gdLst/>
            <a:ahLst/>
            <a:rect l="l" t="t" r="r" b="b"/>
            <a:pathLst>
              <a:path w="348" h="943">
                <a:moveTo>
                  <a:pt x="3696" y="16024"/>
                </a:moveTo>
                <a:cubicBezTo>
                  <a:pt x="3671" y="16149"/>
                  <a:pt x="3598" y="16266"/>
                  <a:pt x="3572" y="16396"/>
                </a:cubicBezTo>
                <a:cubicBezTo>
                  <a:pt x="3541" y="16555"/>
                  <a:pt x="3505" y="16801"/>
                  <a:pt x="3621" y="16942"/>
                </a:cubicBezTo>
                <a:cubicBezTo>
                  <a:pt x="3646" y="16942"/>
                  <a:pt x="3654" y="16942"/>
                  <a:pt x="3646" y="16966"/>
                </a:cubicBezTo>
              </a:path>
              <a:path w="348" h="943">
                <a:moveTo>
                  <a:pt x="3894" y="16247"/>
                </a:moveTo>
                <a:cubicBezTo>
                  <a:pt x="3894" y="16139"/>
                  <a:pt x="3876" y="16412"/>
                  <a:pt x="3870" y="16520"/>
                </a:cubicBezTo>
                <a:cubicBezTo>
                  <a:pt x="3865" y="16610"/>
                  <a:pt x="3855" y="16681"/>
                  <a:pt x="3845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81120" y="5840280"/>
            <a:ext cx="81000" cy="133560"/>
          </a:xfrm>
          <a:custGeom>
            <a:avLst/>
            <a:gdLst/>
            <a:ahLst/>
            <a:rect l="l" t="t" r="r" b="b"/>
            <a:pathLst>
              <a:path w="225" h="373">
                <a:moveTo>
                  <a:pt x="4415" y="16297"/>
                </a:moveTo>
                <a:cubicBezTo>
                  <a:pt x="4439" y="16380"/>
                  <a:pt x="4516" y="16467"/>
                  <a:pt x="4539" y="16545"/>
                </a:cubicBezTo>
                <a:cubicBezTo>
                  <a:pt x="4539" y="16561"/>
                  <a:pt x="4539" y="16578"/>
                  <a:pt x="4539" y="16594"/>
                </a:cubicBezTo>
              </a:path>
              <a:path w="225" h="373">
                <a:moveTo>
                  <a:pt x="4614" y="16222"/>
                </a:moveTo>
                <a:cubicBezTo>
                  <a:pt x="4532" y="16337"/>
                  <a:pt x="4454" y="16443"/>
                  <a:pt x="4390" y="165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85960" y="5749920"/>
            <a:ext cx="258840" cy="287280"/>
          </a:xfrm>
          <a:custGeom>
            <a:avLst/>
            <a:gdLst/>
            <a:ahLst/>
            <a:rect l="l" t="t" r="r" b="b"/>
            <a:pathLst>
              <a:path w="720" h="795">
                <a:moveTo>
                  <a:pt x="5035" y="16247"/>
                </a:moveTo>
                <a:cubicBezTo>
                  <a:pt x="5035" y="16380"/>
                  <a:pt x="5016" y="16515"/>
                  <a:pt x="4986" y="16644"/>
                </a:cubicBezTo>
                <a:cubicBezTo>
                  <a:pt x="4967" y="16701"/>
                  <a:pt x="4958" y="16708"/>
                  <a:pt x="4961" y="16743"/>
                </a:cubicBezTo>
              </a:path>
              <a:path w="720" h="795">
                <a:moveTo>
                  <a:pt x="5283" y="16272"/>
                </a:moveTo>
                <a:cubicBezTo>
                  <a:pt x="5268" y="16362"/>
                  <a:pt x="5203" y="16482"/>
                  <a:pt x="5184" y="16594"/>
                </a:cubicBezTo>
                <a:cubicBezTo>
                  <a:pt x="5158" y="16749"/>
                  <a:pt x="5269" y="16808"/>
                  <a:pt x="5407" y="16743"/>
                </a:cubicBezTo>
                <a:cubicBezTo>
                  <a:pt x="5528" y="16686"/>
                  <a:pt x="5652" y="16529"/>
                  <a:pt x="5556" y="16396"/>
                </a:cubicBezTo>
                <a:cubicBezTo>
                  <a:pt x="5522" y="16349"/>
                  <a:pt x="5409" y="16327"/>
                  <a:pt x="5358" y="16321"/>
                </a:cubicBezTo>
              </a:path>
              <a:path w="720" h="795">
                <a:moveTo>
                  <a:pt x="5482" y="15974"/>
                </a:moveTo>
                <a:cubicBezTo>
                  <a:pt x="5482" y="16037"/>
                  <a:pt x="5491" y="16078"/>
                  <a:pt x="5482" y="16123"/>
                </a:cubicBezTo>
                <a:cubicBezTo>
                  <a:pt x="5482" y="16131"/>
                  <a:pt x="5482" y="16140"/>
                  <a:pt x="5482" y="16148"/>
                </a:cubicBezTo>
                <a:cubicBezTo>
                  <a:pt x="5535" y="16137"/>
                  <a:pt x="5574" y="16123"/>
                  <a:pt x="5631" y="16123"/>
                </a:cubicBezTo>
                <a:cubicBezTo>
                  <a:pt x="5639" y="16123"/>
                  <a:pt x="5647" y="16123"/>
                  <a:pt x="5655" y="16123"/>
                </a:cubicBezTo>
              </a:path>
              <a:path w="720" h="795">
                <a:moveTo>
                  <a:pt x="5680" y="15974"/>
                </a:moveTo>
                <a:cubicBezTo>
                  <a:pt x="5636" y="16004"/>
                  <a:pt x="5655" y="16105"/>
                  <a:pt x="5655" y="16173"/>
                </a:cubicBezTo>
                <a:cubicBezTo>
                  <a:pt x="5655" y="16224"/>
                  <a:pt x="5656" y="16243"/>
                  <a:pt x="5680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2800" y="5749920"/>
            <a:ext cx="312480" cy="268200"/>
          </a:xfrm>
          <a:custGeom>
            <a:avLst/>
            <a:gdLst/>
            <a:ahLst/>
            <a:rect l="l" t="t" r="r" b="b"/>
            <a:pathLst>
              <a:path w="869" h="745">
                <a:moveTo>
                  <a:pt x="5978" y="15974"/>
                </a:moveTo>
                <a:cubicBezTo>
                  <a:pt x="6022" y="15989"/>
                  <a:pt x="6122" y="16053"/>
                  <a:pt x="6176" y="16098"/>
                </a:cubicBezTo>
                <a:cubicBezTo>
                  <a:pt x="6341" y="16237"/>
                  <a:pt x="6370" y="16401"/>
                  <a:pt x="6300" y="16594"/>
                </a:cubicBezTo>
                <a:cubicBezTo>
                  <a:pt x="6262" y="16671"/>
                  <a:pt x="6264" y="16687"/>
                  <a:pt x="6226" y="16718"/>
                </a:cubicBezTo>
              </a:path>
              <a:path w="869" h="745">
                <a:moveTo>
                  <a:pt x="6672" y="16272"/>
                </a:moveTo>
                <a:cubicBezTo>
                  <a:pt x="6661" y="16373"/>
                  <a:pt x="6648" y="16466"/>
                  <a:pt x="6648" y="16570"/>
                </a:cubicBezTo>
                <a:cubicBezTo>
                  <a:pt x="6648" y="16578"/>
                  <a:pt x="6648" y="16586"/>
                  <a:pt x="6648" y="16594"/>
                </a:cubicBezTo>
              </a:path>
              <a:path w="869" h="745">
                <a:moveTo>
                  <a:pt x="6499" y="16495"/>
                </a:moveTo>
                <a:cubicBezTo>
                  <a:pt x="6599" y="16488"/>
                  <a:pt x="6695" y="16470"/>
                  <a:pt x="6796" y="16470"/>
                </a:cubicBezTo>
                <a:cubicBezTo>
                  <a:pt x="6821" y="16470"/>
                  <a:pt x="6829" y="16470"/>
                  <a:pt x="6846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81200" y="5759280"/>
            <a:ext cx="160560" cy="349560"/>
          </a:xfrm>
          <a:custGeom>
            <a:avLst/>
            <a:gdLst/>
            <a:ahLst/>
            <a:rect l="l" t="t" r="r" b="b"/>
            <a:pathLst>
              <a:path w="447" h="968">
                <a:moveTo>
                  <a:pt x="7342" y="15999"/>
                </a:moveTo>
                <a:cubicBezTo>
                  <a:pt x="7342" y="16173"/>
                  <a:pt x="7231" y="16305"/>
                  <a:pt x="7193" y="16470"/>
                </a:cubicBezTo>
                <a:cubicBezTo>
                  <a:pt x="7162" y="16603"/>
                  <a:pt x="7119" y="16856"/>
                  <a:pt x="7243" y="16966"/>
                </a:cubicBezTo>
                <a:cubicBezTo>
                  <a:pt x="7268" y="16966"/>
                  <a:pt x="7276" y="16966"/>
                  <a:pt x="7293" y="16966"/>
                </a:cubicBezTo>
              </a:path>
              <a:path w="447" h="968">
                <a:moveTo>
                  <a:pt x="7516" y="16247"/>
                </a:moveTo>
                <a:cubicBezTo>
                  <a:pt x="7479" y="16358"/>
                  <a:pt x="7415" y="16452"/>
                  <a:pt x="7342" y="16545"/>
                </a:cubicBezTo>
                <a:cubicBezTo>
                  <a:pt x="7407" y="16534"/>
                  <a:pt x="7498" y="16492"/>
                  <a:pt x="7565" y="16520"/>
                </a:cubicBezTo>
                <a:cubicBezTo>
                  <a:pt x="7588" y="16543"/>
                  <a:pt x="7592" y="16551"/>
                  <a:pt x="7615" y="16545"/>
                </a:cubicBezTo>
              </a:path>
              <a:path w="447" h="968">
                <a:moveTo>
                  <a:pt x="7615" y="16197"/>
                </a:moveTo>
                <a:cubicBezTo>
                  <a:pt x="7615" y="16365"/>
                  <a:pt x="7600" y="16527"/>
                  <a:pt x="7590" y="16694"/>
                </a:cubicBezTo>
                <a:cubicBezTo>
                  <a:pt x="7587" y="16747"/>
                  <a:pt x="7546" y="16879"/>
                  <a:pt x="7590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67040" y="5776920"/>
            <a:ext cx="392040" cy="268200"/>
          </a:xfrm>
          <a:custGeom>
            <a:avLst/>
            <a:gdLst/>
            <a:ahLst/>
            <a:rect l="l" t="t" r="r" b="b"/>
            <a:pathLst>
              <a:path w="1093" h="745">
                <a:moveTo>
                  <a:pt x="7962" y="16297"/>
                </a:moveTo>
                <a:cubicBezTo>
                  <a:pt x="7993" y="16410"/>
                  <a:pt x="8071" y="16593"/>
                  <a:pt x="8136" y="16694"/>
                </a:cubicBezTo>
                <a:cubicBezTo>
                  <a:pt x="8144" y="16694"/>
                  <a:pt x="8153" y="16694"/>
                  <a:pt x="8161" y="16694"/>
                </a:cubicBezTo>
              </a:path>
              <a:path w="1093" h="745">
                <a:moveTo>
                  <a:pt x="8458" y="16247"/>
                </a:moveTo>
                <a:cubicBezTo>
                  <a:pt x="8458" y="16396"/>
                  <a:pt x="8420" y="16525"/>
                  <a:pt x="8384" y="16669"/>
                </a:cubicBezTo>
                <a:cubicBezTo>
                  <a:pt x="8365" y="16743"/>
                  <a:pt x="8357" y="16750"/>
                  <a:pt x="8359" y="16793"/>
                </a:cubicBezTo>
              </a:path>
              <a:path w="1093" h="745">
                <a:moveTo>
                  <a:pt x="8756" y="16247"/>
                </a:moveTo>
                <a:cubicBezTo>
                  <a:pt x="8673" y="16393"/>
                  <a:pt x="8588" y="16529"/>
                  <a:pt x="8558" y="16694"/>
                </a:cubicBezTo>
                <a:cubicBezTo>
                  <a:pt x="8665" y="16724"/>
                  <a:pt x="8882" y="16726"/>
                  <a:pt x="8905" y="16545"/>
                </a:cubicBezTo>
                <a:cubicBezTo>
                  <a:pt x="8918" y="16442"/>
                  <a:pt x="8853" y="16356"/>
                  <a:pt x="8756" y="16346"/>
                </a:cubicBezTo>
                <a:cubicBezTo>
                  <a:pt x="8748" y="16346"/>
                  <a:pt x="8739" y="16346"/>
                  <a:pt x="8731" y="16346"/>
                </a:cubicBezTo>
              </a:path>
              <a:path w="1093" h="745">
                <a:moveTo>
                  <a:pt x="8855" y="16073"/>
                </a:moveTo>
                <a:cubicBezTo>
                  <a:pt x="8876" y="16137"/>
                  <a:pt x="8950" y="16064"/>
                  <a:pt x="9004" y="16049"/>
                </a:cubicBezTo>
                <a:cubicBezTo>
                  <a:pt x="9012" y="16049"/>
                  <a:pt x="9021" y="16049"/>
                  <a:pt x="9029" y="16049"/>
                </a:cubicBezTo>
                <a:cubicBezTo>
                  <a:pt x="9029" y="16151"/>
                  <a:pt x="9027" y="16175"/>
                  <a:pt x="8954" y="16247"/>
                </a:cubicBezTo>
                <a:cubicBezTo>
                  <a:pt x="9003" y="16247"/>
                  <a:pt x="9042" y="16242"/>
                  <a:pt x="9054" y="16297"/>
                </a:cubicBezTo>
                <a:cubicBezTo>
                  <a:pt x="9077" y="16405"/>
                  <a:pt x="8947" y="16396"/>
                  <a:pt x="8880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27280" y="5840280"/>
            <a:ext cx="9864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9897" y="16222"/>
                </a:moveTo>
                <a:cubicBezTo>
                  <a:pt x="9917" y="16301"/>
                  <a:pt x="9922" y="16377"/>
                  <a:pt x="9922" y="16470"/>
                </a:cubicBezTo>
                <a:cubicBezTo>
                  <a:pt x="9922" y="16512"/>
                  <a:pt x="9922" y="16520"/>
                  <a:pt x="9922" y="16545"/>
                </a:cubicBezTo>
              </a:path>
              <a:path w="274" h="324">
                <a:moveTo>
                  <a:pt x="9798" y="16446"/>
                </a:moveTo>
                <a:cubicBezTo>
                  <a:pt x="9886" y="16446"/>
                  <a:pt x="9960" y="16428"/>
                  <a:pt x="10046" y="16421"/>
                </a:cubicBezTo>
                <a:cubicBezTo>
                  <a:pt x="10054" y="16421"/>
                  <a:pt x="10063" y="16421"/>
                  <a:pt x="10071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68840" y="5670720"/>
            <a:ext cx="822240" cy="428400"/>
          </a:xfrm>
          <a:custGeom>
            <a:avLst/>
            <a:gdLst/>
            <a:ahLst/>
            <a:rect l="l" t="t" r="r" b="b"/>
            <a:pathLst>
              <a:path w="2283" h="1192">
                <a:moveTo>
                  <a:pt x="10666" y="15974"/>
                </a:moveTo>
                <a:cubicBezTo>
                  <a:pt x="10576" y="16192"/>
                  <a:pt x="10476" y="16404"/>
                  <a:pt x="10468" y="16644"/>
                </a:cubicBezTo>
                <a:cubicBezTo>
                  <a:pt x="10464" y="16760"/>
                  <a:pt x="10510" y="16898"/>
                  <a:pt x="10616" y="16942"/>
                </a:cubicBezTo>
              </a:path>
              <a:path w="2283" h="1192">
                <a:moveTo>
                  <a:pt x="10889" y="16222"/>
                </a:moveTo>
                <a:cubicBezTo>
                  <a:pt x="10889" y="16180"/>
                  <a:pt x="10941" y="16130"/>
                  <a:pt x="10988" y="16148"/>
                </a:cubicBezTo>
                <a:cubicBezTo>
                  <a:pt x="11175" y="16219"/>
                  <a:pt x="10919" y="16484"/>
                  <a:pt x="10864" y="16545"/>
                </a:cubicBezTo>
                <a:cubicBezTo>
                  <a:pt x="10806" y="16603"/>
                  <a:pt x="10798" y="16611"/>
                  <a:pt x="10765" y="16644"/>
                </a:cubicBezTo>
                <a:cubicBezTo>
                  <a:pt x="10852" y="16644"/>
                  <a:pt x="10927" y="16631"/>
                  <a:pt x="11013" y="16619"/>
                </a:cubicBezTo>
                <a:cubicBezTo>
                  <a:pt x="11037" y="16616"/>
                  <a:pt x="11064" y="16619"/>
                  <a:pt x="11088" y="16619"/>
                </a:cubicBezTo>
              </a:path>
              <a:path w="2283" h="1192">
                <a:moveTo>
                  <a:pt x="11435" y="16148"/>
                </a:moveTo>
                <a:cubicBezTo>
                  <a:pt x="11435" y="16243"/>
                  <a:pt x="11474" y="16503"/>
                  <a:pt x="11410" y="16545"/>
                </a:cubicBezTo>
              </a:path>
              <a:path w="2283" h="1192">
                <a:moveTo>
                  <a:pt x="11261" y="16222"/>
                </a:moveTo>
                <a:cubicBezTo>
                  <a:pt x="11253" y="16222"/>
                  <a:pt x="11245" y="16222"/>
                  <a:pt x="11237" y="16222"/>
                </a:cubicBezTo>
                <a:cubicBezTo>
                  <a:pt x="11251" y="16193"/>
                  <a:pt x="11353" y="16333"/>
                  <a:pt x="11385" y="16371"/>
                </a:cubicBezTo>
                <a:cubicBezTo>
                  <a:pt x="11416" y="16408"/>
                  <a:pt x="11472" y="16507"/>
                  <a:pt x="11509" y="16520"/>
                </a:cubicBezTo>
              </a:path>
              <a:path w="2283" h="1192">
                <a:moveTo>
                  <a:pt x="11733" y="16173"/>
                </a:moveTo>
                <a:cubicBezTo>
                  <a:pt x="11733" y="16308"/>
                  <a:pt x="11733" y="16463"/>
                  <a:pt x="11708" y="16594"/>
                </a:cubicBezTo>
                <a:cubicBezTo>
                  <a:pt x="11702" y="16627"/>
                  <a:pt x="11683" y="16722"/>
                  <a:pt x="11683" y="16619"/>
                </a:cubicBezTo>
              </a:path>
              <a:path w="2283" h="1192">
                <a:moveTo>
                  <a:pt x="12030" y="16272"/>
                </a:moveTo>
                <a:cubicBezTo>
                  <a:pt x="11930" y="16322"/>
                  <a:pt x="11814" y="16451"/>
                  <a:pt x="11782" y="16570"/>
                </a:cubicBezTo>
                <a:cubicBezTo>
                  <a:pt x="11782" y="16603"/>
                  <a:pt x="11782" y="16636"/>
                  <a:pt x="11782" y="16669"/>
                </a:cubicBezTo>
                <a:cubicBezTo>
                  <a:pt x="11972" y="16696"/>
                  <a:pt x="12090" y="16647"/>
                  <a:pt x="12154" y="16446"/>
                </a:cubicBezTo>
                <a:cubicBezTo>
                  <a:pt x="12181" y="16361"/>
                  <a:pt x="12130" y="16361"/>
                  <a:pt x="12080" y="16321"/>
                </a:cubicBezTo>
              </a:path>
              <a:path w="2283" h="1192">
                <a:moveTo>
                  <a:pt x="12328" y="15999"/>
                </a:moveTo>
                <a:cubicBezTo>
                  <a:pt x="12328" y="16065"/>
                  <a:pt x="12328" y="16131"/>
                  <a:pt x="12328" y="16197"/>
                </a:cubicBezTo>
              </a:path>
              <a:path w="2283" h="1192">
                <a:moveTo>
                  <a:pt x="12328" y="15751"/>
                </a:moveTo>
                <a:cubicBezTo>
                  <a:pt x="12504" y="15919"/>
                  <a:pt x="12739" y="16123"/>
                  <a:pt x="12725" y="16396"/>
                </a:cubicBezTo>
                <a:cubicBezTo>
                  <a:pt x="12725" y="16396"/>
                  <a:pt x="12636" y="16705"/>
                  <a:pt x="12626" y="16644"/>
                </a:cubicBezTo>
                <a:cubicBezTo>
                  <a:pt x="12626" y="16579"/>
                  <a:pt x="12660" y="16550"/>
                  <a:pt x="12750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32200" y="5769000"/>
            <a:ext cx="9864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13246" y="16024"/>
                </a:moveTo>
                <a:cubicBezTo>
                  <a:pt x="13296" y="16090"/>
                  <a:pt x="13287" y="16235"/>
                  <a:pt x="13295" y="16321"/>
                </a:cubicBezTo>
                <a:cubicBezTo>
                  <a:pt x="13295" y="16338"/>
                  <a:pt x="13295" y="16354"/>
                  <a:pt x="13295" y="16371"/>
                </a:cubicBezTo>
              </a:path>
              <a:path w="274" h="348">
                <a:moveTo>
                  <a:pt x="13146" y="16222"/>
                </a:moveTo>
                <a:cubicBezTo>
                  <a:pt x="13237" y="16222"/>
                  <a:pt x="13328" y="16222"/>
                  <a:pt x="13419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7120" y="5643720"/>
            <a:ext cx="419040" cy="339480"/>
          </a:xfrm>
          <a:custGeom>
            <a:avLst/>
            <a:gdLst/>
            <a:ahLst/>
            <a:rect l="l" t="t" r="r" b="b"/>
            <a:pathLst>
              <a:path w="1167" h="943">
                <a:moveTo>
                  <a:pt x="14139" y="15677"/>
                </a:moveTo>
                <a:cubicBezTo>
                  <a:pt x="14084" y="15921"/>
                  <a:pt x="13986" y="16085"/>
                  <a:pt x="13990" y="16346"/>
                </a:cubicBezTo>
                <a:cubicBezTo>
                  <a:pt x="13991" y="16406"/>
                  <a:pt x="14046" y="16638"/>
                  <a:pt x="14114" y="16619"/>
                </a:cubicBezTo>
                <a:cubicBezTo>
                  <a:pt x="14122" y="16611"/>
                  <a:pt x="14131" y="16602"/>
                  <a:pt x="14139" y="16594"/>
                </a:cubicBezTo>
              </a:path>
              <a:path w="1167" h="943">
                <a:moveTo>
                  <a:pt x="14734" y="15900"/>
                </a:moveTo>
                <a:cubicBezTo>
                  <a:pt x="14542" y="15900"/>
                  <a:pt x="14494" y="15916"/>
                  <a:pt x="14362" y="16049"/>
                </a:cubicBezTo>
                <a:cubicBezTo>
                  <a:pt x="14427" y="16126"/>
                  <a:pt x="14603" y="16236"/>
                  <a:pt x="14610" y="16346"/>
                </a:cubicBezTo>
                <a:cubicBezTo>
                  <a:pt x="14602" y="16354"/>
                  <a:pt x="14593" y="16363"/>
                  <a:pt x="14585" y="16371"/>
                </a:cubicBezTo>
                <a:cubicBezTo>
                  <a:pt x="14425" y="16386"/>
                  <a:pt x="14435" y="16275"/>
                  <a:pt x="14486" y="16123"/>
                </a:cubicBezTo>
                <a:cubicBezTo>
                  <a:pt x="14519" y="16024"/>
                  <a:pt x="14544" y="16027"/>
                  <a:pt x="14610" y="15974"/>
                </a:cubicBezTo>
              </a:path>
              <a:path w="1167" h="943">
                <a:moveTo>
                  <a:pt x="14957" y="16049"/>
                </a:moveTo>
                <a:cubicBezTo>
                  <a:pt x="14994" y="16178"/>
                  <a:pt x="15086" y="16216"/>
                  <a:pt x="15156" y="16321"/>
                </a:cubicBezTo>
                <a:cubicBezTo>
                  <a:pt x="15156" y="16329"/>
                  <a:pt x="15156" y="16338"/>
                  <a:pt x="15156" y="16346"/>
                </a:cubicBezTo>
              </a:path>
              <a:path w="1167" h="943">
                <a:moveTo>
                  <a:pt x="15156" y="15974"/>
                </a:moveTo>
                <a:cubicBezTo>
                  <a:pt x="15107" y="16147"/>
                  <a:pt x="15041" y="16288"/>
                  <a:pt x="14957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1800" y="5626080"/>
            <a:ext cx="482400" cy="374760"/>
          </a:xfrm>
          <a:custGeom>
            <a:avLst/>
            <a:gdLst/>
            <a:ahLst/>
            <a:rect l="l" t="t" r="r" b="b"/>
            <a:pathLst>
              <a:path w="1340" h="1043">
                <a:moveTo>
                  <a:pt x="15528" y="15974"/>
                </a:moveTo>
                <a:cubicBezTo>
                  <a:pt x="15502" y="16114"/>
                  <a:pt x="15503" y="16251"/>
                  <a:pt x="15503" y="16396"/>
                </a:cubicBezTo>
              </a:path>
              <a:path w="1340" h="1043">
                <a:moveTo>
                  <a:pt x="15900" y="15949"/>
                </a:moveTo>
                <a:cubicBezTo>
                  <a:pt x="15803" y="16014"/>
                  <a:pt x="15705" y="16170"/>
                  <a:pt x="15677" y="16297"/>
                </a:cubicBezTo>
                <a:cubicBezTo>
                  <a:pt x="15677" y="16386"/>
                  <a:pt x="15670" y="16412"/>
                  <a:pt x="15726" y="16446"/>
                </a:cubicBezTo>
                <a:cubicBezTo>
                  <a:pt x="15922" y="16457"/>
                  <a:pt x="16016" y="16411"/>
                  <a:pt x="16049" y="16197"/>
                </a:cubicBezTo>
                <a:cubicBezTo>
                  <a:pt x="16080" y="15992"/>
                  <a:pt x="15993" y="16041"/>
                  <a:pt x="15875" y="16024"/>
                </a:cubicBezTo>
                <a:cubicBezTo>
                  <a:pt x="15858" y="16016"/>
                  <a:pt x="15842" y="16007"/>
                  <a:pt x="15825" y="15999"/>
                </a:cubicBezTo>
              </a:path>
              <a:path w="1340" h="1043">
                <a:moveTo>
                  <a:pt x="16346" y="15900"/>
                </a:moveTo>
                <a:cubicBezTo>
                  <a:pt x="16262" y="15900"/>
                  <a:pt x="16263" y="15954"/>
                  <a:pt x="16247" y="16024"/>
                </a:cubicBezTo>
                <a:cubicBezTo>
                  <a:pt x="16284" y="16024"/>
                  <a:pt x="16476" y="16041"/>
                  <a:pt x="16421" y="15949"/>
                </a:cubicBezTo>
                <a:cubicBezTo>
                  <a:pt x="16380" y="15929"/>
                  <a:pt x="16374" y="15921"/>
                  <a:pt x="16346" y="15925"/>
                </a:cubicBezTo>
              </a:path>
              <a:path w="1340" h="1043">
                <a:moveTo>
                  <a:pt x="16346" y="15627"/>
                </a:moveTo>
                <a:cubicBezTo>
                  <a:pt x="16583" y="15710"/>
                  <a:pt x="16771" y="15885"/>
                  <a:pt x="16842" y="16148"/>
                </a:cubicBezTo>
                <a:cubicBezTo>
                  <a:pt x="16881" y="16292"/>
                  <a:pt x="16798" y="16607"/>
                  <a:pt x="16644" y="16669"/>
                </a:cubicBezTo>
                <a:cubicBezTo>
                  <a:pt x="16627" y="16661"/>
                  <a:pt x="16611" y="16652"/>
                  <a:pt x="16594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7840" y="4741920"/>
            <a:ext cx="3251160" cy="169920"/>
          </a:xfrm>
          <a:custGeom>
            <a:avLst/>
            <a:gdLst/>
            <a:ahLst/>
            <a:rect l="l" t="t" r="r" b="b"/>
            <a:pathLst>
              <a:path w="9030" h="473">
                <a:moveTo>
                  <a:pt x="6995" y="13171"/>
                </a:moveTo>
                <a:cubicBezTo>
                  <a:pt x="7153" y="13193"/>
                  <a:pt x="7307" y="13207"/>
                  <a:pt x="7466" y="13221"/>
                </a:cubicBezTo>
                <a:cubicBezTo>
                  <a:pt x="7718" y="13243"/>
                  <a:pt x="7960" y="13238"/>
                  <a:pt x="8210" y="13246"/>
                </a:cubicBezTo>
                <a:cubicBezTo>
                  <a:pt x="8418" y="13253"/>
                  <a:pt x="8623" y="13268"/>
                  <a:pt x="8830" y="13271"/>
                </a:cubicBezTo>
                <a:cubicBezTo>
                  <a:pt x="9165" y="13276"/>
                  <a:pt x="9491" y="13283"/>
                  <a:pt x="9823" y="13320"/>
                </a:cubicBezTo>
                <a:cubicBezTo>
                  <a:pt x="10043" y="13345"/>
                  <a:pt x="10250" y="13381"/>
                  <a:pt x="10468" y="13419"/>
                </a:cubicBezTo>
                <a:cubicBezTo>
                  <a:pt x="10926" y="13500"/>
                  <a:pt x="11395" y="13514"/>
                  <a:pt x="11857" y="13543"/>
                </a:cubicBezTo>
                <a:cubicBezTo>
                  <a:pt x="12229" y="13567"/>
                  <a:pt x="12601" y="13589"/>
                  <a:pt x="12973" y="13618"/>
                </a:cubicBezTo>
                <a:cubicBezTo>
                  <a:pt x="13468" y="13656"/>
                  <a:pt x="13964" y="13643"/>
                  <a:pt x="14461" y="13643"/>
                </a:cubicBezTo>
                <a:cubicBezTo>
                  <a:pt x="14982" y="13643"/>
                  <a:pt x="15503" y="13643"/>
                  <a:pt x="16024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PW pg. 73  #10 -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02080" y="2224080"/>
            <a:ext cx="465120" cy="88920"/>
          </a:xfrm>
          <a:custGeom>
            <a:avLst/>
            <a:gdLst/>
            <a:ahLst/>
            <a:rect l="l" t="t" r="r" b="b"/>
            <a:pathLst>
              <a:path w="1291" h="249">
                <a:moveTo>
                  <a:pt x="12551" y="6400"/>
                </a:moveTo>
                <a:cubicBezTo>
                  <a:pt x="12696" y="6417"/>
                  <a:pt x="12845" y="6438"/>
                  <a:pt x="12998" y="6424"/>
                </a:cubicBezTo>
                <a:cubicBezTo>
                  <a:pt x="13092" y="6406"/>
                  <a:pt x="13111" y="6376"/>
                  <a:pt x="13146" y="6424"/>
                </a:cubicBezTo>
                <a:cubicBezTo>
                  <a:pt x="12887" y="6401"/>
                  <a:pt x="12634" y="6345"/>
                  <a:pt x="12378" y="6300"/>
                </a:cubicBezTo>
                <a:cubicBezTo>
                  <a:pt x="11985" y="6231"/>
                  <a:pt x="12872" y="6258"/>
                  <a:pt x="12973" y="6251"/>
                </a:cubicBezTo>
                <a:cubicBezTo>
                  <a:pt x="13114" y="6241"/>
                  <a:pt x="13259" y="6228"/>
                  <a:pt x="13395" y="6201"/>
                </a:cubicBezTo>
                <a:cubicBezTo>
                  <a:pt x="13171" y="6201"/>
                  <a:pt x="12949" y="6179"/>
                  <a:pt x="12725" y="6176"/>
                </a:cubicBezTo>
                <a:cubicBezTo>
                  <a:pt x="12684" y="6176"/>
                  <a:pt x="12642" y="6176"/>
                  <a:pt x="12601" y="6176"/>
                </a:cubicBezTo>
                <a:cubicBezTo>
                  <a:pt x="12856" y="6223"/>
                  <a:pt x="13109" y="6239"/>
                  <a:pt x="13370" y="6251"/>
                </a:cubicBezTo>
                <a:cubicBezTo>
                  <a:pt x="13461" y="6251"/>
                  <a:pt x="13469" y="6251"/>
                  <a:pt x="13519" y="6251"/>
                </a:cubicBezTo>
                <a:cubicBezTo>
                  <a:pt x="13270" y="6240"/>
                  <a:pt x="13024" y="6226"/>
                  <a:pt x="12774" y="6226"/>
                </a:cubicBezTo>
                <a:cubicBezTo>
                  <a:pt x="12632" y="6226"/>
                  <a:pt x="13056" y="6252"/>
                  <a:pt x="13196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78080" y="2428920"/>
            <a:ext cx="3233880" cy="98280"/>
          </a:xfrm>
          <a:custGeom>
            <a:avLst/>
            <a:gdLst/>
            <a:ahLst/>
            <a:rect l="l" t="t" r="r" b="b"/>
            <a:pathLst>
              <a:path w="8981" h="274">
                <a:moveTo>
                  <a:pt x="8830" y="6896"/>
                </a:moveTo>
                <a:cubicBezTo>
                  <a:pt x="9040" y="6896"/>
                  <a:pt x="9243" y="6907"/>
                  <a:pt x="9451" y="6921"/>
                </a:cubicBezTo>
                <a:cubicBezTo>
                  <a:pt x="9641" y="6934"/>
                  <a:pt x="9828" y="6967"/>
                  <a:pt x="10021" y="6970"/>
                </a:cubicBezTo>
                <a:cubicBezTo>
                  <a:pt x="10229" y="6974"/>
                  <a:pt x="10432" y="6995"/>
                  <a:pt x="10641" y="6995"/>
                </a:cubicBezTo>
                <a:cubicBezTo>
                  <a:pt x="10868" y="6995"/>
                  <a:pt x="11088" y="7002"/>
                  <a:pt x="11311" y="6995"/>
                </a:cubicBezTo>
                <a:cubicBezTo>
                  <a:pt x="11708" y="6983"/>
                  <a:pt x="12106" y="7002"/>
                  <a:pt x="12502" y="6970"/>
                </a:cubicBezTo>
                <a:cubicBezTo>
                  <a:pt x="12759" y="6950"/>
                  <a:pt x="13013" y="6925"/>
                  <a:pt x="13271" y="6921"/>
                </a:cubicBezTo>
                <a:cubicBezTo>
                  <a:pt x="13499" y="6917"/>
                  <a:pt x="13737" y="6914"/>
                  <a:pt x="13965" y="6896"/>
                </a:cubicBezTo>
                <a:cubicBezTo>
                  <a:pt x="14189" y="6878"/>
                  <a:pt x="14410" y="6850"/>
                  <a:pt x="14635" y="6846"/>
                </a:cubicBezTo>
                <a:cubicBezTo>
                  <a:pt x="14867" y="6842"/>
                  <a:pt x="15095" y="6821"/>
                  <a:pt x="15329" y="6821"/>
                </a:cubicBezTo>
                <a:cubicBezTo>
                  <a:pt x="15545" y="6821"/>
                  <a:pt x="15757" y="6796"/>
                  <a:pt x="15974" y="6796"/>
                </a:cubicBezTo>
                <a:cubicBezTo>
                  <a:pt x="16152" y="6796"/>
                  <a:pt x="16320" y="6780"/>
                  <a:pt x="16495" y="6772"/>
                </a:cubicBezTo>
                <a:cubicBezTo>
                  <a:pt x="16745" y="6760"/>
                  <a:pt x="16993" y="6784"/>
                  <a:pt x="17239" y="6796"/>
                </a:cubicBezTo>
                <a:cubicBezTo>
                  <a:pt x="17283" y="6798"/>
                  <a:pt x="17816" y="6789"/>
                  <a:pt x="17810" y="6772"/>
                </a:cubicBezTo>
                <a:cubicBezTo>
                  <a:pt x="17760" y="6764"/>
                  <a:pt x="17711" y="6755"/>
                  <a:pt x="17661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18000" y="2286000"/>
            <a:ext cx="1938240" cy="54000"/>
          </a:xfrm>
          <a:custGeom>
            <a:avLst/>
            <a:gdLst/>
            <a:ahLst/>
            <a:rect l="l" t="t" r="r" b="b"/>
            <a:pathLst>
              <a:path w="5384" h="150">
                <a:moveTo>
                  <a:pt x="12551" y="6499"/>
                </a:moveTo>
                <a:cubicBezTo>
                  <a:pt x="12694" y="6493"/>
                  <a:pt x="12832" y="6493"/>
                  <a:pt x="12973" y="6474"/>
                </a:cubicBezTo>
                <a:cubicBezTo>
                  <a:pt x="13170" y="6448"/>
                  <a:pt x="13369" y="6428"/>
                  <a:pt x="13568" y="6424"/>
                </a:cubicBezTo>
                <a:cubicBezTo>
                  <a:pt x="13776" y="6420"/>
                  <a:pt x="13981" y="6404"/>
                  <a:pt x="14188" y="6400"/>
                </a:cubicBezTo>
                <a:cubicBezTo>
                  <a:pt x="14595" y="6393"/>
                  <a:pt x="15000" y="6398"/>
                  <a:pt x="15404" y="6375"/>
                </a:cubicBezTo>
                <a:cubicBezTo>
                  <a:pt x="15775" y="6354"/>
                  <a:pt x="16150" y="6369"/>
                  <a:pt x="16520" y="6350"/>
                </a:cubicBezTo>
                <a:cubicBezTo>
                  <a:pt x="16746" y="6338"/>
                  <a:pt x="16967" y="6360"/>
                  <a:pt x="17190" y="6375"/>
                </a:cubicBezTo>
                <a:cubicBezTo>
                  <a:pt x="17354" y="6386"/>
                  <a:pt x="17522" y="6396"/>
                  <a:pt x="17686" y="6400"/>
                </a:cubicBezTo>
                <a:cubicBezTo>
                  <a:pt x="17768" y="6402"/>
                  <a:pt x="17839" y="6408"/>
                  <a:pt x="17909" y="6424"/>
                </a:cubicBezTo>
                <a:cubicBezTo>
                  <a:pt x="17934" y="6400"/>
                  <a:pt x="17942" y="6392"/>
                  <a:pt x="17909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1 Unit 2 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 5, 2011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765160" y="3941640"/>
            <a:ext cx="49957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38320" y="4991040"/>
            <a:ext cx="2874960" cy="125640"/>
          </a:xfrm>
          <a:custGeom>
            <a:avLst/>
            <a:gdLst/>
            <a:ahLst/>
            <a:rect l="l" t="t" r="r" b="b"/>
            <a:pathLst>
              <a:path w="7988" h="348">
                <a:moveTo>
                  <a:pt x="8161" y="14139"/>
                </a:moveTo>
                <a:cubicBezTo>
                  <a:pt x="8282" y="14170"/>
                  <a:pt x="8407" y="14215"/>
                  <a:pt x="8533" y="14213"/>
                </a:cubicBezTo>
                <a:cubicBezTo>
                  <a:pt x="8733" y="14209"/>
                  <a:pt x="8960" y="14128"/>
                  <a:pt x="9153" y="14089"/>
                </a:cubicBezTo>
                <a:cubicBezTo>
                  <a:pt x="9326" y="14054"/>
                  <a:pt x="9498" y="14064"/>
                  <a:pt x="9674" y="14064"/>
                </a:cubicBezTo>
                <a:cubicBezTo>
                  <a:pt x="9863" y="14064"/>
                  <a:pt x="10033" y="14043"/>
                  <a:pt x="10220" y="14015"/>
                </a:cubicBezTo>
                <a:cubicBezTo>
                  <a:pt x="10439" y="13982"/>
                  <a:pt x="10644" y="13968"/>
                  <a:pt x="10864" y="13965"/>
                </a:cubicBezTo>
                <a:cubicBezTo>
                  <a:pt x="11090" y="13962"/>
                  <a:pt x="11337" y="13932"/>
                  <a:pt x="11559" y="13940"/>
                </a:cubicBezTo>
                <a:cubicBezTo>
                  <a:pt x="11683" y="13944"/>
                  <a:pt x="11806" y="13955"/>
                  <a:pt x="11931" y="13965"/>
                </a:cubicBezTo>
                <a:cubicBezTo>
                  <a:pt x="12096" y="13978"/>
                  <a:pt x="12261" y="14003"/>
                  <a:pt x="12427" y="14015"/>
                </a:cubicBezTo>
                <a:cubicBezTo>
                  <a:pt x="12713" y="14035"/>
                  <a:pt x="13009" y="14034"/>
                  <a:pt x="13295" y="14039"/>
                </a:cubicBezTo>
                <a:cubicBezTo>
                  <a:pt x="13521" y="14043"/>
                  <a:pt x="13741" y="13978"/>
                  <a:pt x="13965" y="13965"/>
                </a:cubicBezTo>
                <a:cubicBezTo>
                  <a:pt x="14194" y="13951"/>
                  <a:pt x="14434" y="13949"/>
                  <a:pt x="14660" y="13940"/>
                </a:cubicBezTo>
                <a:cubicBezTo>
                  <a:pt x="14825" y="13934"/>
                  <a:pt x="14968" y="13923"/>
                  <a:pt x="15131" y="13891"/>
                </a:cubicBezTo>
                <a:cubicBezTo>
                  <a:pt x="15328" y="13852"/>
                  <a:pt x="15504" y="13888"/>
                  <a:pt x="15701" y="13891"/>
                </a:cubicBezTo>
                <a:cubicBezTo>
                  <a:pt x="15851" y="13894"/>
                  <a:pt x="15998" y="13904"/>
                  <a:pt x="16148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ting fractions to decim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y the fraction out loud.  If it has a 10 or 100 (1,000, etc.) as the denominator, you can write it like it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said “6 tenths” and writ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6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tenth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76520" y="3657600"/>
                <a:ext cx="4921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581120" y="3652920"/>
            <a:ext cx="633600" cy="1098360"/>
          </a:xfrm>
          <a:custGeom>
            <a:avLst/>
            <a:gdLst/>
            <a:ahLst/>
            <a:rect l="l" t="t" r="r" b="b"/>
            <a:pathLst>
              <a:path w="1763" h="3052">
                <a:moveTo>
                  <a:pt x="5606" y="10145"/>
                </a:moveTo>
                <a:cubicBezTo>
                  <a:pt x="5458" y="10145"/>
                  <a:pt x="5330" y="10166"/>
                  <a:pt x="5184" y="10195"/>
                </a:cubicBezTo>
                <a:cubicBezTo>
                  <a:pt x="4984" y="10235"/>
                  <a:pt x="4786" y="10285"/>
                  <a:pt x="4589" y="10319"/>
                </a:cubicBezTo>
                <a:cubicBezTo>
                  <a:pt x="4529" y="10329"/>
                  <a:pt x="4410" y="10348"/>
                  <a:pt x="4390" y="10393"/>
                </a:cubicBezTo>
                <a:cubicBezTo>
                  <a:pt x="4341" y="10505"/>
                  <a:pt x="4431" y="10703"/>
                  <a:pt x="4440" y="10815"/>
                </a:cubicBezTo>
                <a:cubicBezTo>
                  <a:pt x="4457" y="11012"/>
                  <a:pt x="4481" y="11213"/>
                  <a:pt x="4490" y="11410"/>
                </a:cubicBezTo>
                <a:cubicBezTo>
                  <a:pt x="4502" y="11674"/>
                  <a:pt x="4457" y="11944"/>
                  <a:pt x="4465" y="12204"/>
                </a:cubicBezTo>
                <a:cubicBezTo>
                  <a:pt x="4471" y="12411"/>
                  <a:pt x="4490" y="12615"/>
                  <a:pt x="4490" y="12824"/>
                </a:cubicBezTo>
                <a:cubicBezTo>
                  <a:pt x="4490" y="12949"/>
                  <a:pt x="4482" y="13052"/>
                  <a:pt x="4465" y="13171"/>
                </a:cubicBezTo>
                <a:cubicBezTo>
                  <a:pt x="4465" y="13179"/>
                  <a:pt x="4465" y="13188"/>
                  <a:pt x="4465" y="13196"/>
                </a:cubicBezTo>
                <a:cubicBezTo>
                  <a:pt x="4551" y="13189"/>
                  <a:pt x="4630" y="13155"/>
                  <a:pt x="4713" y="13146"/>
                </a:cubicBezTo>
                <a:cubicBezTo>
                  <a:pt x="4906" y="13126"/>
                  <a:pt x="5113" y="13106"/>
                  <a:pt x="5308" y="13122"/>
                </a:cubicBezTo>
                <a:cubicBezTo>
                  <a:pt x="5492" y="13137"/>
                  <a:pt x="5669" y="13146"/>
                  <a:pt x="5854" y="13146"/>
                </a:cubicBezTo>
                <a:cubicBezTo>
                  <a:pt x="5945" y="13146"/>
                  <a:pt x="6036" y="13146"/>
                  <a:pt x="6127" y="13146"/>
                </a:cubicBezTo>
                <a:cubicBezTo>
                  <a:pt x="6134" y="13004"/>
                  <a:pt x="6149" y="12867"/>
                  <a:pt x="6152" y="12725"/>
                </a:cubicBezTo>
                <a:cubicBezTo>
                  <a:pt x="6156" y="12526"/>
                  <a:pt x="6127" y="12329"/>
                  <a:pt x="6127" y="12129"/>
                </a:cubicBezTo>
                <a:cubicBezTo>
                  <a:pt x="6127" y="11957"/>
                  <a:pt x="6070" y="11802"/>
                  <a:pt x="6052" y="11633"/>
                </a:cubicBezTo>
                <a:cubicBezTo>
                  <a:pt x="6031" y="11436"/>
                  <a:pt x="6007" y="11237"/>
                  <a:pt x="6003" y="11038"/>
                </a:cubicBezTo>
                <a:cubicBezTo>
                  <a:pt x="6000" y="10886"/>
                  <a:pt x="5998" y="10717"/>
                  <a:pt x="5978" y="10567"/>
                </a:cubicBezTo>
                <a:cubicBezTo>
                  <a:pt x="5967" y="10486"/>
                  <a:pt x="5968" y="10334"/>
                  <a:pt x="5928" y="10294"/>
                </a:cubicBezTo>
                <a:cubicBezTo>
                  <a:pt x="5896" y="10262"/>
                  <a:pt x="5789" y="10213"/>
                  <a:pt x="5730" y="10220"/>
                </a:cubicBezTo>
                <a:cubicBezTo>
                  <a:pt x="5621" y="10234"/>
                  <a:pt x="5467" y="10308"/>
                  <a:pt x="5358" y="10344"/>
                </a:cubicBezTo>
                <a:cubicBezTo>
                  <a:pt x="5330" y="10344"/>
                  <a:pt x="5319" y="10346"/>
                  <a:pt x="5308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43160" y="5224320"/>
            <a:ext cx="1714680" cy="1000440"/>
          </a:xfrm>
          <a:custGeom>
            <a:avLst/>
            <a:gdLst/>
            <a:ahLst/>
            <a:rect l="l" t="t" r="r" b="b"/>
            <a:pathLst>
              <a:path w="4764" h="2779">
                <a:moveTo>
                  <a:pt x="8731" y="14585"/>
                </a:moveTo>
                <a:cubicBezTo>
                  <a:pt x="8753" y="14520"/>
                  <a:pt x="8787" y="14598"/>
                  <a:pt x="8806" y="14635"/>
                </a:cubicBezTo>
                <a:cubicBezTo>
                  <a:pt x="8888" y="14795"/>
                  <a:pt x="8936" y="14883"/>
                  <a:pt x="9128" y="14784"/>
                </a:cubicBezTo>
                <a:cubicBezTo>
                  <a:pt x="9244" y="14724"/>
                  <a:pt x="9287" y="14633"/>
                  <a:pt x="9351" y="14536"/>
                </a:cubicBezTo>
                <a:cubicBezTo>
                  <a:pt x="9424" y="14603"/>
                  <a:pt x="9473" y="14675"/>
                  <a:pt x="9599" y="14660"/>
                </a:cubicBezTo>
                <a:cubicBezTo>
                  <a:pt x="9655" y="14653"/>
                  <a:pt x="9703" y="14594"/>
                  <a:pt x="9723" y="14560"/>
                </a:cubicBezTo>
                <a:cubicBezTo>
                  <a:pt x="9742" y="14635"/>
                  <a:pt x="9848" y="14657"/>
                  <a:pt x="9922" y="14635"/>
                </a:cubicBezTo>
                <a:cubicBezTo>
                  <a:pt x="9980" y="14617"/>
                  <a:pt x="10029" y="14552"/>
                  <a:pt x="10071" y="14511"/>
                </a:cubicBezTo>
              </a:path>
              <a:path w="4764" h="2779">
                <a:moveTo>
                  <a:pt x="9475" y="15280"/>
                </a:moveTo>
                <a:cubicBezTo>
                  <a:pt x="9499" y="15421"/>
                  <a:pt x="9478" y="15554"/>
                  <a:pt x="9475" y="15701"/>
                </a:cubicBezTo>
                <a:cubicBezTo>
                  <a:pt x="9472" y="15859"/>
                  <a:pt x="9461" y="16031"/>
                  <a:pt x="9649" y="16073"/>
                </a:cubicBezTo>
                <a:cubicBezTo>
                  <a:pt x="9767" y="16099"/>
                  <a:pt x="9882" y="15955"/>
                  <a:pt x="9947" y="15875"/>
                </a:cubicBezTo>
                <a:cubicBezTo>
                  <a:pt x="10004" y="15805"/>
                  <a:pt x="9996" y="15781"/>
                  <a:pt x="9996" y="15701"/>
                </a:cubicBezTo>
                <a:cubicBezTo>
                  <a:pt x="9854" y="15667"/>
                  <a:pt x="9807" y="15672"/>
                  <a:pt x="9748" y="15825"/>
                </a:cubicBezTo>
                <a:cubicBezTo>
                  <a:pt x="9716" y="15908"/>
                  <a:pt x="9723" y="15987"/>
                  <a:pt x="9723" y="16073"/>
                </a:cubicBezTo>
              </a:path>
              <a:path w="4764" h="2779">
                <a:moveTo>
                  <a:pt x="8930" y="16321"/>
                </a:moveTo>
                <a:cubicBezTo>
                  <a:pt x="9159" y="16265"/>
                  <a:pt x="9389" y="16269"/>
                  <a:pt x="9624" y="16247"/>
                </a:cubicBezTo>
                <a:cubicBezTo>
                  <a:pt x="9832" y="16227"/>
                  <a:pt x="10035" y="16197"/>
                  <a:pt x="10244" y="16197"/>
                </a:cubicBezTo>
                <a:cubicBezTo>
                  <a:pt x="10272" y="16197"/>
                  <a:pt x="10283" y="16199"/>
                  <a:pt x="10294" y="16222"/>
                </a:cubicBezTo>
              </a:path>
              <a:path w="4764" h="2779">
                <a:moveTo>
                  <a:pt x="9302" y="16570"/>
                </a:moveTo>
                <a:cubicBezTo>
                  <a:pt x="9302" y="16778"/>
                  <a:pt x="9287" y="16984"/>
                  <a:pt x="9252" y="17190"/>
                </a:cubicBezTo>
                <a:cubicBezTo>
                  <a:pt x="9244" y="17223"/>
                  <a:pt x="9235" y="17256"/>
                  <a:pt x="9227" y="17289"/>
                </a:cubicBezTo>
              </a:path>
              <a:path w="4764" h="2779">
                <a:moveTo>
                  <a:pt x="9699" y="16669"/>
                </a:moveTo>
                <a:cubicBezTo>
                  <a:pt x="9608" y="16796"/>
                  <a:pt x="9588" y="16933"/>
                  <a:pt x="9575" y="17090"/>
                </a:cubicBezTo>
                <a:cubicBezTo>
                  <a:pt x="9568" y="17168"/>
                  <a:pt x="9630" y="17321"/>
                  <a:pt x="9748" y="17239"/>
                </a:cubicBezTo>
                <a:cubicBezTo>
                  <a:pt x="9856" y="17164"/>
                  <a:pt x="9917" y="16940"/>
                  <a:pt x="9872" y="16818"/>
                </a:cubicBezTo>
                <a:cubicBezTo>
                  <a:pt x="9843" y="16739"/>
                  <a:pt x="9745" y="16718"/>
                  <a:pt x="9674" y="16718"/>
                </a:cubicBezTo>
                <a:cubicBezTo>
                  <a:pt x="9646" y="16718"/>
                  <a:pt x="9635" y="16720"/>
                  <a:pt x="9624" y="16743"/>
                </a:cubicBezTo>
              </a:path>
              <a:path w="4764" h="2779">
                <a:moveTo>
                  <a:pt x="10691" y="16222"/>
                </a:moveTo>
                <a:cubicBezTo>
                  <a:pt x="10809" y="16242"/>
                  <a:pt x="10919" y="16198"/>
                  <a:pt x="11038" y="16222"/>
                </a:cubicBezTo>
                <a:cubicBezTo>
                  <a:pt x="11038" y="16247"/>
                  <a:pt x="11038" y="16255"/>
                  <a:pt x="11038" y="16272"/>
                </a:cubicBezTo>
              </a:path>
              <a:path w="4764" h="2779">
                <a:moveTo>
                  <a:pt x="10641" y="16495"/>
                </a:moveTo>
                <a:cubicBezTo>
                  <a:pt x="10767" y="16488"/>
                  <a:pt x="10887" y="16470"/>
                  <a:pt x="11013" y="16470"/>
                </a:cubicBezTo>
                <a:cubicBezTo>
                  <a:pt x="11056" y="16470"/>
                  <a:pt x="11081" y="16465"/>
                  <a:pt x="11112" y="16446"/>
                </a:cubicBezTo>
              </a:path>
              <a:path w="4764" h="2779">
                <a:moveTo>
                  <a:pt x="12129" y="15925"/>
                </a:moveTo>
                <a:cubicBezTo>
                  <a:pt x="11986" y="15953"/>
                  <a:pt x="11891" y="16130"/>
                  <a:pt x="11832" y="16247"/>
                </a:cubicBezTo>
                <a:cubicBezTo>
                  <a:pt x="11733" y="16445"/>
                  <a:pt x="11738" y="16546"/>
                  <a:pt x="11782" y="16743"/>
                </a:cubicBezTo>
                <a:cubicBezTo>
                  <a:pt x="12022" y="16743"/>
                  <a:pt x="12190" y="16612"/>
                  <a:pt x="12254" y="16346"/>
                </a:cubicBezTo>
                <a:cubicBezTo>
                  <a:pt x="12280" y="16239"/>
                  <a:pt x="12245" y="15974"/>
                  <a:pt x="12080" y="15974"/>
                </a:cubicBezTo>
                <a:cubicBezTo>
                  <a:pt x="12080" y="15982"/>
                  <a:pt x="12080" y="15991"/>
                  <a:pt x="12080" y="15999"/>
                </a:cubicBezTo>
              </a:path>
              <a:path w="4764" h="2779">
                <a:moveTo>
                  <a:pt x="12576" y="16446"/>
                </a:moveTo>
                <a:cubicBezTo>
                  <a:pt x="12486" y="16468"/>
                  <a:pt x="12446" y="16503"/>
                  <a:pt x="12477" y="16594"/>
                </a:cubicBezTo>
                <a:cubicBezTo>
                  <a:pt x="12492" y="16592"/>
                  <a:pt x="12658" y="16522"/>
                  <a:pt x="12626" y="16495"/>
                </a:cubicBezTo>
                <a:cubicBezTo>
                  <a:pt x="12609" y="16495"/>
                  <a:pt x="12593" y="16495"/>
                  <a:pt x="12576" y="16495"/>
                </a:cubicBezTo>
              </a:path>
              <a:path w="4764" h="2779">
                <a:moveTo>
                  <a:pt x="12998" y="15949"/>
                </a:moveTo>
                <a:cubicBezTo>
                  <a:pt x="12979" y="16079"/>
                  <a:pt x="12957" y="16214"/>
                  <a:pt x="12948" y="16346"/>
                </a:cubicBezTo>
                <a:cubicBezTo>
                  <a:pt x="12940" y="16463"/>
                  <a:pt x="12932" y="16597"/>
                  <a:pt x="13072" y="16619"/>
                </a:cubicBezTo>
                <a:cubicBezTo>
                  <a:pt x="13203" y="16640"/>
                  <a:pt x="13295" y="16602"/>
                  <a:pt x="13395" y="16520"/>
                </a:cubicBezTo>
                <a:cubicBezTo>
                  <a:pt x="13456" y="16469"/>
                  <a:pt x="13477" y="16439"/>
                  <a:pt x="13494" y="16371"/>
                </a:cubicBezTo>
                <a:cubicBezTo>
                  <a:pt x="13400" y="16371"/>
                  <a:pt x="13337" y="16402"/>
                  <a:pt x="13295" y="16495"/>
                </a:cubicBezTo>
                <a:cubicBezTo>
                  <a:pt x="13261" y="16572"/>
                  <a:pt x="13229" y="16674"/>
                  <a:pt x="13271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27240" y="5322960"/>
            <a:ext cx="2089440" cy="1062000"/>
          </a:xfrm>
          <a:custGeom>
            <a:avLst/>
            <a:gdLst/>
            <a:ahLst/>
            <a:rect l="l" t="t" r="r" b="b"/>
            <a:pathLst>
              <a:path w="5805" h="2952">
                <a:moveTo>
                  <a:pt x="13395" y="14932"/>
                </a:moveTo>
                <a:cubicBezTo>
                  <a:pt x="13366" y="14923"/>
                  <a:pt x="13234" y="14871"/>
                  <a:pt x="13171" y="14858"/>
                </a:cubicBezTo>
                <a:cubicBezTo>
                  <a:pt x="12706" y="14765"/>
                  <a:pt x="12228" y="14784"/>
                  <a:pt x="11757" y="14784"/>
                </a:cubicBezTo>
                <a:cubicBezTo>
                  <a:pt x="11547" y="14784"/>
                  <a:pt x="11367" y="14840"/>
                  <a:pt x="11162" y="14883"/>
                </a:cubicBezTo>
                <a:cubicBezTo>
                  <a:pt x="10899" y="14938"/>
                  <a:pt x="10613" y="15017"/>
                  <a:pt x="10344" y="15007"/>
                </a:cubicBezTo>
                <a:cubicBezTo>
                  <a:pt x="10087" y="14998"/>
                  <a:pt x="9832" y="14944"/>
                  <a:pt x="9575" y="14932"/>
                </a:cubicBezTo>
                <a:cubicBezTo>
                  <a:pt x="9421" y="14925"/>
                  <a:pt x="9276" y="14941"/>
                  <a:pt x="9128" y="14957"/>
                </a:cubicBezTo>
                <a:cubicBezTo>
                  <a:pt x="9061" y="14964"/>
                  <a:pt x="8829" y="14945"/>
                  <a:pt x="8781" y="15007"/>
                </a:cubicBezTo>
                <a:cubicBezTo>
                  <a:pt x="8752" y="15045"/>
                  <a:pt x="8695" y="15357"/>
                  <a:pt x="8682" y="15404"/>
                </a:cubicBezTo>
                <a:cubicBezTo>
                  <a:pt x="8605" y="15679"/>
                  <a:pt x="8531" y="15967"/>
                  <a:pt x="8483" y="16247"/>
                </a:cubicBezTo>
                <a:cubicBezTo>
                  <a:pt x="8442" y="16489"/>
                  <a:pt x="8434" y="16721"/>
                  <a:pt x="8434" y="16966"/>
                </a:cubicBezTo>
                <a:cubicBezTo>
                  <a:pt x="8434" y="17098"/>
                  <a:pt x="8393" y="17232"/>
                  <a:pt x="8409" y="17363"/>
                </a:cubicBezTo>
                <a:cubicBezTo>
                  <a:pt x="8413" y="17392"/>
                  <a:pt x="8436" y="17424"/>
                  <a:pt x="8458" y="17462"/>
                </a:cubicBezTo>
                <a:cubicBezTo>
                  <a:pt x="8565" y="17642"/>
                  <a:pt x="8818" y="17693"/>
                  <a:pt x="9004" y="17711"/>
                </a:cubicBezTo>
                <a:cubicBezTo>
                  <a:pt x="9291" y="17738"/>
                  <a:pt x="9584" y="17728"/>
                  <a:pt x="9872" y="17711"/>
                </a:cubicBezTo>
                <a:cubicBezTo>
                  <a:pt x="10269" y="17687"/>
                  <a:pt x="10667" y="17667"/>
                  <a:pt x="11063" y="17636"/>
                </a:cubicBezTo>
                <a:cubicBezTo>
                  <a:pt x="11402" y="17609"/>
                  <a:pt x="11741" y="17575"/>
                  <a:pt x="12080" y="17562"/>
                </a:cubicBezTo>
                <a:cubicBezTo>
                  <a:pt x="12454" y="17547"/>
                  <a:pt x="12822" y="17482"/>
                  <a:pt x="13196" y="17462"/>
                </a:cubicBezTo>
                <a:cubicBezTo>
                  <a:pt x="13400" y="17451"/>
                  <a:pt x="13595" y="17503"/>
                  <a:pt x="13791" y="17537"/>
                </a:cubicBezTo>
                <a:cubicBezTo>
                  <a:pt x="13875" y="17551"/>
                  <a:pt x="13896" y="17581"/>
                  <a:pt x="13940" y="17537"/>
                </a:cubicBezTo>
                <a:cubicBezTo>
                  <a:pt x="14055" y="17422"/>
                  <a:pt x="14048" y="17137"/>
                  <a:pt x="14064" y="16991"/>
                </a:cubicBezTo>
                <a:cubicBezTo>
                  <a:pt x="14105" y="16627"/>
                  <a:pt x="14149" y="16264"/>
                  <a:pt x="14188" y="15900"/>
                </a:cubicBezTo>
                <a:cubicBezTo>
                  <a:pt x="14212" y="15674"/>
                  <a:pt x="14234" y="15429"/>
                  <a:pt x="14188" y="15205"/>
                </a:cubicBezTo>
                <a:cubicBezTo>
                  <a:pt x="14178" y="15157"/>
                  <a:pt x="14155" y="15094"/>
                  <a:pt x="14114" y="15056"/>
                </a:cubicBezTo>
                <a:cubicBezTo>
                  <a:pt x="14088" y="15032"/>
                  <a:pt x="14020" y="15017"/>
                  <a:pt x="13990" y="15007"/>
                </a:cubicBezTo>
                <a:cubicBezTo>
                  <a:pt x="13841" y="14956"/>
                  <a:pt x="13647" y="14982"/>
                  <a:pt x="13494" y="14982"/>
                </a:cubicBezTo>
                <a:cubicBezTo>
                  <a:pt x="13382" y="14982"/>
                  <a:pt x="13169" y="15001"/>
                  <a:pt x="13097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each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fra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deci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828800" y="2895480"/>
                <a:ext cx="353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7" name=""/>
          <p:cNvGraphicFramePr/>
          <p:nvPr/>
        </p:nvGraphicFramePr>
        <p:xfrm>
          <a:off x="2959200" y="21970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21970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62120" y="1600200"/>
          <a:ext cx="4825800" cy="463248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</a:tblGrid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419720" y="3276720"/>
          <a:ext cx="3762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76720"/>
                    <a:ext cx="376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419720" y="4724280"/>
          <a:ext cx="404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724280"/>
                    <a:ext cx="404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52480" y="3886200"/>
                <a:ext cx="541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752480" y="5181480"/>
                <a:ext cx="5619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724200" y="3009960"/>
            <a:ext cx="606600" cy="357120"/>
          </a:xfrm>
          <a:custGeom>
            <a:avLst/>
            <a:gdLst/>
            <a:ahLst/>
            <a:rect l="l" t="t" r="r" b="b"/>
            <a:pathLst>
              <a:path w="1687" h="993">
                <a:moveTo>
                  <a:pt x="11311" y="9227"/>
                </a:moveTo>
                <a:cubicBezTo>
                  <a:pt x="11311" y="9206"/>
                  <a:pt x="11299" y="9137"/>
                  <a:pt x="11261" y="9178"/>
                </a:cubicBezTo>
                <a:cubicBezTo>
                  <a:pt x="11219" y="9241"/>
                  <a:pt x="11203" y="9253"/>
                  <a:pt x="11212" y="9302"/>
                </a:cubicBezTo>
                <a:cubicBezTo>
                  <a:pt x="11292" y="9325"/>
                  <a:pt x="11322" y="9295"/>
                  <a:pt x="11336" y="9203"/>
                </a:cubicBezTo>
                <a:cubicBezTo>
                  <a:pt x="11353" y="9091"/>
                  <a:pt x="11220" y="9246"/>
                  <a:pt x="11212" y="9277"/>
                </a:cubicBezTo>
                <a:cubicBezTo>
                  <a:pt x="11196" y="9339"/>
                  <a:pt x="11301" y="9294"/>
                  <a:pt x="11311" y="9227"/>
                </a:cubicBezTo>
              </a:path>
              <a:path w="1687" h="993">
                <a:moveTo>
                  <a:pt x="11609" y="8483"/>
                </a:moveTo>
                <a:cubicBezTo>
                  <a:pt x="11683" y="8540"/>
                  <a:pt x="11648" y="8665"/>
                  <a:pt x="11609" y="8756"/>
                </a:cubicBezTo>
                <a:cubicBezTo>
                  <a:pt x="11601" y="8764"/>
                  <a:pt x="11592" y="8773"/>
                  <a:pt x="11584" y="8781"/>
                </a:cubicBezTo>
                <a:cubicBezTo>
                  <a:pt x="11717" y="8781"/>
                  <a:pt x="11827" y="8809"/>
                  <a:pt x="11956" y="8830"/>
                </a:cubicBezTo>
                <a:cubicBezTo>
                  <a:pt x="12008" y="8838"/>
                  <a:pt x="12016" y="8872"/>
                  <a:pt x="12030" y="8830"/>
                </a:cubicBezTo>
              </a:path>
              <a:path w="1687" h="993">
                <a:moveTo>
                  <a:pt x="11956" y="8359"/>
                </a:moveTo>
                <a:cubicBezTo>
                  <a:pt x="11978" y="8510"/>
                  <a:pt x="11981" y="8651"/>
                  <a:pt x="11981" y="8806"/>
                </a:cubicBezTo>
                <a:cubicBezTo>
                  <a:pt x="11981" y="8930"/>
                  <a:pt x="11981" y="9054"/>
                  <a:pt x="11981" y="9178"/>
                </a:cubicBezTo>
              </a:path>
              <a:path w="1687" h="993">
                <a:moveTo>
                  <a:pt x="11633" y="8508"/>
                </a:moveTo>
                <a:cubicBezTo>
                  <a:pt x="11612" y="8519"/>
                  <a:pt x="11612" y="8663"/>
                  <a:pt x="11609" y="8731"/>
                </a:cubicBezTo>
                <a:cubicBezTo>
                  <a:pt x="11607" y="8768"/>
                  <a:pt x="11616" y="8799"/>
                  <a:pt x="11658" y="8806"/>
                </a:cubicBezTo>
                <a:cubicBezTo>
                  <a:pt x="11751" y="8821"/>
                  <a:pt x="11841" y="8836"/>
                  <a:pt x="11931" y="8855"/>
                </a:cubicBezTo>
                <a:cubicBezTo>
                  <a:pt x="11953" y="8860"/>
                  <a:pt x="11982" y="8855"/>
                  <a:pt x="12005" y="8855"/>
                </a:cubicBezTo>
              </a:path>
              <a:path w="1687" h="993">
                <a:moveTo>
                  <a:pt x="12030" y="8409"/>
                </a:moveTo>
                <a:cubicBezTo>
                  <a:pt x="12004" y="8555"/>
                  <a:pt x="11994" y="8707"/>
                  <a:pt x="11981" y="8855"/>
                </a:cubicBezTo>
                <a:cubicBezTo>
                  <a:pt x="11973" y="8945"/>
                  <a:pt x="11997" y="9021"/>
                  <a:pt x="12005" y="9103"/>
                </a:cubicBezTo>
                <a:cubicBezTo>
                  <a:pt x="12009" y="9140"/>
                  <a:pt x="11981" y="9160"/>
                  <a:pt x="11981" y="9203"/>
                </a:cubicBezTo>
                <a:cubicBezTo>
                  <a:pt x="11981" y="9211"/>
                  <a:pt x="11981" y="9219"/>
                  <a:pt x="11981" y="9227"/>
                </a:cubicBezTo>
                <a:cubicBezTo>
                  <a:pt x="12021" y="9200"/>
                  <a:pt x="12013" y="9067"/>
                  <a:pt x="12005" y="9004"/>
                </a:cubicBezTo>
                <a:cubicBezTo>
                  <a:pt x="11990" y="8881"/>
                  <a:pt x="11955" y="8733"/>
                  <a:pt x="11981" y="8607"/>
                </a:cubicBezTo>
                <a:cubicBezTo>
                  <a:pt x="11993" y="8549"/>
                  <a:pt x="12005" y="8521"/>
                  <a:pt x="12005" y="8458"/>
                </a:cubicBezTo>
                <a:cubicBezTo>
                  <a:pt x="12005" y="8450"/>
                  <a:pt x="12005" y="8442"/>
                  <a:pt x="12005" y="8434"/>
                </a:cubicBezTo>
              </a:path>
              <a:path w="1687" h="993">
                <a:moveTo>
                  <a:pt x="10716" y="8508"/>
                </a:moveTo>
                <a:cubicBezTo>
                  <a:pt x="10601" y="8534"/>
                  <a:pt x="10541" y="8588"/>
                  <a:pt x="10468" y="8682"/>
                </a:cubicBezTo>
                <a:cubicBezTo>
                  <a:pt x="10388" y="8785"/>
                  <a:pt x="10326" y="8918"/>
                  <a:pt x="10344" y="9054"/>
                </a:cubicBezTo>
                <a:cubicBezTo>
                  <a:pt x="10353" y="9124"/>
                  <a:pt x="10388" y="9224"/>
                  <a:pt x="10443" y="9252"/>
                </a:cubicBezTo>
                <a:cubicBezTo>
                  <a:pt x="10521" y="9291"/>
                  <a:pt x="10625" y="9331"/>
                  <a:pt x="10716" y="9302"/>
                </a:cubicBezTo>
                <a:cubicBezTo>
                  <a:pt x="10785" y="9280"/>
                  <a:pt x="10860" y="9223"/>
                  <a:pt x="10914" y="9178"/>
                </a:cubicBezTo>
                <a:cubicBezTo>
                  <a:pt x="10976" y="9127"/>
                  <a:pt x="11023" y="9010"/>
                  <a:pt x="11038" y="8930"/>
                </a:cubicBezTo>
                <a:cubicBezTo>
                  <a:pt x="11053" y="8851"/>
                  <a:pt x="11023" y="8794"/>
                  <a:pt x="10988" y="8731"/>
                </a:cubicBezTo>
                <a:cubicBezTo>
                  <a:pt x="10953" y="8668"/>
                  <a:pt x="10899" y="8604"/>
                  <a:pt x="10840" y="8558"/>
                </a:cubicBezTo>
                <a:cubicBezTo>
                  <a:pt x="10764" y="8499"/>
                  <a:pt x="10729" y="8508"/>
                  <a:pt x="10641" y="8508"/>
                </a:cubicBezTo>
                <a:cubicBezTo>
                  <a:pt x="10616" y="8508"/>
                  <a:pt x="10608" y="8508"/>
                  <a:pt x="10616" y="8533"/>
                </a:cubicBezTo>
              </a:path>
              <a:path w="1687" h="993">
                <a:moveTo>
                  <a:pt x="11237" y="9351"/>
                </a:moveTo>
                <a:cubicBezTo>
                  <a:pt x="11249" y="9315"/>
                  <a:pt x="11261" y="9330"/>
                  <a:pt x="11261" y="9277"/>
                </a:cubicBezTo>
                <a:cubicBezTo>
                  <a:pt x="11291" y="9347"/>
                  <a:pt x="11303" y="9377"/>
                  <a:pt x="11336" y="9277"/>
                </a:cubicBezTo>
                <a:cubicBezTo>
                  <a:pt x="11350" y="9235"/>
                  <a:pt x="11238" y="9229"/>
                  <a:pt x="11237" y="9302"/>
                </a:cubicBezTo>
                <a:cubicBezTo>
                  <a:pt x="11236" y="9345"/>
                  <a:pt x="11243" y="9252"/>
                  <a:pt x="11286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37000" y="4321080"/>
            <a:ext cx="928800" cy="349200"/>
          </a:xfrm>
          <a:custGeom>
            <a:avLst/>
            <a:gdLst/>
            <a:ahLst/>
            <a:rect l="l" t="t" r="r" b="b"/>
            <a:pathLst>
              <a:path w="2580" h="969">
                <a:moveTo>
                  <a:pt x="10195" y="12154"/>
                </a:moveTo>
                <a:cubicBezTo>
                  <a:pt x="10182" y="12051"/>
                  <a:pt x="10167" y="12044"/>
                  <a:pt x="10071" y="12005"/>
                </a:cubicBezTo>
                <a:cubicBezTo>
                  <a:pt x="9893" y="12168"/>
                  <a:pt x="9827" y="12351"/>
                  <a:pt x="9823" y="12601"/>
                </a:cubicBezTo>
                <a:cubicBezTo>
                  <a:pt x="9820" y="12814"/>
                  <a:pt x="9955" y="13028"/>
                  <a:pt x="10195" y="12973"/>
                </a:cubicBezTo>
                <a:cubicBezTo>
                  <a:pt x="10413" y="12923"/>
                  <a:pt x="10579" y="12710"/>
                  <a:pt x="10616" y="12502"/>
                </a:cubicBezTo>
                <a:cubicBezTo>
                  <a:pt x="10652" y="12301"/>
                  <a:pt x="10513" y="12074"/>
                  <a:pt x="10319" y="12005"/>
                </a:cubicBezTo>
                <a:cubicBezTo>
                  <a:pt x="10221" y="11970"/>
                  <a:pt x="10071" y="12063"/>
                  <a:pt x="10071" y="12105"/>
                </a:cubicBezTo>
              </a:path>
              <a:path w="2580" h="969">
                <a:moveTo>
                  <a:pt x="10964" y="12750"/>
                </a:moveTo>
                <a:cubicBezTo>
                  <a:pt x="10919" y="12750"/>
                  <a:pt x="10848" y="12790"/>
                  <a:pt x="10889" y="12849"/>
                </a:cubicBezTo>
                <a:cubicBezTo>
                  <a:pt x="10906" y="12857"/>
                  <a:pt x="10922" y="12866"/>
                  <a:pt x="10939" y="12874"/>
                </a:cubicBezTo>
                <a:cubicBezTo>
                  <a:pt x="10970" y="12837"/>
                  <a:pt x="11066" y="12709"/>
                  <a:pt x="10939" y="12750"/>
                </a:cubicBezTo>
                <a:cubicBezTo>
                  <a:pt x="10914" y="12774"/>
                  <a:pt x="10905" y="12782"/>
                  <a:pt x="10889" y="12799"/>
                </a:cubicBezTo>
                <a:cubicBezTo>
                  <a:pt x="10958" y="12799"/>
                  <a:pt x="10974" y="12819"/>
                  <a:pt x="10988" y="12774"/>
                </a:cubicBezTo>
              </a:path>
              <a:path w="2580" h="969">
                <a:moveTo>
                  <a:pt x="11460" y="12105"/>
                </a:moveTo>
                <a:cubicBezTo>
                  <a:pt x="11460" y="12281"/>
                  <a:pt x="11497" y="12451"/>
                  <a:pt x="11509" y="12626"/>
                </a:cubicBezTo>
                <a:cubicBezTo>
                  <a:pt x="11515" y="12707"/>
                  <a:pt x="11509" y="12793"/>
                  <a:pt x="11509" y="12874"/>
                </a:cubicBezTo>
              </a:path>
              <a:path w="2580" h="969">
                <a:moveTo>
                  <a:pt x="12204" y="12005"/>
                </a:moveTo>
                <a:cubicBezTo>
                  <a:pt x="12130" y="12012"/>
                  <a:pt x="11858" y="12012"/>
                  <a:pt x="11807" y="12055"/>
                </a:cubicBezTo>
                <a:cubicBezTo>
                  <a:pt x="11781" y="12077"/>
                  <a:pt x="11841" y="12317"/>
                  <a:pt x="11857" y="12353"/>
                </a:cubicBezTo>
                <a:cubicBezTo>
                  <a:pt x="11961" y="12332"/>
                  <a:pt x="11997" y="12228"/>
                  <a:pt x="12105" y="12204"/>
                </a:cubicBezTo>
                <a:cubicBezTo>
                  <a:pt x="12331" y="12153"/>
                  <a:pt x="12403" y="12291"/>
                  <a:pt x="12378" y="12477"/>
                </a:cubicBezTo>
                <a:cubicBezTo>
                  <a:pt x="12351" y="12677"/>
                  <a:pt x="12187" y="12701"/>
                  <a:pt x="12005" y="12725"/>
                </a:cubicBezTo>
                <a:cubicBezTo>
                  <a:pt x="11879" y="12742"/>
                  <a:pt x="11934" y="12707"/>
                  <a:pt x="11981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2920" y="5429160"/>
            <a:ext cx="1125360" cy="374760"/>
          </a:xfrm>
          <a:custGeom>
            <a:avLst/>
            <a:gdLst/>
            <a:ahLst/>
            <a:rect l="l" t="t" r="r" b="b"/>
            <a:pathLst>
              <a:path w="3127" h="1043">
                <a:moveTo>
                  <a:pt x="10542" y="15180"/>
                </a:moveTo>
                <a:cubicBezTo>
                  <a:pt x="10490" y="15119"/>
                  <a:pt x="10483" y="15131"/>
                  <a:pt x="10393" y="15106"/>
                </a:cubicBezTo>
                <a:cubicBezTo>
                  <a:pt x="10222" y="15277"/>
                  <a:pt x="10164" y="15479"/>
                  <a:pt x="10145" y="15726"/>
                </a:cubicBezTo>
                <a:cubicBezTo>
                  <a:pt x="10131" y="15915"/>
                  <a:pt x="10136" y="16183"/>
                  <a:pt x="10393" y="16098"/>
                </a:cubicBezTo>
                <a:cubicBezTo>
                  <a:pt x="10588" y="16033"/>
                  <a:pt x="10751" y="15882"/>
                  <a:pt x="10790" y="15677"/>
                </a:cubicBezTo>
                <a:cubicBezTo>
                  <a:pt x="10817" y="15534"/>
                  <a:pt x="10730" y="15270"/>
                  <a:pt x="10641" y="15156"/>
                </a:cubicBezTo>
                <a:cubicBezTo>
                  <a:pt x="10606" y="15111"/>
                  <a:pt x="10556" y="15117"/>
                  <a:pt x="10542" y="15131"/>
                </a:cubicBezTo>
              </a:path>
              <a:path w="3127" h="1043">
                <a:moveTo>
                  <a:pt x="11013" y="15825"/>
                </a:moveTo>
                <a:cubicBezTo>
                  <a:pt x="10995" y="15832"/>
                  <a:pt x="10873" y="15903"/>
                  <a:pt x="10889" y="15949"/>
                </a:cubicBezTo>
                <a:cubicBezTo>
                  <a:pt x="10906" y="15966"/>
                  <a:pt x="10922" y="15982"/>
                  <a:pt x="10939" y="15999"/>
                </a:cubicBezTo>
                <a:cubicBezTo>
                  <a:pt x="11015" y="15948"/>
                  <a:pt x="11111" y="15898"/>
                  <a:pt x="11038" y="15825"/>
                </a:cubicBezTo>
                <a:cubicBezTo>
                  <a:pt x="11019" y="15830"/>
                  <a:pt x="10880" y="15878"/>
                  <a:pt x="10939" y="15925"/>
                </a:cubicBezTo>
                <a:cubicBezTo>
                  <a:pt x="10947" y="15925"/>
                  <a:pt x="10956" y="15925"/>
                  <a:pt x="10964" y="15925"/>
                </a:cubicBezTo>
              </a:path>
              <a:path w="3127" h="1043">
                <a:moveTo>
                  <a:pt x="11633" y="15131"/>
                </a:moveTo>
                <a:cubicBezTo>
                  <a:pt x="11496" y="15084"/>
                  <a:pt x="11434" y="15289"/>
                  <a:pt x="11385" y="15404"/>
                </a:cubicBezTo>
                <a:cubicBezTo>
                  <a:pt x="11302" y="15597"/>
                  <a:pt x="11308" y="15679"/>
                  <a:pt x="11336" y="15875"/>
                </a:cubicBezTo>
                <a:cubicBezTo>
                  <a:pt x="11538" y="15932"/>
                  <a:pt x="11675" y="15914"/>
                  <a:pt x="11782" y="15701"/>
                </a:cubicBezTo>
                <a:cubicBezTo>
                  <a:pt x="11885" y="15495"/>
                  <a:pt x="11823" y="15375"/>
                  <a:pt x="11708" y="15205"/>
                </a:cubicBezTo>
                <a:cubicBezTo>
                  <a:pt x="11650" y="15120"/>
                  <a:pt x="11668" y="15131"/>
                  <a:pt x="11584" y="15131"/>
                </a:cubicBezTo>
              </a:path>
              <a:path w="3127" h="1043">
                <a:moveTo>
                  <a:pt x="12402" y="15131"/>
                </a:moveTo>
                <a:cubicBezTo>
                  <a:pt x="12397" y="15114"/>
                  <a:pt x="12356" y="15084"/>
                  <a:pt x="12328" y="15081"/>
                </a:cubicBezTo>
                <a:cubicBezTo>
                  <a:pt x="12195" y="15064"/>
                  <a:pt x="12073" y="15140"/>
                  <a:pt x="12005" y="15255"/>
                </a:cubicBezTo>
                <a:cubicBezTo>
                  <a:pt x="11924" y="15392"/>
                  <a:pt x="11891" y="15620"/>
                  <a:pt x="11906" y="15776"/>
                </a:cubicBezTo>
                <a:cubicBezTo>
                  <a:pt x="11925" y="15966"/>
                  <a:pt x="12059" y="16004"/>
                  <a:pt x="12229" y="15949"/>
                </a:cubicBezTo>
                <a:cubicBezTo>
                  <a:pt x="12447" y="15878"/>
                  <a:pt x="12562" y="15746"/>
                  <a:pt x="12576" y="15528"/>
                </a:cubicBezTo>
                <a:cubicBezTo>
                  <a:pt x="12586" y="15376"/>
                  <a:pt x="12539" y="15263"/>
                  <a:pt x="12402" y="15205"/>
                </a:cubicBezTo>
                <a:cubicBezTo>
                  <a:pt x="12345" y="15186"/>
                  <a:pt x="12338" y="15177"/>
                  <a:pt x="12303" y="15180"/>
                </a:cubicBezTo>
              </a:path>
              <a:path w="3127" h="1043">
                <a:moveTo>
                  <a:pt x="12774" y="15106"/>
                </a:moveTo>
                <a:cubicBezTo>
                  <a:pt x="12925" y="15084"/>
                  <a:pt x="13086" y="15087"/>
                  <a:pt x="13246" y="15081"/>
                </a:cubicBezTo>
                <a:cubicBezTo>
                  <a:pt x="13254" y="15081"/>
                  <a:pt x="13263" y="15081"/>
                  <a:pt x="13271" y="15081"/>
                </a:cubicBezTo>
                <a:cubicBezTo>
                  <a:pt x="13187" y="15340"/>
                  <a:pt x="13037" y="15587"/>
                  <a:pt x="12973" y="15850"/>
                </a:cubicBezTo>
                <a:cubicBezTo>
                  <a:pt x="12973" y="15875"/>
                  <a:pt x="12973" y="15900"/>
                  <a:pt x="12973" y="15925"/>
                </a:cubicBezTo>
              </a:path>
              <a:path w="3127" h="1043">
                <a:moveTo>
                  <a:pt x="11063" y="15825"/>
                </a:moveTo>
                <a:cubicBezTo>
                  <a:pt x="11063" y="15869"/>
                  <a:pt x="11064" y="15865"/>
                  <a:pt x="11038" y="15900"/>
                </a:cubicBezTo>
              </a:path>
              <a:path w="3127" h="1043">
                <a:moveTo>
                  <a:pt x="11038" y="15900"/>
                </a:moveTo>
                <a:cubicBezTo>
                  <a:pt x="10995" y="15900"/>
                  <a:pt x="11000" y="15910"/>
                  <a:pt x="10988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92920" y="1893960"/>
            <a:ext cx="36360" cy="4428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19248" y="5308"/>
                </a:moveTo>
                <a:cubicBezTo>
                  <a:pt x="19241" y="5286"/>
                  <a:pt x="19210" y="5263"/>
                  <a:pt x="19174" y="5283"/>
                </a:cubicBezTo>
                <a:cubicBezTo>
                  <a:pt x="19114" y="5316"/>
                  <a:pt x="19163" y="5349"/>
                  <a:pt x="19199" y="5358"/>
                </a:cubicBezTo>
                <a:cubicBezTo>
                  <a:pt x="19208" y="5343"/>
                  <a:pt x="19233" y="5221"/>
                  <a:pt x="19199" y="5259"/>
                </a:cubicBezTo>
                <a:cubicBezTo>
                  <a:pt x="19146" y="5317"/>
                  <a:pt x="19207" y="5385"/>
                  <a:pt x="19224" y="5333"/>
                </a:cubicBezTo>
                <a:cubicBezTo>
                  <a:pt x="19262" y="5218"/>
                  <a:pt x="19141" y="5338"/>
                  <a:pt x="19224" y="5283"/>
                </a:cubicBezTo>
                <a:cubicBezTo>
                  <a:pt x="19224" y="5360"/>
                  <a:pt x="19224" y="5288"/>
                  <a:pt x="19224" y="5333"/>
                </a:cubicBezTo>
                <a:cubicBezTo>
                  <a:pt x="19224" y="5378"/>
                  <a:pt x="19206" y="5387"/>
                  <a:pt x="19248" y="5358"/>
                </a:cubicBezTo>
                <a:cubicBezTo>
                  <a:pt x="19213" y="5196"/>
                  <a:pt x="19193" y="5328"/>
                  <a:pt x="19199" y="5333"/>
                </a:cubicBezTo>
                <a:cubicBezTo>
                  <a:pt x="19225" y="5354"/>
                  <a:pt x="19304" y="5186"/>
                  <a:pt x="19224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6720" y="1320840"/>
            <a:ext cx="223560" cy="403200"/>
          </a:xfrm>
          <a:custGeom>
            <a:avLst/>
            <a:gdLst/>
            <a:ahLst/>
            <a:rect l="l" t="t" r="r" b="b"/>
            <a:pathLst>
              <a:path w="621" h="1117">
                <a:moveTo>
                  <a:pt x="19100" y="4440"/>
                </a:moveTo>
                <a:cubicBezTo>
                  <a:pt x="19143" y="4407"/>
                  <a:pt x="19166" y="4415"/>
                  <a:pt x="19224" y="4415"/>
                </a:cubicBezTo>
                <a:cubicBezTo>
                  <a:pt x="19282" y="4415"/>
                  <a:pt x="19290" y="4415"/>
                  <a:pt x="19323" y="4415"/>
                </a:cubicBezTo>
                <a:cubicBezTo>
                  <a:pt x="19270" y="4423"/>
                  <a:pt x="19210" y="4440"/>
                  <a:pt x="19174" y="4490"/>
                </a:cubicBezTo>
                <a:cubicBezTo>
                  <a:pt x="19098" y="4595"/>
                  <a:pt x="19179" y="4708"/>
                  <a:pt x="19273" y="4762"/>
                </a:cubicBezTo>
                <a:cubicBezTo>
                  <a:pt x="19369" y="4817"/>
                  <a:pt x="19413" y="4772"/>
                  <a:pt x="19472" y="4713"/>
                </a:cubicBezTo>
                <a:cubicBezTo>
                  <a:pt x="19422" y="4563"/>
                  <a:pt x="19303" y="4483"/>
                  <a:pt x="19124" y="4490"/>
                </a:cubicBezTo>
                <a:cubicBezTo>
                  <a:pt x="18987" y="4496"/>
                  <a:pt x="18939" y="4574"/>
                  <a:pt x="18852" y="4663"/>
                </a:cubicBezTo>
                <a:cubicBezTo>
                  <a:pt x="18982" y="4626"/>
                  <a:pt x="19109" y="4585"/>
                  <a:pt x="19248" y="4564"/>
                </a:cubicBezTo>
                <a:cubicBezTo>
                  <a:pt x="19304" y="4555"/>
                  <a:pt x="19290" y="4544"/>
                  <a:pt x="19298" y="4490"/>
                </a:cubicBezTo>
              </a:path>
              <a:path w="621" h="1117">
                <a:moveTo>
                  <a:pt x="19273" y="4242"/>
                </a:moveTo>
                <a:cubicBezTo>
                  <a:pt x="19291" y="4295"/>
                  <a:pt x="19298" y="4254"/>
                  <a:pt x="19298" y="4217"/>
                </a:cubicBezTo>
                <a:cubicBezTo>
                  <a:pt x="19298" y="4166"/>
                  <a:pt x="19308" y="4026"/>
                  <a:pt x="19248" y="4018"/>
                </a:cubicBezTo>
                <a:cubicBezTo>
                  <a:pt x="19240" y="4018"/>
                  <a:pt x="19232" y="4018"/>
                  <a:pt x="19224" y="4018"/>
                </a:cubicBezTo>
                <a:cubicBezTo>
                  <a:pt x="19206" y="4128"/>
                  <a:pt x="19203" y="4229"/>
                  <a:pt x="19323" y="4266"/>
                </a:cubicBezTo>
                <a:cubicBezTo>
                  <a:pt x="19434" y="4300"/>
                  <a:pt x="19418" y="4126"/>
                  <a:pt x="19422" y="4068"/>
                </a:cubicBezTo>
              </a:path>
              <a:path w="621" h="1117">
                <a:moveTo>
                  <a:pt x="19248" y="3671"/>
                </a:moveTo>
                <a:cubicBezTo>
                  <a:pt x="19250" y="3672"/>
                  <a:pt x="19269" y="3769"/>
                  <a:pt x="19298" y="3820"/>
                </a:cubicBezTo>
                <a:cubicBezTo>
                  <a:pt x="19357" y="3922"/>
                  <a:pt x="19416" y="3878"/>
                  <a:pt x="19447" y="3795"/>
                </a:cubicBezTo>
                <a:cubicBezTo>
                  <a:pt x="19470" y="3728"/>
                  <a:pt x="19481" y="3710"/>
                  <a:pt x="19447" y="36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70840" y="1724040"/>
            <a:ext cx="258840" cy="249120"/>
          </a:xfrm>
          <a:custGeom>
            <a:avLst/>
            <a:gdLst/>
            <a:ahLst/>
            <a:rect l="l" t="t" r="r" b="b"/>
            <a:pathLst>
              <a:path w="721" h="696">
                <a:moveTo>
                  <a:pt x="20265" y="4787"/>
                </a:moveTo>
                <a:cubicBezTo>
                  <a:pt x="20221" y="4787"/>
                  <a:pt x="20153" y="4795"/>
                  <a:pt x="20117" y="4812"/>
                </a:cubicBezTo>
                <a:cubicBezTo>
                  <a:pt x="20055" y="4841"/>
                  <a:pt x="20065" y="4891"/>
                  <a:pt x="20017" y="4936"/>
                </a:cubicBezTo>
                <a:cubicBezTo>
                  <a:pt x="19959" y="4990"/>
                  <a:pt x="19932" y="5025"/>
                  <a:pt x="19918" y="5110"/>
                </a:cubicBezTo>
                <a:cubicBezTo>
                  <a:pt x="19910" y="5157"/>
                  <a:pt x="19925" y="5245"/>
                  <a:pt x="19943" y="5283"/>
                </a:cubicBezTo>
                <a:cubicBezTo>
                  <a:pt x="19950" y="5298"/>
                  <a:pt x="20005" y="5377"/>
                  <a:pt x="20017" y="5383"/>
                </a:cubicBezTo>
                <a:cubicBezTo>
                  <a:pt x="20043" y="5396"/>
                  <a:pt x="20054" y="5419"/>
                  <a:pt x="20092" y="5432"/>
                </a:cubicBezTo>
                <a:cubicBezTo>
                  <a:pt x="20140" y="5448"/>
                  <a:pt x="20197" y="5469"/>
                  <a:pt x="20241" y="5482"/>
                </a:cubicBezTo>
                <a:cubicBezTo>
                  <a:pt x="20284" y="5495"/>
                  <a:pt x="20322" y="5461"/>
                  <a:pt x="20365" y="5457"/>
                </a:cubicBezTo>
                <a:cubicBezTo>
                  <a:pt x="20436" y="5451"/>
                  <a:pt x="20389" y="5434"/>
                  <a:pt x="20464" y="5407"/>
                </a:cubicBezTo>
                <a:cubicBezTo>
                  <a:pt x="20495" y="5396"/>
                  <a:pt x="20546" y="5371"/>
                  <a:pt x="20563" y="5333"/>
                </a:cubicBezTo>
                <a:cubicBezTo>
                  <a:pt x="20585" y="5284"/>
                  <a:pt x="20626" y="5217"/>
                  <a:pt x="20638" y="5159"/>
                </a:cubicBezTo>
                <a:cubicBezTo>
                  <a:pt x="20646" y="5123"/>
                  <a:pt x="20631" y="5009"/>
                  <a:pt x="20613" y="4986"/>
                </a:cubicBezTo>
                <a:cubicBezTo>
                  <a:pt x="20599" y="4967"/>
                  <a:pt x="20582" y="4927"/>
                  <a:pt x="20563" y="4911"/>
                </a:cubicBezTo>
                <a:cubicBezTo>
                  <a:pt x="20531" y="4884"/>
                  <a:pt x="20480" y="4820"/>
                  <a:pt x="20464" y="4812"/>
                </a:cubicBezTo>
                <a:cubicBezTo>
                  <a:pt x="20422" y="4791"/>
                  <a:pt x="20393" y="4787"/>
                  <a:pt x="20340" y="4787"/>
                </a:cubicBezTo>
                <a:cubicBezTo>
                  <a:pt x="20279" y="4787"/>
                  <a:pt x="20290" y="4815"/>
                  <a:pt x="20241" y="4837"/>
                </a:cubicBezTo>
                <a:cubicBezTo>
                  <a:pt x="20233" y="4837"/>
                  <a:pt x="20224" y="4837"/>
                  <a:pt x="20216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2760" y="973080"/>
            <a:ext cx="206280" cy="563760"/>
          </a:xfrm>
          <a:custGeom>
            <a:avLst/>
            <a:gdLst/>
            <a:ahLst/>
            <a:rect l="l" t="t" r="r" b="b"/>
            <a:pathLst>
              <a:path w="571" h="1563">
                <a:moveTo>
                  <a:pt x="20117" y="4142"/>
                </a:moveTo>
                <a:cubicBezTo>
                  <a:pt x="20117" y="4118"/>
                  <a:pt x="20117" y="4110"/>
                  <a:pt x="20092" y="4118"/>
                </a:cubicBezTo>
                <a:cubicBezTo>
                  <a:pt x="20191" y="4134"/>
                  <a:pt x="20290" y="4151"/>
                  <a:pt x="20389" y="4167"/>
                </a:cubicBezTo>
                <a:cubicBezTo>
                  <a:pt x="20397" y="4167"/>
                  <a:pt x="20406" y="4167"/>
                  <a:pt x="20414" y="4167"/>
                </a:cubicBezTo>
              </a:path>
              <a:path w="571" h="1563">
                <a:moveTo>
                  <a:pt x="20191" y="4266"/>
                </a:moveTo>
                <a:cubicBezTo>
                  <a:pt x="20224" y="4186"/>
                  <a:pt x="20251" y="4103"/>
                  <a:pt x="20265" y="4018"/>
                </a:cubicBezTo>
              </a:path>
              <a:path w="571" h="1563">
                <a:moveTo>
                  <a:pt x="20315" y="3845"/>
                </a:moveTo>
                <a:cubicBezTo>
                  <a:pt x="20326" y="3802"/>
                  <a:pt x="20355" y="3769"/>
                  <a:pt x="20365" y="3721"/>
                </a:cubicBezTo>
                <a:cubicBezTo>
                  <a:pt x="20301" y="3721"/>
                  <a:pt x="20268" y="3698"/>
                  <a:pt x="20265" y="3770"/>
                </a:cubicBezTo>
                <a:cubicBezTo>
                  <a:pt x="20262" y="3830"/>
                  <a:pt x="20274" y="3915"/>
                  <a:pt x="20340" y="3944"/>
                </a:cubicBezTo>
                <a:cubicBezTo>
                  <a:pt x="20398" y="3970"/>
                  <a:pt x="20489" y="3930"/>
                  <a:pt x="20513" y="3870"/>
                </a:cubicBezTo>
                <a:cubicBezTo>
                  <a:pt x="20535" y="3815"/>
                  <a:pt x="20505" y="3746"/>
                  <a:pt x="20489" y="3696"/>
                </a:cubicBezTo>
              </a:path>
              <a:path w="571" h="1563">
                <a:moveTo>
                  <a:pt x="20315" y="3646"/>
                </a:moveTo>
                <a:cubicBezTo>
                  <a:pt x="20379" y="3668"/>
                  <a:pt x="20435" y="3685"/>
                  <a:pt x="20489" y="3721"/>
                </a:cubicBezTo>
                <a:cubicBezTo>
                  <a:pt x="20475" y="3664"/>
                  <a:pt x="20424" y="3619"/>
                  <a:pt x="20365" y="3597"/>
                </a:cubicBezTo>
                <a:cubicBezTo>
                  <a:pt x="20318" y="3579"/>
                  <a:pt x="20315" y="3576"/>
                  <a:pt x="20315" y="3522"/>
                </a:cubicBezTo>
                <a:cubicBezTo>
                  <a:pt x="20315" y="3514"/>
                  <a:pt x="20315" y="3505"/>
                  <a:pt x="20315" y="3497"/>
                </a:cubicBezTo>
                <a:cubicBezTo>
                  <a:pt x="20362" y="3497"/>
                  <a:pt x="20394" y="3477"/>
                  <a:pt x="20439" y="3473"/>
                </a:cubicBezTo>
                <a:cubicBezTo>
                  <a:pt x="20497" y="3467"/>
                  <a:pt x="20478" y="3490"/>
                  <a:pt x="20513" y="3473"/>
                </a:cubicBezTo>
                <a:cubicBezTo>
                  <a:pt x="20549" y="3455"/>
                  <a:pt x="20538" y="3445"/>
                  <a:pt x="20538" y="3398"/>
                </a:cubicBezTo>
              </a:path>
              <a:path w="571" h="1563">
                <a:moveTo>
                  <a:pt x="20166" y="3076"/>
                </a:moveTo>
                <a:cubicBezTo>
                  <a:pt x="20235" y="3093"/>
                  <a:pt x="20300" y="3161"/>
                  <a:pt x="20365" y="3200"/>
                </a:cubicBezTo>
                <a:cubicBezTo>
                  <a:pt x="20414" y="3229"/>
                  <a:pt x="20434" y="3249"/>
                  <a:pt x="20489" y="3249"/>
                </a:cubicBezTo>
                <a:cubicBezTo>
                  <a:pt x="20522" y="3249"/>
                  <a:pt x="20530" y="3207"/>
                  <a:pt x="20538" y="3175"/>
                </a:cubicBezTo>
              </a:path>
              <a:path w="571" h="1563">
                <a:moveTo>
                  <a:pt x="20265" y="3299"/>
                </a:moveTo>
                <a:cubicBezTo>
                  <a:pt x="20278" y="3249"/>
                  <a:pt x="20327" y="3230"/>
                  <a:pt x="20340" y="3175"/>
                </a:cubicBezTo>
                <a:cubicBezTo>
                  <a:pt x="20340" y="3158"/>
                  <a:pt x="20340" y="3142"/>
                  <a:pt x="20340" y="3125"/>
                </a:cubicBezTo>
              </a:path>
              <a:path w="571" h="1563">
                <a:moveTo>
                  <a:pt x="20191" y="2952"/>
                </a:moveTo>
                <a:cubicBezTo>
                  <a:pt x="20227" y="2943"/>
                  <a:pt x="20328" y="3026"/>
                  <a:pt x="20389" y="3076"/>
                </a:cubicBezTo>
                <a:cubicBezTo>
                  <a:pt x="20428" y="3114"/>
                  <a:pt x="20430" y="3131"/>
                  <a:pt x="20464" y="3125"/>
                </a:cubicBezTo>
                <a:cubicBezTo>
                  <a:pt x="20449" y="3083"/>
                  <a:pt x="20373" y="3068"/>
                  <a:pt x="20340" y="3026"/>
                </a:cubicBezTo>
                <a:cubicBezTo>
                  <a:pt x="20306" y="2983"/>
                  <a:pt x="20374" y="2962"/>
                  <a:pt x="20389" y="2952"/>
                </a:cubicBezTo>
                <a:cubicBezTo>
                  <a:pt x="20432" y="2923"/>
                  <a:pt x="20473" y="2951"/>
                  <a:pt x="20513" y="2977"/>
                </a:cubicBezTo>
                <a:cubicBezTo>
                  <a:pt x="20521" y="2985"/>
                  <a:pt x="20530" y="2993"/>
                  <a:pt x="20538" y="3001"/>
                </a:cubicBezTo>
                <a:cubicBezTo>
                  <a:pt x="20549" y="2957"/>
                  <a:pt x="20583" y="2927"/>
                  <a:pt x="20588" y="2877"/>
                </a:cubicBezTo>
                <a:cubicBezTo>
                  <a:pt x="20588" y="2869"/>
                  <a:pt x="20588" y="2861"/>
                  <a:pt x="20588" y="2853"/>
                </a:cubicBezTo>
              </a:path>
              <a:path w="571" h="1563">
                <a:moveTo>
                  <a:pt x="20414" y="2729"/>
                </a:moveTo>
                <a:cubicBezTo>
                  <a:pt x="20401" y="2768"/>
                  <a:pt x="20402" y="2739"/>
                  <a:pt x="20389" y="2778"/>
                </a:cubicBezTo>
                <a:cubicBezTo>
                  <a:pt x="20423" y="2767"/>
                  <a:pt x="20420" y="2743"/>
                  <a:pt x="20464" y="2729"/>
                </a:cubicBezTo>
                <a:cubicBezTo>
                  <a:pt x="20541" y="2704"/>
                  <a:pt x="20541" y="2715"/>
                  <a:pt x="20613" y="2753"/>
                </a:cubicBezTo>
                <a:cubicBezTo>
                  <a:pt x="20653" y="2774"/>
                  <a:pt x="20696" y="2813"/>
                  <a:pt x="20638" y="2853"/>
                </a:cubicBezTo>
                <a:cubicBezTo>
                  <a:pt x="20621" y="2861"/>
                  <a:pt x="20605" y="2869"/>
                  <a:pt x="20588" y="2877"/>
                </a:cubicBezTo>
              </a:path>
              <a:path w="571" h="1563">
                <a:moveTo>
                  <a:pt x="20315" y="2729"/>
                </a:moveTo>
                <a:cubicBezTo>
                  <a:pt x="20267" y="2729"/>
                  <a:pt x="20339" y="2779"/>
                  <a:pt x="20340" y="2778"/>
                </a:cubicBezTo>
                <a:cubicBezTo>
                  <a:pt x="20340" y="2770"/>
                  <a:pt x="20340" y="2761"/>
                  <a:pt x="20340" y="2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67760" y="101772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0464" y="2853"/>
                </a:moveTo>
                <a:cubicBezTo>
                  <a:pt x="20464" y="2845"/>
                  <a:pt x="20464" y="2836"/>
                  <a:pt x="20464" y="2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00960" y="588960"/>
            <a:ext cx="258840" cy="1357200"/>
          </a:xfrm>
          <a:custGeom>
            <a:avLst/>
            <a:gdLst/>
            <a:ahLst/>
            <a:rect l="l" t="t" r="r" b="b"/>
            <a:pathLst>
              <a:path w="720" h="3771">
                <a:moveTo>
                  <a:pt x="21233" y="4688"/>
                </a:moveTo>
                <a:cubicBezTo>
                  <a:pt x="21192" y="4688"/>
                  <a:pt x="21141" y="4678"/>
                  <a:pt x="21109" y="4713"/>
                </a:cubicBezTo>
                <a:cubicBezTo>
                  <a:pt x="21059" y="4767"/>
                  <a:pt x="21001" y="4825"/>
                  <a:pt x="20960" y="4887"/>
                </a:cubicBezTo>
                <a:cubicBezTo>
                  <a:pt x="20941" y="4916"/>
                  <a:pt x="20893" y="4979"/>
                  <a:pt x="20886" y="5011"/>
                </a:cubicBezTo>
                <a:cubicBezTo>
                  <a:pt x="20874" y="5067"/>
                  <a:pt x="20891" y="5135"/>
                  <a:pt x="20910" y="5184"/>
                </a:cubicBezTo>
                <a:cubicBezTo>
                  <a:pt x="20933" y="5242"/>
                  <a:pt x="20964" y="5309"/>
                  <a:pt x="21010" y="5333"/>
                </a:cubicBezTo>
                <a:cubicBezTo>
                  <a:pt x="21085" y="5371"/>
                  <a:pt x="21154" y="5391"/>
                  <a:pt x="21233" y="5407"/>
                </a:cubicBezTo>
                <a:cubicBezTo>
                  <a:pt x="21268" y="5414"/>
                  <a:pt x="21328" y="5393"/>
                  <a:pt x="21357" y="5383"/>
                </a:cubicBezTo>
                <a:cubicBezTo>
                  <a:pt x="21378" y="5376"/>
                  <a:pt x="21471" y="5320"/>
                  <a:pt x="21481" y="5308"/>
                </a:cubicBezTo>
                <a:cubicBezTo>
                  <a:pt x="21507" y="5277"/>
                  <a:pt x="21527" y="5195"/>
                  <a:pt x="21530" y="5159"/>
                </a:cubicBezTo>
                <a:cubicBezTo>
                  <a:pt x="21534" y="5105"/>
                  <a:pt x="21555" y="5088"/>
                  <a:pt x="21555" y="5035"/>
                </a:cubicBezTo>
                <a:cubicBezTo>
                  <a:pt x="21555" y="4997"/>
                  <a:pt x="21539" y="4891"/>
                  <a:pt x="21506" y="4862"/>
                </a:cubicBezTo>
                <a:cubicBezTo>
                  <a:pt x="21478" y="4837"/>
                  <a:pt x="21471" y="4823"/>
                  <a:pt x="21431" y="4787"/>
                </a:cubicBezTo>
                <a:cubicBezTo>
                  <a:pt x="21393" y="4753"/>
                  <a:pt x="21360" y="4741"/>
                  <a:pt x="21307" y="4738"/>
                </a:cubicBezTo>
                <a:cubicBezTo>
                  <a:pt x="21234" y="4734"/>
                  <a:pt x="21252" y="4748"/>
                  <a:pt x="21208" y="4762"/>
                </a:cubicBezTo>
              </a:path>
              <a:path w="720" h="3771">
                <a:moveTo>
                  <a:pt x="21034" y="4366"/>
                </a:moveTo>
                <a:cubicBezTo>
                  <a:pt x="21026" y="4366"/>
                  <a:pt x="21018" y="4366"/>
                  <a:pt x="21010" y="4366"/>
                </a:cubicBezTo>
                <a:cubicBezTo>
                  <a:pt x="20962" y="4350"/>
                  <a:pt x="21033" y="4362"/>
                  <a:pt x="21084" y="4366"/>
                </a:cubicBezTo>
                <a:cubicBezTo>
                  <a:pt x="21225" y="4366"/>
                  <a:pt x="21268" y="4365"/>
                  <a:pt x="21357" y="4390"/>
                </a:cubicBezTo>
                <a:cubicBezTo>
                  <a:pt x="21432" y="4390"/>
                  <a:pt x="21258" y="4422"/>
                  <a:pt x="21183" y="4415"/>
                </a:cubicBezTo>
                <a:cubicBezTo>
                  <a:pt x="21161" y="4393"/>
                  <a:pt x="21156" y="4384"/>
                  <a:pt x="21134" y="4390"/>
                </a:cubicBezTo>
                <a:cubicBezTo>
                  <a:pt x="21134" y="4290"/>
                  <a:pt x="21132" y="4244"/>
                  <a:pt x="21258" y="4217"/>
                </a:cubicBezTo>
                <a:cubicBezTo>
                  <a:pt x="21340" y="4217"/>
                  <a:pt x="21357" y="4217"/>
                  <a:pt x="21406" y="4217"/>
                </a:cubicBezTo>
              </a:path>
              <a:path w="720" h="3771">
                <a:moveTo>
                  <a:pt x="21134" y="4142"/>
                </a:moveTo>
                <a:cubicBezTo>
                  <a:pt x="21202" y="4156"/>
                  <a:pt x="21257" y="4167"/>
                  <a:pt x="21332" y="4167"/>
                </a:cubicBezTo>
                <a:cubicBezTo>
                  <a:pt x="21340" y="4167"/>
                  <a:pt x="21349" y="4167"/>
                  <a:pt x="21357" y="4167"/>
                </a:cubicBezTo>
                <a:cubicBezTo>
                  <a:pt x="21327" y="4017"/>
                  <a:pt x="21269" y="3982"/>
                  <a:pt x="21134" y="3919"/>
                </a:cubicBezTo>
                <a:cubicBezTo>
                  <a:pt x="21166" y="3897"/>
                  <a:pt x="21297" y="3962"/>
                  <a:pt x="21357" y="3894"/>
                </a:cubicBezTo>
                <a:cubicBezTo>
                  <a:pt x="21357" y="3815"/>
                  <a:pt x="21354" y="3786"/>
                  <a:pt x="21307" y="3746"/>
                </a:cubicBezTo>
              </a:path>
              <a:path w="720" h="3771">
                <a:moveTo>
                  <a:pt x="21158" y="3721"/>
                </a:moveTo>
                <a:cubicBezTo>
                  <a:pt x="21209" y="3727"/>
                  <a:pt x="21256" y="3738"/>
                  <a:pt x="21307" y="3746"/>
                </a:cubicBezTo>
                <a:cubicBezTo>
                  <a:pt x="21242" y="3746"/>
                  <a:pt x="21188" y="3744"/>
                  <a:pt x="21134" y="3721"/>
                </a:cubicBezTo>
                <a:cubicBezTo>
                  <a:pt x="21147" y="3614"/>
                  <a:pt x="21172" y="3567"/>
                  <a:pt x="21307" y="3572"/>
                </a:cubicBezTo>
                <a:cubicBezTo>
                  <a:pt x="21365" y="3591"/>
                  <a:pt x="21371" y="3600"/>
                  <a:pt x="21406" y="3597"/>
                </a:cubicBezTo>
              </a:path>
              <a:path w="720" h="3771">
                <a:moveTo>
                  <a:pt x="21208" y="3324"/>
                </a:moveTo>
                <a:cubicBezTo>
                  <a:pt x="21183" y="3332"/>
                  <a:pt x="21159" y="3341"/>
                  <a:pt x="21134" y="3349"/>
                </a:cubicBezTo>
                <a:cubicBezTo>
                  <a:pt x="21155" y="3476"/>
                  <a:pt x="21221" y="3582"/>
                  <a:pt x="21382" y="3547"/>
                </a:cubicBezTo>
                <a:cubicBezTo>
                  <a:pt x="21454" y="3532"/>
                  <a:pt x="21352" y="3431"/>
                  <a:pt x="21307" y="3373"/>
                </a:cubicBezTo>
              </a:path>
              <a:path w="720" h="3771">
                <a:moveTo>
                  <a:pt x="20935" y="3324"/>
                </a:moveTo>
                <a:cubicBezTo>
                  <a:pt x="21063" y="3324"/>
                  <a:pt x="21181" y="3337"/>
                  <a:pt x="21307" y="3349"/>
                </a:cubicBezTo>
                <a:cubicBezTo>
                  <a:pt x="21349" y="3349"/>
                  <a:pt x="21365" y="3357"/>
                  <a:pt x="21357" y="3324"/>
                </a:cubicBezTo>
              </a:path>
              <a:path w="720" h="3771">
                <a:moveTo>
                  <a:pt x="21134" y="3175"/>
                </a:moveTo>
                <a:cubicBezTo>
                  <a:pt x="21210" y="3191"/>
                  <a:pt x="21293" y="3201"/>
                  <a:pt x="21357" y="3225"/>
                </a:cubicBezTo>
                <a:cubicBezTo>
                  <a:pt x="21298" y="3208"/>
                  <a:pt x="21128" y="3161"/>
                  <a:pt x="21109" y="3125"/>
                </a:cubicBezTo>
                <a:cubicBezTo>
                  <a:pt x="21083" y="3047"/>
                  <a:pt x="21077" y="3020"/>
                  <a:pt x="21134" y="2977"/>
                </a:cubicBezTo>
              </a:path>
              <a:path w="720" h="3771">
                <a:moveTo>
                  <a:pt x="21109" y="2853"/>
                </a:moveTo>
                <a:cubicBezTo>
                  <a:pt x="21101" y="2828"/>
                  <a:pt x="21092" y="2803"/>
                  <a:pt x="21084" y="2778"/>
                </a:cubicBezTo>
                <a:cubicBezTo>
                  <a:pt x="21001" y="2806"/>
                  <a:pt x="21141" y="2948"/>
                  <a:pt x="21183" y="2977"/>
                </a:cubicBezTo>
                <a:cubicBezTo>
                  <a:pt x="21294" y="3053"/>
                  <a:pt x="21311" y="2974"/>
                  <a:pt x="21332" y="2902"/>
                </a:cubicBezTo>
              </a:path>
              <a:path w="720" h="3771">
                <a:moveTo>
                  <a:pt x="20910" y="2530"/>
                </a:moveTo>
                <a:cubicBezTo>
                  <a:pt x="21048" y="2550"/>
                  <a:pt x="21179" y="2600"/>
                  <a:pt x="21307" y="2654"/>
                </a:cubicBezTo>
                <a:cubicBezTo>
                  <a:pt x="21348" y="2674"/>
                  <a:pt x="21364" y="2693"/>
                  <a:pt x="21357" y="2654"/>
                </a:cubicBezTo>
              </a:path>
              <a:path w="720" h="3771">
                <a:moveTo>
                  <a:pt x="20836" y="2232"/>
                </a:moveTo>
                <a:cubicBezTo>
                  <a:pt x="21005" y="2301"/>
                  <a:pt x="21195" y="2350"/>
                  <a:pt x="21357" y="2431"/>
                </a:cubicBezTo>
                <a:cubicBezTo>
                  <a:pt x="21387" y="2461"/>
                  <a:pt x="21389" y="2466"/>
                  <a:pt x="21332" y="2431"/>
                </a:cubicBezTo>
              </a:path>
              <a:path w="720" h="3771">
                <a:moveTo>
                  <a:pt x="21084" y="2555"/>
                </a:moveTo>
                <a:cubicBezTo>
                  <a:pt x="21113" y="2459"/>
                  <a:pt x="21150" y="2312"/>
                  <a:pt x="21059" y="2232"/>
                </a:cubicBezTo>
                <a:cubicBezTo>
                  <a:pt x="21026" y="2216"/>
                  <a:pt x="20993" y="2199"/>
                  <a:pt x="20960" y="2183"/>
                </a:cubicBezTo>
              </a:path>
              <a:path w="720" h="3771">
                <a:moveTo>
                  <a:pt x="20836" y="2133"/>
                </a:moveTo>
                <a:cubicBezTo>
                  <a:pt x="20960" y="2169"/>
                  <a:pt x="21111" y="2210"/>
                  <a:pt x="21233" y="2257"/>
                </a:cubicBezTo>
                <a:cubicBezTo>
                  <a:pt x="21241" y="2265"/>
                  <a:pt x="21250" y="2274"/>
                  <a:pt x="21258" y="2282"/>
                </a:cubicBezTo>
                <a:cubicBezTo>
                  <a:pt x="21173" y="2229"/>
                  <a:pt x="21034" y="2188"/>
                  <a:pt x="20985" y="2084"/>
                </a:cubicBezTo>
                <a:cubicBezTo>
                  <a:pt x="20985" y="2067"/>
                  <a:pt x="20985" y="2051"/>
                  <a:pt x="20985" y="2034"/>
                </a:cubicBezTo>
                <a:cubicBezTo>
                  <a:pt x="21069" y="1988"/>
                  <a:pt x="21317" y="2039"/>
                  <a:pt x="21357" y="2009"/>
                </a:cubicBezTo>
                <a:cubicBezTo>
                  <a:pt x="21349" y="1993"/>
                  <a:pt x="21340" y="1976"/>
                  <a:pt x="21332" y="1960"/>
                </a:cubicBezTo>
              </a:path>
              <a:path w="720" h="3771">
                <a:moveTo>
                  <a:pt x="21034" y="1662"/>
                </a:moveTo>
                <a:cubicBezTo>
                  <a:pt x="21064" y="1732"/>
                  <a:pt x="21090" y="1804"/>
                  <a:pt x="21134" y="1860"/>
                </a:cubicBezTo>
                <a:cubicBezTo>
                  <a:pt x="21147" y="1755"/>
                  <a:pt x="21191" y="1668"/>
                  <a:pt x="21307" y="1637"/>
                </a:cubicBezTo>
                <a:cubicBezTo>
                  <a:pt x="21431" y="1604"/>
                  <a:pt x="21546" y="1708"/>
                  <a:pt x="21506" y="1836"/>
                </a:cubicBezTo>
                <a:cubicBezTo>
                  <a:pt x="21454" y="1914"/>
                  <a:pt x="21433" y="1939"/>
                  <a:pt x="21357" y="19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99240" y="928800"/>
            <a:ext cx="108000" cy="98280"/>
          </a:xfrm>
          <a:custGeom>
            <a:avLst/>
            <a:gdLst/>
            <a:ahLst/>
            <a:rect l="l" t="t" r="r" b="b"/>
            <a:pathLst>
              <a:path w="298" h="274">
                <a:moveTo>
                  <a:pt x="21109" y="2629"/>
                </a:moveTo>
                <a:cubicBezTo>
                  <a:pt x="21127" y="2757"/>
                  <a:pt x="21120" y="2828"/>
                  <a:pt x="21258" y="2853"/>
                </a:cubicBezTo>
                <a:cubicBezTo>
                  <a:pt x="21347" y="2853"/>
                  <a:pt x="21374" y="2860"/>
                  <a:pt x="21406" y="2803"/>
                </a:cubicBezTo>
                <a:cubicBezTo>
                  <a:pt x="21365" y="2638"/>
                  <a:pt x="21331" y="2666"/>
                  <a:pt x="21158" y="25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57120"/>
            <a:ext cx="322200" cy="1616040"/>
          </a:xfrm>
          <a:custGeom>
            <a:avLst/>
            <a:gdLst/>
            <a:ahLst/>
            <a:rect l="l" t="t" r="r" b="b"/>
            <a:pathLst>
              <a:path w="894" h="4491">
                <a:moveTo>
                  <a:pt x="22299" y="4787"/>
                </a:moveTo>
                <a:cubicBezTo>
                  <a:pt x="22287" y="4737"/>
                  <a:pt x="22275" y="4738"/>
                  <a:pt x="22225" y="4738"/>
                </a:cubicBezTo>
                <a:cubicBezTo>
                  <a:pt x="22146" y="4738"/>
                  <a:pt x="22132" y="4706"/>
                  <a:pt x="22051" y="4762"/>
                </a:cubicBezTo>
                <a:cubicBezTo>
                  <a:pt x="22005" y="4794"/>
                  <a:pt x="21948" y="4820"/>
                  <a:pt x="21927" y="4862"/>
                </a:cubicBezTo>
                <a:cubicBezTo>
                  <a:pt x="21899" y="4918"/>
                  <a:pt x="21876" y="4981"/>
                  <a:pt x="21853" y="5035"/>
                </a:cubicBezTo>
                <a:cubicBezTo>
                  <a:pt x="21829" y="5090"/>
                  <a:pt x="21828" y="5126"/>
                  <a:pt x="21828" y="5184"/>
                </a:cubicBezTo>
                <a:cubicBezTo>
                  <a:pt x="21828" y="5231"/>
                  <a:pt x="21866" y="5323"/>
                  <a:pt x="21903" y="5358"/>
                </a:cubicBezTo>
                <a:cubicBezTo>
                  <a:pt x="21953" y="5405"/>
                  <a:pt x="22015" y="5428"/>
                  <a:pt x="22076" y="5457"/>
                </a:cubicBezTo>
                <a:cubicBezTo>
                  <a:pt x="22144" y="5489"/>
                  <a:pt x="22199" y="5482"/>
                  <a:pt x="22275" y="5482"/>
                </a:cubicBezTo>
                <a:cubicBezTo>
                  <a:pt x="22347" y="5482"/>
                  <a:pt x="22385" y="5468"/>
                  <a:pt x="22448" y="5457"/>
                </a:cubicBezTo>
                <a:cubicBezTo>
                  <a:pt x="22517" y="5445"/>
                  <a:pt x="22528" y="5414"/>
                  <a:pt x="22572" y="5383"/>
                </a:cubicBezTo>
                <a:cubicBezTo>
                  <a:pt x="22627" y="5344"/>
                  <a:pt x="22648" y="5318"/>
                  <a:pt x="22671" y="5259"/>
                </a:cubicBezTo>
                <a:cubicBezTo>
                  <a:pt x="22694" y="5199"/>
                  <a:pt x="22696" y="5169"/>
                  <a:pt x="22696" y="5110"/>
                </a:cubicBezTo>
                <a:cubicBezTo>
                  <a:pt x="22696" y="5059"/>
                  <a:pt x="22692" y="4996"/>
                  <a:pt x="22647" y="4961"/>
                </a:cubicBezTo>
                <a:cubicBezTo>
                  <a:pt x="22625" y="4943"/>
                  <a:pt x="22553" y="4899"/>
                  <a:pt x="22523" y="4887"/>
                </a:cubicBezTo>
                <a:cubicBezTo>
                  <a:pt x="22504" y="4880"/>
                  <a:pt x="22438" y="4865"/>
                  <a:pt x="22423" y="4862"/>
                </a:cubicBezTo>
                <a:cubicBezTo>
                  <a:pt x="22363" y="4849"/>
                  <a:pt x="22286" y="4862"/>
                  <a:pt x="22225" y="4862"/>
                </a:cubicBezTo>
              </a:path>
              <a:path w="894" h="4491">
                <a:moveTo>
                  <a:pt x="22051" y="4217"/>
                </a:moveTo>
                <a:cubicBezTo>
                  <a:pt x="22109" y="4294"/>
                  <a:pt x="22316" y="4306"/>
                  <a:pt x="22423" y="4316"/>
                </a:cubicBezTo>
                <a:cubicBezTo>
                  <a:pt x="22498" y="4316"/>
                  <a:pt x="22506" y="4316"/>
                  <a:pt x="22547" y="4316"/>
                </a:cubicBezTo>
              </a:path>
              <a:path w="894" h="4491">
                <a:moveTo>
                  <a:pt x="22349" y="4638"/>
                </a:moveTo>
                <a:cubicBezTo>
                  <a:pt x="22365" y="4541"/>
                  <a:pt x="22380" y="4486"/>
                  <a:pt x="22349" y="4390"/>
                </a:cubicBezTo>
                <a:cubicBezTo>
                  <a:pt x="22326" y="4323"/>
                  <a:pt x="22321" y="4305"/>
                  <a:pt x="22299" y="4266"/>
                </a:cubicBezTo>
              </a:path>
              <a:path w="894" h="4491">
                <a:moveTo>
                  <a:pt x="21977" y="4167"/>
                </a:moveTo>
                <a:cubicBezTo>
                  <a:pt x="22087" y="4112"/>
                  <a:pt x="22224" y="4110"/>
                  <a:pt x="22349" y="4093"/>
                </a:cubicBezTo>
                <a:cubicBezTo>
                  <a:pt x="22357" y="4093"/>
                  <a:pt x="22366" y="4093"/>
                  <a:pt x="22374" y="4093"/>
                </a:cubicBezTo>
                <a:cubicBezTo>
                  <a:pt x="22409" y="4093"/>
                  <a:pt x="22319" y="4067"/>
                  <a:pt x="22275" y="4043"/>
                </a:cubicBezTo>
                <a:cubicBezTo>
                  <a:pt x="22192" y="3997"/>
                  <a:pt x="22171" y="3895"/>
                  <a:pt x="22275" y="3845"/>
                </a:cubicBezTo>
                <a:cubicBezTo>
                  <a:pt x="22366" y="3822"/>
                  <a:pt x="22392" y="3816"/>
                  <a:pt x="22448" y="3795"/>
                </a:cubicBezTo>
              </a:path>
              <a:path w="894" h="4491">
                <a:moveTo>
                  <a:pt x="22225" y="3646"/>
                </a:moveTo>
                <a:cubicBezTo>
                  <a:pt x="22288" y="3702"/>
                  <a:pt x="22319" y="3728"/>
                  <a:pt x="22399" y="3746"/>
                </a:cubicBezTo>
                <a:cubicBezTo>
                  <a:pt x="22431" y="3680"/>
                  <a:pt x="22494" y="3609"/>
                  <a:pt x="22399" y="3572"/>
                </a:cubicBezTo>
                <a:cubicBezTo>
                  <a:pt x="22315" y="3551"/>
                  <a:pt x="22295" y="3535"/>
                  <a:pt x="22250" y="3572"/>
                </a:cubicBezTo>
              </a:path>
              <a:path w="894" h="4491">
                <a:moveTo>
                  <a:pt x="22200" y="3522"/>
                </a:moveTo>
                <a:cubicBezTo>
                  <a:pt x="22239" y="3509"/>
                  <a:pt x="22354" y="3503"/>
                  <a:pt x="22374" y="3473"/>
                </a:cubicBezTo>
                <a:cubicBezTo>
                  <a:pt x="22374" y="3465"/>
                  <a:pt x="22374" y="3456"/>
                  <a:pt x="22374" y="3448"/>
                </a:cubicBezTo>
                <a:cubicBezTo>
                  <a:pt x="22322" y="3389"/>
                  <a:pt x="22275" y="3361"/>
                  <a:pt x="22200" y="3324"/>
                </a:cubicBezTo>
                <a:cubicBezTo>
                  <a:pt x="22270" y="3324"/>
                  <a:pt x="22383" y="3349"/>
                  <a:pt x="22374" y="3249"/>
                </a:cubicBezTo>
                <a:cubicBezTo>
                  <a:pt x="22366" y="3224"/>
                  <a:pt x="22357" y="3200"/>
                  <a:pt x="22349" y="3175"/>
                </a:cubicBezTo>
              </a:path>
              <a:path w="894" h="4491">
                <a:moveTo>
                  <a:pt x="22126" y="3076"/>
                </a:moveTo>
                <a:cubicBezTo>
                  <a:pt x="22183" y="3087"/>
                  <a:pt x="22245" y="2977"/>
                  <a:pt x="22275" y="2977"/>
                </a:cubicBezTo>
                <a:cubicBezTo>
                  <a:pt x="22357" y="2976"/>
                  <a:pt x="22324" y="3076"/>
                  <a:pt x="22324" y="3125"/>
                </a:cubicBezTo>
              </a:path>
              <a:path w="894" h="4491">
                <a:moveTo>
                  <a:pt x="22126" y="2828"/>
                </a:moveTo>
                <a:cubicBezTo>
                  <a:pt x="22126" y="2820"/>
                  <a:pt x="22126" y="2811"/>
                  <a:pt x="22126" y="2803"/>
                </a:cubicBezTo>
                <a:cubicBezTo>
                  <a:pt x="22093" y="2847"/>
                  <a:pt x="22073" y="2922"/>
                  <a:pt x="22151" y="2952"/>
                </a:cubicBezTo>
                <a:cubicBezTo>
                  <a:pt x="22254" y="2992"/>
                  <a:pt x="22330" y="2872"/>
                  <a:pt x="22250" y="2803"/>
                </a:cubicBezTo>
                <a:cubicBezTo>
                  <a:pt x="22233" y="2795"/>
                  <a:pt x="22217" y="2786"/>
                  <a:pt x="22200" y="2778"/>
                </a:cubicBezTo>
                <a:cubicBezTo>
                  <a:pt x="22192" y="2778"/>
                  <a:pt x="22183" y="2778"/>
                  <a:pt x="22175" y="2778"/>
                </a:cubicBezTo>
                <a:cubicBezTo>
                  <a:pt x="22282" y="2778"/>
                  <a:pt x="22270" y="2745"/>
                  <a:pt x="22250" y="2654"/>
                </a:cubicBezTo>
              </a:path>
              <a:path w="894" h="4491">
                <a:moveTo>
                  <a:pt x="22299" y="2604"/>
                </a:moveTo>
                <a:cubicBezTo>
                  <a:pt x="22192" y="2586"/>
                  <a:pt x="22076" y="2565"/>
                  <a:pt x="22126" y="2431"/>
                </a:cubicBezTo>
                <a:cubicBezTo>
                  <a:pt x="22153" y="2359"/>
                  <a:pt x="22273" y="2357"/>
                  <a:pt x="22299" y="2332"/>
                </a:cubicBezTo>
              </a:path>
              <a:path w="894" h="4491">
                <a:moveTo>
                  <a:pt x="22200" y="2034"/>
                </a:moveTo>
                <a:cubicBezTo>
                  <a:pt x="22130" y="2016"/>
                  <a:pt x="22067" y="2024"/>
                  <a:pt x="22076" y="2133"/>
                </a:cubicBezTo>
                <a:cubicBezTo>
                  <a:pt x="22085" y="2243"/>
                  <a:pt x="22199" y="2374"/>
                  <a:pt x="22299" y="2257"/>
                </a:cubicBezTo>
                <a:cubicBezTo>
                  <a:pt x="22376" y="2166"/>
                  <a:pt x="22251" y="2090"/>
                  <a:pt x="22200" y="2034"/>
                </a:cubicBezTo>
              </a:path>
              <a:path w="894" h="4491">
                <a:moveTo>
                  <a:pt x="21803" y="2059"/>
                </a:moveTo>
                <a:cubicBezTo>
                  <a:pt x="21918" y="2040"/>
                  <a:pt x="22033" y="2023"/>
                  <a:pt x="22151" y="2009"/>
                </a:cubicBezTo>
                <a:cubicBezTo>
                  <a:pt x="22175" y="2009"/>
                  <a:pt x="22184" y="2009"/>
                  <a:pt x="22200" y="2009"/>
                </a:cubicBezTo>
              </a:path>
              <a:path w="894" h="4491">
                <a:moveTo>
                  <a:pt x="21803" y="1836"/>
                </a:moveTo>
                <a:cubicBezTo>
                  <a:pt x="21956" y="1802"/>
                  <a:pt x="22093" y="1786"/>
                  <a:pt x="22250" y="1786"/>
                </a:cubicBezTo>
              </a:path>
              <a:path w="894" h="4491">
                <a:moveTo>
                  <a:pt x="21977" y="2009"/>
                </a:moveTo>
                <a:cubicBezTo>
                  <a:pt x="22033" y="1897"/>
                  <a:pt x="22120" y="1765"/>
                  <a:pt x="22051" y="1637"/>
                </a:cubicBezTo>
                <a:cubicBezTo>
                  <a:pt x="21992" y="1607"/>
                  <a:pt x="21966" y="1592"/>
                  <a:pt x="21927" y="1563"/>
                </a:cubicBezTo>
              </a:path>
              <a:path w="894" h="4491">
                <a:moveTo>
                  <a:pt x="21828" y="1563"/>
                </a:moveTo>
                <a:cubicBezTo>
                  <a:pt x="21944" y="1563"/>
                  <a:pt x="22059" y="1563"/>
                  <a:pt x="22175" y="1563"/>
                </a:cubicBezTo>
                <a:cubicBezTo>
                  <a:pt x="22096" y="1563"/>
                  <a:pt x="22062" y="1543"/>
                  <a:pt x="22002" y="1488"/>
                </a:cubicBezTo>
                <a:cubicBezTo>
                  <a:pt x="21939" y="1430"/>
                  <a:pt x="22172" y="1354"/>
                  <a:pt x="22225" y="1339"/>
                </a:cubicBezTo>
                <a:cubicBezTo>
                  <a:pt x="22253" y="1339"/>
                  <a:pt x="22264" y="1337"/>
                  <a:pt x="22275" y="1315"/>
                </a:cubicBezTo>
              </a:path>
              <a:path w="894" h="4491">
                <a:moveTo>
                  <a:pt x="22002" y="1067"/>
                </a:moveTo>
                <a:cubicBezTo>
                  <a:pt x="22016" y="1101"/>
                  <a:pt x="22037" y="1131"/>
                  <a:pt x="22051" y="1166"/>
                </a:cubicBezTo>
                <a:cubicBezTo>
                  <a:pt x="22086" y="1062"/>
                  <a:pt x="22130" y="1036"/>
                  <a:pt x="22225" y="992"/>
                </a:cubicBezTo>
                <a:cubicBezTo>
                  <a:pt x="22310" y="1119"/>
                  <a:pt x="22250" y="1171"/>
                  <a:pt x="22175" y="1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5640" y="1241280"/>
            <a:ext cx="107640" cy="71640"/>
          </a:xfrm>
          <a:custGeom>
            <a:avLst/>
            <a:gdLst/>
            <a:ahLst/>
            <a:rect l="l" t="t" r="r" b="b"/>
            <a:pathLst>
              <a:path w="298" h="199">
                <a:moveTo>
                  <a:pt x="19298" y="3597"/>
                </a:moveTo>
                <a:cubicBezTo>
                  <a:pt x="19341" y="3605"/>
                  <a:pt x="19363" y="3618"/>
                  <a:pt x="19397" y="3646"/>
                </a:cubicBezTo>
              </a:path>
              <a:path w="298" h="199">
                <a:moveTo>
                  <a:pt x="19100" y="3448"/>
                </a:moveTo>
                <a:cubicBezTo>
                  <a:pt x="19108" y="3448"/>
                  <a:pt x="19116" y="3448"/>
                  <a:pt x="19124" y="3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11960" y="857160"/>
            <a:ext cx="714240" cy="1143000"/>
          </a:xfrm>
          <a:custGeom>
            <a:avLst/>
            <a:gdLst/>
            <a:ahLst/>
            <a:rect l="l" t="t" r="r" b="b"/>
            <a:pathLst>
              <a:path w="1985" h="3176">
                <a:moveTo>
                  <a:pt x="19372" y="3398"/>
                </a:moveTo>
                <a:cubicBezTo>
                  <a:pt x="19455" y="3440"/>
                  <a:pt x="19472" y="3448"/>
                  <a:pt x="19521" y="3473"/>
                </a:cubicBezTo>
                <a:cubicBezTo>
                  <a:pt x="19424" y="3431"/>
                  <a:pt x="19353" y="3367"/>
                  <a:pt x="19298" y="3274"/>
                </a:cubicBezTo>
                <a:cubicBezTo>
                  <a:pt x="19230" y="3157"/>
                  <a:pt x="19443" y="3261"/>
                  <a:pt x="19496" y="3274"/>
                </a:cubicBezTo>
                <a:cubicBezTo>
                  <a:pt x="19504" y="3282"/>
                  <a:pt x="19513" y="3291"/>
                  <a:pt x="19521" y="3299"/>
                </a:cubicBezTo>
                <a:cubicBezTo>
                  <a:pt x="19484" y="3238"/>
                  <a:pt x="19422" y="3117"/>
                  <a:pt x="19372" y="3051"/>
                </a:cubicBezTo>
                <a:cubicBezTo>
                  <a:pt x="19364" y="3051"/>
                  <a:pt x="19356" y="3051"/>
                  <a:pt x="19348" y="3051"/>
                </a:cubicBezTo>
                <a:cubicBezTo>
                  <a:pt x="19429" y="2989"/>
                  <a:pt x="19492" y="3090"/>
                  <a:pt x="19571" y="3125"/>
                </a:cubicBezTo>
                <a:cubicBezTo>
                  <a:pt x="19636" y="3154"/>
                  <a:pt x="19610" y="3166"/>
                  <a:pt x="19621" y="3076"/>
                </a:cubicBezTo>
              </a:path>
              <a:path w="1985" h="3176">
                <a:moveTo>
                  <a:pt x="19496" y="2704"/>
                </a:moveTo>
                <a:cubicBezTo>
                  <a:pt x="19485" y="2783"/>
                  <a:pt x="19450" y="2949"/>
                  <a:pt x="19546" y="3001"/>
                </a:cubicBezTo>
                <a:cubicBezTo>
                  <a:pt x="19571" y="3001"/>
                  <a:pt x="19596" y="3001"/>
                  <a:pt x="19621" y="3001"/>
                </a:cubicBezTo>
                <a:cubicBezTo>
                  <a:pt x="19640" y="2902"/>
                  <a:pt x="19637" y="2833"/>
                  <a:pt x="19546" y="2778"/>
                </a:cubicBezTo>
                <a:cubicBezTo>
                  <a:pt x="19578" y="2783"/>
                  <a:pt x="19709" y="2852"/>
                  <a:pt x="19720" y="2803"/>
                </a:cubicBezTo>
                <a:cubicBezTo>
                  <a:pt x="19720" y="2684"/>
                  <a:pt x="19708" y="2636"/>
                  <a:pt x="19621" y="2580"/>
                </a:cubicBezTo>
              </a:path>
              <a:path w="1985" h="3176">
                <a:moveTo>
                  <a:pt x="19273" y="2406"/>
                </a:moveTo>
                <a:cubicBezTo>
                  <a:pt x="19332" y="2347"/>
                  <a:pt x="19508" y="2581"/>
                  <a:pt x="19571" y="2629"/>
                </a:cubicBezTo>
                <a:cubicBezTo>
                  <a:pt x="19638" y="2680"/>
                  <a:pt x="19710" y="2729"/>
                  <a:pt x="19794" y="2729"/>
                </a:cubicBezTo>
              </a:path>
              <a:path w="1985" h="3176">
                <a:moveTo>
                  <a:pt x="19298" y="4614"/>
                </a:moveTo>
                <a:cubicBezTo>
                  <a:pt x="19288" y="4584"/>
                  <a:pt x="19238" y="4562"/>
                  <a:pt x="19199" y="4539"/>
                </a:cubicBezTo>
                <a:cubicBezTo>
                  <a:pt x="19106" y="4483"/>
                  <a:pt x="19093" y="4559"/>
                  <a:pt x="19025" y="4589"/>
                </a:cubicBezTo>
                <a:cubicBezTo>
                  <a:pt x="19008" y="4597"/>
                  <a:pt x="18934" y="4720"/>
                  <a:pt x="18951" y="4762"/>
                </a:cubicBezTo>
                <a:cubicBezTo>
                  <a:pt x="18959" y="4770"/>
                  <a:pt x="18968" y="4779"/>
                  <a:pt x="18976" y="4787"/>
                </a:cubicBezTo>
                <a:cubicBezTo>
                  <a:pt x="19036" y="4797"/>
                  <a:pt x="19129" y="4816"/>
                  <a:pt x="19174" y="4762"/>
                </a:cubicBezTo>
                <a:cubicBezTo>
                  <a:pt x="19208" y="4721"/>
                  <a:pt x="19237" y="4630"/>
                  <a:pt x="19199" y="4589"/>
                </a:cubicBezTo>
                <a:cubicBezTo>
                  <a:pt x="19163" y="4550"/>
                  <a:pt x="19103" y="4526"/>
                  <a:pt x="19075" y="4490"/>
                </a:cubicBezTo>
                <a:cubicBezTo>
                  <a:pt x="19050" y="4458"/>
                  <a:pt x="18966" y="4400"/>
                  <a:pt x="18926" y="4390"/>
                </a:cubicBezTo>
                <a:cubicBezTo>
                  <a:pt x="18874" y="4378"/>
                  <a:pt x="18825" y="4378"/>
                  <a:pt x="18777" y="4366"/>
                </a:cubicBezTo>
                <a:cubicBezTo>
                  <a:pt x="18882" y="4386"/>
                  <a:pt x="18999" y="4428"/>
                  <a:pt x="19100" y="4465"/>
                </a:cubicBezTo>
                <a:cubicBezTo>
                  <a:pt x="19180" y="4494"/>
                  <a:pt x="19293" y="4555"/>
                  <a:pt x="19372" y="4564"/>
                </a:cubicBezTo>
                <a:cubicBezTo>
                  <a:pt x="19407" y="4564"/>
                  <a:pt x="19406" y="4569"/>
                  <a:pt x="19348" y="4589"/>
                </a:cubicBezTo>
              </a:path>
              <a:path w="1985" h="3176">
                <a:moveTo>
                  <a:pt x="18132" y="4911"/>
                </a:moveTo>
                <a:cubicBezTo>
                  <a:pt x="18078" y="4911"/>
                  <a:pt x="17975" y="4892"/>
                  <a:pt x="17934" y="4936"/>
                </a:cubicBezTo>
                <a:cubicBezTo>
                  <a:pt x="17891" y="4983"/>
                  <a:pt x="17825" y="5069"/>
                  <a:pt x="17810" y="5135"/>
                </a:cubicBezTo>
                <a:cubicBezTo>
                  <a:pt x="17795" y="5203"/>
                  <a:pt x="17807" y="5279"/>
                  <a:pt x="17835" y="5333"/>
                </a:cubicBezTo>
                <a:cubicBezTo>
                  <a:pt x="17874" y="5407"/>
                  <a:pt x="17887" y="5465"/>
                  <a:pt x="17959" y="5507"/>
                </a:cubicBezTo>
                <a:cubicBezTo>
                  <a:pt x="18018" y="5542"/>
                  <a:pt x="18114" y="5552"/>
                  <a:pt x="18182" y="5556"/>
                </a:cubicBezTo>
                <a:cubicBezTo>
                  <a:pt x="18247" y="5560"/>
                  <a:pt x="18281" y="5518"/>
                  <a:pt x="18331" y="5507"/>
                </a:cubicBezTo>
                <a:cubicBezTo>
                  <a:pt x="18433" y="5486"/>
                  <a:pt x="18367" y="5464"/>
                  <a:pt x="18455" y="5407"/>
                </a:cubicBezTo>
                <a:cubicBezTo>
                  <a:pt x="18489" y="5385"/>
                  <a:pt x="18520" y="5336"/>
                  <a:pt x="18529" y="5283"/>
                </a:cubicBezTo>
                <a:cubicBezTo>
                  <a:pt x="18543" y="5205"/>
                  <a:pt x="18523" y="5124"/>
                  <a:pt x="18504" y="5060"/>
                </a:cubicBezTo>
                <a:cubicBezTo>
                  <a:pt x="18492" y="5019"/>
                  <a:pt x="18459" y="4969"/>
                  <a:pt x="18430" y="4936"/>
                </a:cubicBezTo>
                <a:cubicBezTo>
                  <a:pt x="18414" y="4918"/>
                  <a:pt x="18354" y="4872"/>
                  <a:pt x="18331" y="4862"/>
                </a:cubicBezTo>
                <a:cubicBezTo>
                  <a:pt x="18290" y="4844"/>
                  <a:pt x="18258" y="4837"/>
                  <a:pt x="18207" y="4837"/>
                </a:cubicBezTo>
                <a:cubicBezTo>
                  <a:pt x="18140" y="4837"/>
                  <a:pt x="18087" y="4851"/>
                  <a:pt x="18033" y="4862"/>
                </a:cubicBezTo>
                <a:cubicBezTo>
                  <a:pt x="18004" y="4868"/>
                  <a:pt x="17926" y="4886"/>
                  <a:pt x="17909" y="4911"/>
                </a:cubicBezTo>
                <a:cubicBezTo>
                  <a:pt x="17909" y="4919"/>
                  <a:pt x="17909" y="4928"/>
                  <a:pt x="17909" y="4936"/>
                </a:cubicBezTo>
              </a:path>
              <a:path w="1985" h="3176">
                <a:moveTo>
                  <a:pt x="18058" y="4043"/>
                </a:moveTo>
                <a:cubicBezTo>
                  <a:pt x="18045" y="4082"/>
                  <a:pt x="18006" y="4172"/>
                  <a:pt x="18033" y="4242"/>
                </a:cubicBezTo>
                <a:cubicBezTo>
                  <a:pt x="18065" y="4326"/>
                  <a:pt x="18213" y="4216"/>
                  <a:pt x="18231" y="4167"/>
                </a:cubicBezTo>
                <a:cubicBezTo>
                  <a:pt x="18266" y="4068"/>
                  <a:pt x="18177" y="4047"/>
                  <a:pt x="18107" y="4043"/>
                </a:cubicBezTo>
                <a:cubicBezTo>
                  <a:pt x="18048" y="4040"/>
                  <a:pt x="18045" y="4045"/>
                  <a:pt x="18033" y="4093"/>
                </a:cubicBezTo>
              </a:path>
              <a:path w="1985" h="3176">
                <a:moveTo>
                  <a:pt x="18008" y="3919"/>
                </a:moveTo>
                <a:cubicBezTo>
                  <a:pt x="18049" y="3933"/>
                  <a:pt x="18091" y="3955"/>
                  <a:pt x="18132" y="3969"/>
                </a:cubicBezTo>
                <a:cubicBezTo>
                  <a:pt x="18075" y="3906"/>
                  <a:pt x="17991" y="3827"/>
                  <a:pt x="17959" y="3746"/>
                </a:cubicBezTo>
                <a:cubicBezTo>
                  <a:pt x="17959" y="3738"/>
                  <a:pt x="17959" y="3729"/>
                  <a:pt x="17959" y="3721"/>
                </a:cubicBezTo>
                <a:cubicBezTo>
                  <a:pt x="17971" y="3685"/>
                  <a:pt x="18031" y="3662"/>
                  <a:pt x="18083" y="3671"/>
                </a:cubicBezTo>
                <a:cubicBezTo>
                  <a:pt x="18135" y="3680"/>
                  <a:pt x="18226" y="3756"/>
                  <a:pt x="18231" y="3721"/>
                </a:cubicBezTo>
                <a:cubicBezTo>
                  <a:pt x="18231" y="3713"/>
                  <a:pt x="18231" y="3704"/>
                  <a:pt x="18231" y="3696"/>
                </a:cubicBezTo>
              </a:path>
              <a:path w="1985" h="3176">
                <a:moveTo>
                  <a:pt x="18132" y="3572"/>
                </a:moveTo>
                <a:cubicBezTo>
                  <a:pt x="18132" y="3501"/>
                  <a:pt x="18106" y="3482"/>
                  <a:pt x="18083" y="3423"/>
                </a:cubicBezTo>
                <a:cubicBezTo>
                  <a:pt x="18070" y="3389"/>
                  <a:pt x="18077" y="3398"/>
                  <a:pt x="18033" y="3398"/>
                </a:cubicBezTo>
                <a:cubicBezTo>
                  <a:pt x="18040" y="3461"/>
                  <a:pt x="18054" y="3574"/>
                  <a:pt x="18107" y="3621"/>
                </a:cubicBezTo>
                <a:cubicBezTo>
                  <a:pt x="18189" y="3694"/>
                  <a:pt x="18253" y="3533"/>
                  <a:pt x="18256" y="3497"/>
                </a:cubicBezTo>
                <a:cubicBezTo>
                  <a:pt x="18256" y="3422"/>
                  <a:pt x="18256" y="3396"/>
                  <a:pt x="18231" y="3349"/>
                </a:cubicBezTo>
              </a:path>
              <a:path w="1985" h="3176">
                <a:moveTo>
                  <a:pt x="18107" y="3150"/>
                </a:moveTo>
                <a:cubicBezTo>
                  <a:pt x="18107" y="3192"/>
                  <a:pt x="18107" y="3200"/>
                  <a:pt x="18107" y="3225"/>
                </a:cubicBezTo>
                <a:cubicBezTo>
                  <a:pt x="18163" y="3157"/>
                  <a:pt x="18200" y="3079"/>
                  <a:pt x="18306" y="3101"/>
                </a:cubicBezTo>
                <a:cubicBezTo>
                  <a:pt x="18381" y="3116"/>
                  <a:pt x="18398" y="3210"/>
                  <a:pt x="18380" y="3274"/>
                </a:cubicBezTo>
                <a:cubicBezTo>
                  <a:pt x="18363" y="3333"/>
                  <a:pt x="18309" y="3385"/>
                  <a:pt x="18256" y="3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9200" y="1241280"/>
            <a:ext cx="322200" cy="839880"/>
          </a:xfrm>
          <a:custGeom>
            <a:avLst/>
            <a:gdLst/>
            <a:ahLst/>
            <a:rect l="l" t="t" r="r" b="b"/>
            <a:pathLst>
              <a:path w="894" h="2332">
                <a:moveTo>
                  <a:pt x="16991" y="4986"/>
                </a:moveTo>
                <a:cubicBezTo>
                  <a:pt x="16929" y="4986"/>
                  <a:pt x="16892" y="4994"/>
                  <a:pt x="16842" y="5011"/>
                </a:cubicBezTo>
                <a:cubicBezTo>
                  <a:pt x="16764" y="5037"/>
                  <a:pt x="16745" y="5048"/>
                  <a:pt x="16694" y="5110"/>
                </a:cubicBezTo>
                <a:cubicBezTo>
                  <a:pt x="16634" y="5183"/>
                  <a:pt x="16619" y="5172"/>
                  <a:pt x="16594" y="5283"/>
                </a:cubicBezTo>
                <a:cubicBezTo>
                  <a:pt x="16574" y="5372"/>
                  <a:pt x="16577" y="5389"/>
                  <a:pt x="16594" y="5482"/>
                </a:cubicBezTo>
                <a:cubicBezTo>
                  <a:pt x="16610" y="5571"/>
                  <a:pt x="16644" y="5588"/>
                  <a:pt x="16694" y="5655"/>
                </a:cubicBezTo>
                <a:cubicBezTo>
                  <a:pt x="16754" y="5735"/>
                  <a:pt x="16789" y="5775"/>
                  <a:pt x="16892" y="5779"/>
                </a:cubicBezTo>
                <a:cubicBezTo>
                  <a:pt x="16975" y="5783"/>
                  <a:pt x="17072" y="5758"/>
                  <a:pt x="17140" y="5705"/>
                </a:cubicBezTo>
                <a:cubicBezTo>
                  <a:pt x="17231" y="5634"/>
                  <a:pt x="17266" y="5585"/>
                  <a:pt x="17314" y="5482"/>
                </a:cubicBezTo>
                <a:cubicBezTo>
                  <a:pt x="17340" y="5425"/>
                  <a:pt x="17383" y="5349"/>
                  <a:pt x="17363" y="5283"/>
                </a:cubicBezTo>
                <a:cubicBezTo>
                  <a:pt x="17350" y="5239"/>
                  <a:pt x="17330" y="5185"/>
                  <a:pt x="17289" y="5159"/>
                </a:cubicBezTo>
                <a:cubicBezTo>
                  <a:pt x="17234" y="5125"/>
                  <a:pt x="17203" y="5089"/>
                  <a:pt x="17140" y="5085"/>
                </a:cubicBezTo>
                <a:cubicBezTo>
                  <a:pt x="17074" y="5081"/>
                  <a:pt x="17008" y="5085"/>
                  <a:pt x="16942" y="5085"/>
                </a:cubicBezTo>
              </a:path>
              <a:path w="894" h="2332">
                <a:moveTo>
                  <a:pt x="16470" y="4465"/>
                </a:moveTo>
                <a:cubicBezTo>
                  <a:pt x="16590" y="4485"/>
                  <a:pt x="16724" y="4505"/>
                  <a:pt x="16842" y="4539"/>
                </a:cubicBezTo>
                <a:cubicBezTo>
                  <a:pt x="16859" y="4547"/>
                  <a:pt x="16875" y="4556"/>
                  <a:pt x="16892" y="4564"/>
                </a:cubicBezTo>
              </a:path>
              <a:path w="894" h="2332">
                <a:moveTo>
                  <a:pt x="16570" y="4837"/>
                </a:moveTo>
                <a:cubicBezTo>
                  <a:pt x="16612" y="4709"/>
                  <a:pt x="16619" y="4601"/>
                  <a:pt x="16619" y="4465"/>
                </a:cubicBezTo>
                <a:cubicBezTo>
                  <a:pt x="16619" y="4457"/>
                  <a:pt x="16619" y="4448"/>
                  <a:pt x="16619" y="4440"/>
                </a:cubicBezTo>
              </a:path>
              <a:path w="894" h="2332">
                <a:moveTo>
                  <a:pt x="16669" y="4366"/>
                </a:moveTo>
                <a:cubicBezTo>
                  <a:pt x="16663" y="4282"/>
                  <a:pt x="16637" y="4214"/>
                  <a:pt x="16619" y="4142"/>
                </a:cubicBezTo>
                <a:cubicBezTo>
                  <a:pt x="16502" y="4142"/>
                  <a:pt x="16589" y="4283"/>
                  <a:pt x="16619" y="4341"/>
                </a:cubicBezTo>
                <a:cubicBezTo>
                  <a:pt x="16627" y="4349"/>
                  <a:pt x="16636" y="4358"/>
                  <a:pt x="16644" y="4366"/>
                </a:cubicBezTo>
                <a:cubicBezTo>
                  <a:pt x="16746" y="4343"/>
                  <a:pt x="16849" y="4299"/>
                  <a:pt x="16818" y="4167"/>
                </a:cubicBezTo>
                <a:cubicBezTo>
                  <a:pt x="16791" y="4051"/>
                  <a:pt x="16706" y="4068"/>
                  <a:pt x="16793" y="4068"/>
                </a:cubicBezTo>
                <a:cubicBezTo>
                  <a:pt x="16801" y="4068"/>
                  <a:pt x="16810" y="4068"/>
                  <a:pt x="16818" y="4068"/>
                </a:cubicBezTo>
                <a:cubicBezTo>
                  <a:pt x="16741" y="4053"/>
                  <a:pt x="16690" y="3999"/>
                  <a:pt x="16669" y="3919"/>
                </a:cubicBezTo>
                <a:cubicBezTo>
                  <a:pt x="16637" y="3797"/>
                  <a:pt x="16723" y="3799"/>
                  <a:pt x="16818" y="3795"/>
                </a:cubicBezTo>
                <a:cubicBezTo>
                  <a:pt x="16904" y="3791"/>
                  <a:pt x="16926" y="3865"/>
                  <a:pt x="16942" y="3770"/>
                </a:cubicBezTo>
              </a:path>
              <a:path w="894" h="2332">
                <a:moveTo>
                  <a:pt x="16694" y="3522"/>
                </a:moveTo>
                <a:cubicBezTo>
                  <a:pt x="16694" y="3580"/>
                  <a:pt x="16694" y="3588"/>
                  <a:pt x="16694" y="3621"/>
                </a:cubicBezTo>
                <a:cubicBezTo>
                  <a:pt x="16764" y="3581"/>
                  <a:pt x="16862" y="3448"/>
                  <a:pt x="16966" y="3448"/>
                </a:cubicBezTo>
                <a:cubicBezTo>
                  <a:pt x="17147" y="3448"/>
                  <a:pt x="16978" y="3685"/>
                  <a:pt x="16942" y="37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1920" y="2170080"/>
            <a:ext cx="1017360" cy="81000"/>
          </a:xfrm>
          <a:custGeom>
            <a:avLst/>
            <a:gdLst/>
            <a:ahLst/>
            <a:rect l="l" t="t" r="r" b="b"/>
            <a:pathLst>
              <a:path w="2829" h="224">
                <a:moveTo>
                  <a:pt x="19670" y="6052"/>
                </a:moveTo>
                <a:cubicBezTo>
                  <a:pt x="19778" y="6031"/>
                  <a:pt x="19832" y="6030"/>
                  <a:pt x="19943" y="6052"/>
                </a:cubicBezTo>
                <a:cubicBezTo>
                  <a:pt x="20238" y="6111"/>
                  <a:pt x="20538" y="6139"/>
                  <a:pt x="20836" y="6176"/>
                </a:cubicBezTo>
                <a:cubicBezTo>
                  <a:pt x="21026" y="6200"/>
                  <a:pt x="21218" y="6201"/>
                  <a:pt x="21406" y="6226"/>
                </a:cubicBezTo>
                <a:cubicBezTo>
                  <a:pt x="21574" y="6249"/>
                  <a:pt x="21733" y="6251"/>
                  <a:pt x="21903" y="6251"/>
                </a:cubicBezTo>
                <a:cubicBezTo>
                  <a:pt x="22048" y="6251"/>
                  <a:pt x="22232" y="6254"/>
                  <a:pt x="22374" y="6226"/>
                </a:cubicBezTo>
                <a:cubicBezTo>
                  <a:pt x="22419" y="6217"/>
                  <a:pt x="22450" y="6205"/>
                  <a:pt x="22498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84800" y="459900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2204" y="12774"/>
                </a:moveTo>
                <a:cubicBezTo>
                  <a:pt x="12196" y="12782"/>
                  <a:pt x="12187" y="12791"/>
                  <a:pt x="12179" y="12799"/>
                </a:cubicBezTo>
              </a:path>
              <a:path w="26" h="26">
                <a:moveTo>
                  <a:pt x="12204" y="12774"/>
                </a:moveTo>
                <a:lnTo>
                  <a:pt x="12204" y="12774"/>
                </a:lnTo>
              </a:path>
              <a:path w="26" h="26">
                <a:moveTo>
                  <a:pt x="12204" y="12774"/>
                </a:moveTo>
                <a:lnTo>
                  <a:pt x="12204" y="12774"/>
                </a:lnTo>
              </a:path>
              <a:path w="26" h="26">
                <a:moveTo>
                  <a:pt x="12179" y="12774"/>
                </a:moveTo>
                <a:lnTo>
                  <a:pt x="12179" y="1277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 denominator is not a 10, 100, 1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you can multiply the fraction to make it a 10 or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7/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5240" y="4768920"/>
            <a:ext cx="519120" cy="303120"/>
          </a:xfrm>
          <a:custGeom>
            <a:avLst/>
            <a:gdLst/>
            <a:ahLst/>
            <a:rect l="l" t="t" r="r" b="b"/>
            <a:pathLst>
              <a:path w="1439" h="844">
                <a:moveTo>
                  <a:pt x="17711" y="14089"/>
                </a:moveTo>
                <a:cubicBezTo>
                  <a:pt x="17820" y="14070"/>
                  <a:pt x="17926" y="14057"/>
                  <a:pt x="18033" y="14039"/>
                </a:cubicBezTo>
              </a:path>
              <a:path w="1439" h="844">
                <a:moveTo>
                  <a:pt x="19149" y="13246"/>
                </a:moveTo>
                <a:lnTo>
                  <a:pt x="19149" y="13246"/>
                </a:lnTo>
                <a:lnTo>
                  <a:pt x="19149" y="13246"/>
                </a:lnTo>
                <a:lnTo>
                  <a:pt x="19149" y="1324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4268880"/>
            <a:ext cx="4224240" cy="1339920"/>
          </a:xfrm>
          <a:custGeom>
            <a:avLst/>
            <a:gdLst/>
            <a:ahLst/>
            <a:rect l="l" t="t" r="r" b="b"/>
            <a:pathLst>
              <a:path w="11733" h="3721">
                <a:moveTo>
                  <a:pt x="9996" y="12824"/>
                </a:moveTo>
                <a:cubicBezTo>
                  <a:pt x="10003" y="12830"/>
                  <a:pt x="10031" y="12893"/>
                  <a:pt x="10071" y="12973"/>
                </a:cubicBezTo>
                <a:cubicBezTo>
                  <a:pt x="10111" y="12780"/>
                  <a:pt x="10066" y="12738"/>
                  <a:pt x="10269" y="12725"/>
                </a:cubicBezTo>
                <a:cubicBezTo>
                  <a:pt x="10430" y="12715"/>
                  <a:pt x="10585" y="12758"/>
                  <a:pt x="10740" y="12774"/>
                </a:cubicBezTo>
                <a:cubicBezTo>
                  <a:pt x="10802" y="12774"/>
                  <a:pt x="10817" y="12783"/>
                  <a:pt x="10840" y="12750"/>
                </a:cubicBezTo>
                <a:cubicBezTo>
                  <a:pt x="10763" y="13005"/>
                  <a:pt x="10683" y="13269"/>
                  <a:pt x="10592" y="13519"/>
                </a:cubicBezTo>
                <a:cubicBezTo>
                  <a:pt x="10555" y="13592"/>
                  <a:pt x="10538" y="13597"/>
                  <a:pt x="10542" y="13643"/>
                </a:cubicBezTo>
              </a:path>
              <a:path w="11733" h="3721">
                <a:moveTo>
                  <a:pt x="9451" y="13866"/>
                </a:moveTo>
                <a:cubicBezTo>
                  <a:pt x="9891" y="13825"/>
                  <a:pt x="10323" y="13816"/>
                  <a:pt x="10765" y="13816"/>
                </a:cubicBezTo>
                <a:cubicBezTo>
                  <a:pt x="10964" y="13816"/>
                  <a:pt x="11000" y="13804"/>
                  <a:pt x="11112" y="13841"/>
                </a:cubicBezTo>
              </a:path>
              <a:path w="11733" h="3721">
                <a:moveTo>
                  <a:pt x="9575" y="14213"/>
                </a:moveTo>
                <a:cubicBezTo>
                  <a:pt x="9779" y="14116"/>
                  <a:pt x="10060" y="14108"/>
                  <a:pt x="10021" y="14461"/>
                </a:cubicBezTo>
                <a:cubicBezTo>
                  <a:pt x="9984" y="14801"/>
                  <a:pt x="9649" y="14987"/>
                  <a:pt x="9376" y="15081"/>
                </a:cubicBezTo>
                <a:cubicBezTo>
                  <a:pt x="9300" y="14886"/>
                  <a:pt x="9361" y="14665"/>
                  <a:pt x="9649" y="14660"/>
                </a:cubicBezTo>
                <a:cubicBezTo>
                  <a:pt x="9898" y="14655"/>
                  <a:pt x="9941" y="15102"/>
                  <a:pt x="9971" y="15106"/>
                </a:cubicBezTo>
                <a:cubicBezTo>
                  <a:pt x="9971" y="15165"/>
                  <a:pt x="9978" y="15140"/>
                  <a:pt x="9996" y="15007"/>
                </a:cubicBezTo>
              </a:path>
              <a:path w="11733" h="3721">
                <a:moveTo>
                  <a:pt x="10592" y="14213"/>
                </a:moveTo>
                <a:cubicBezTo>
                  <a:pt x="10579" y="14174"/>
                  <a:pt x="10444" y="14169"/>
                  <a:pt x="10393" y="14163"/>
                </a:cubicBezTo>
                <a:cubicBezTo>
                  <a:pt x="10316" y="14154"/>
                  <a:pt x="10290" y="14416"/>
                  <a:pt x="10269" y="14486"/>
                </a:cubicBezTo>
                <a:cubicBezTo>
                  <a:pt x="10269" y="14511"/>
                  <a:pt x="10269" y="14535"/>
                  <a:pt x="10269" y="14560"/>
                </a:cubicBezTo>
                <a:cubicBezTo>
                  <a:pt x="10358" y="14516"/>
                  <a:pt x="10488" y="14401"/>
                  <a:pt x="10616" y="14461"/>
                </a:cubicBezTo>
                <a:cubicBezTo>
                  <a:pt x="10854" y="14573"/>
                  <a:pt x="10722" y="14897"/>
                  <a:pt x="10542" y="14982"/>
                </a:cubicBezTo>
                <a:cubicBezTo>
                  <a:pt x="10428" y="15036"/>
                  <a:pt x="10166" y="15064"/>
                  <a:pt x="10244" y="14908"/>
                </a:cubicBezTo>
              </a:path>
              <a:path w="11733" h="3721">
                <a:moveTo>
                  <a:pt x="11534" y="13791"/>
                </a:moveTo>
                <a:cubicBezTo>
                  <a:pt x="11534" y="13783"/>
                  <a:pt x="11534" y="13775"/>
                  <a:pt x="11534" y="13767"/>
                </a:cubicBezTo>
                <a:cubicBezTo>
                  <a:pt x="11586" y="13806"/>
                  <a:pt x="11621" y="13916"/>
                  <a:pt x="11658" y="13990"/>
                </a:cubicBezTo>
                <a:cubicBezTo>
                  <a:pt x="11666" y="14006"/>
                  <a:pt x="11675" y="14023"/>
                  <a:pt x="11683" y="14039"/>
                </a:cubicBezTo>
              </a:path>
              <a:path w="11733" h="3721">
                <a:moveTo>
                  <a:pt x="11733" y="13692"/>
                </a:moveTo>
                <a:cubicBezTo>
                  <a:pt x="11650" y="13803"/>
                  <a:pt x="11570" y="13943"/>
                  <a:pt x="11509" y="14064"/>
                </a:cubicBezTo>
                <a:cubicBezTo>
                  <a:pt x="11509" y="14072"/>
                  <a:pt x="11509" y="14081"/>
                  <a:pt x="11509" y="14089"/>
                </a:cubicBezTo>
              </a:path>
              <a:path w="11733" h="3721">
                <a:moveTo>
                  <a:pt x="13915" y="13816"/>
                </a:moveTo>
                <a:cubicBezTo>
                  <a:pt x="14050" y="13816"/>
                  <a:pt x="14178" y="13835"/>
                  <a:pt x="14312" y="13841"/>
                </a:cubicBezTo>
                <a:cubicBezTo>
                  <a:pt x="14320" y="13841"/>
                  <a:pt x="14329" y="13841"/>
                  <a:pt x="14337" y="13841"/>
                </a:cubicBezTo>
              </a:path>
              <a:path w="11733" h="3721">
                <a:moveTo>
                  <a:pt x="14064" y="13990"/>
                </a:moveTo>
                <a:cubicBezTo>
                  <a:pt x="14189" y="13999"/>
                  <a:pt x="14309" y="14015"/>
                  <a:pt x="14436" y="14015"/>
                </a:cubicBezTo>
              </a:path>
              <a:path w="11733" h="3721">
                <a:moveTo>
                  <a:pt x="15106" y="13866"/>
                </a:moveTo>
                <a:cubicBezTo>
                  <a:pt x="15529" y="13866"/>
                  <a:pt x="15949" y="13866"/>
                  <a:pt x="16371" y="13891"/>
                </a:cubicBezTo>
                <a:cubicBezTo>
                  <a:pt x="16628" y="13910"/>
                  <a:pt x="16669" y="13918"/>
                  <a:pt x="16818" y="13915"/>
                </a:cubicBezTo>
              </a:path>
              <a:path w="11733" h="3721">
                <a:moveTo>
                  <a:pt x="15180" y="14089"/>
                </a:moveTo>
                <a:cubicBezTo>
                  <a:pt x="15155" y="14321"/>
                  <a:pt x="15101" y="14537"/>
                  <a:pt x="15032" y="14759"/>
                </a:cubicBezTo>
                <a:cubicBezTo>
                  <a:pt x="14992" y="14888"/>
                  <a:pt x="14888" y="15008"/>
                  <a:pt x="15032" y="14883"/>
                </a:cubicBezTo>
              </a:path>
              <a:path w="11733" h="3721">
                <a:moveTo>
                  <a:pt x="15627" y="14188"/>
                </a:moveTo>
                <a:cubicBezTo>
                  <a:pt x="15392" y="14412"/>
                  <a:pt x="15291" y="14542"/>
                  <a:pt x="15280" y="14858"/>
                </a:cubicBezTo>
                <a:cubicBezTo>
                  <a:pt x="15563" y="14942"/>
                  <a:pt x="15914" y="14934"/>
                  <a:pt x="15974" y="14536"/>
                </a:cubicBezTo>
                <a:cubicBezTo>
                  <a:pt x="16009" y="14302"/>
                  <a:pt x="15761" y="14245"/>
                  <a:pt x="15701" y="14188"/>
                </a:cubicBezTo>
              </a:path>
              <a:path w="11733" h="3721">
                <a:moveTo>
                  <a:pt x="16421" y="14213"/>
                </a:moveTo>
                <a:cubicBezTo>
                  <a:pt x="16261" y="14304"/>
                  <a:pt x="16183" y="14518"/>
                  <a:pt x="16197" y="14709"/>
                </a:cubicBezTo>
                <a:cubicBezTo>
                  <a:pt x="16214" y="14945"/>
                  <a:pt x="16516" y="14978"/>
                  <a:pt x="16644" y="14808"/>
                </a:cubicBezTo>
                <a:cubicBezTo>
                  <a:pt x="16771" y="14638"/>
                  <a:pt x="16772" y="14304"/>
                  <a:pt x="16545" y="14213"/>
                </a:cubicBezTo>
                <a:cubicBezTo>
                  <a:pt x="16453" y="14213"/>
                  <a:pt x="16426" y="14211"/>
                  <a:pt x="16371" y="14238"/>
                </a:cubicBezTo>
              </a:path>
              <a:path w="11733" h="3721">
                <a:moveTo>
                  <a:pt x="12477" y="13965"/>
                </a:moveTo>
                <a:cubicBezTo>
                  <a:pt x="12456" y="13924"/>
                  <a:pt x="12414" y="14046"/>
                  <a:pt x="12378" y="14089"/>
                </a:cubicBezTo>
                <a:cubicBezTo>
                  <a:pt x="12370" y="14097"/>
                  <a:pt x="12361" y="14106"/>
                  <a:pt x="12353" y="14114"/>
                </a:cubicBezTo>
                <a:cubicBezTo>
                  <a:pt x="12436" y="14114"/>
                  <a:pt x="12530" y="14119"/>
                  <a:pt x="12576" y="14139"/>
                </a:cubicBezTo>
                <a:cubicBezTo>
                  <a:pt x="12584" y="14139"/>
                  <a:pt x="12593" y="14139"/>
                  <a:pt x="12601" y="14139"/>
                </a:cubicBezTo>
              </a:path>
              <a:path w="11733" h="3721">
                <a:moveTo>
                  <a:pt x="12650" y="13891"/>
                </a:moveTo>
                <a:cubicBezTo>
                  <a:pt x="12650" y="13816"/>
                  <a:pt x="12635" y="13990"/>
                  <a:pt x="12626" y="14064"/>
                </a:cubicBezTo>
                <a:cubicBezTo>
                  <a:pt x="12607" y="14217"/>
                  <a:pt x="12580" y="14365"/>
                  <a:pt x="12551" y="14511"/>
                </a:cubicBezTo>
              </a:path>
              <a:path w="11733" h="3721">
                <a:moveTo>
                  <a:pt x="12278" y="13643"/>
                </a:moveTo>
                <a:cubicBezTo>
                  <a:pt x="12400" y="13623"/>
                  <a:pt x="12525" y="13582"/>
                  <a:pt x="12650" y="13568"/>
                </a:cubicBezTo>
                <a:cubicBezTo>
                  <a:pt x="12708" y="13568"/>
                  <a:pt x="12717" y="13568"/>
                  <a:pt x="12750" y="13568"/>
                </a:cubicBezTo>
              </a:path>
              <a:path w="11733" h="3721">
                <a:moveTo>
                  <a:pt x="12576" y="13047"/>
                </a:moveTo>
                <a:cubicBezTo>
                  <a:pt x="12576" y="13022"/>
                  <a:pt x="12576" y="13014"/>
                  <a:pt x="12576" y="12998"/>
                </a:cubicBezTo>
                <a:cubicBezTo>
                  <a:pt x="12576" y="13073"/>
                  <a:pt x="12534" y="13130"/>
                  <a:pt x="12502" y="13196"/>
                </a:cubicBezTo>
                <a:cubicBezTo>
                  <a:pt x="12596" y="13196"/>
                  <a:pt x="12710" y="13236"/>
                  <a:pt x="12725" y="13146"/>
                </a:cubicBezTo>
              </a:path>
              <a:path w="11733" h="3721">
                <a:moveTo>
                  <a:pt x="12750" y="12849"/>
                </a:moveTo>
                <a:cubicBezTo>
                  <a:pt x="12687" y="12933"/>
                  <a:pt x="12683" y="13119"/>
                  <a:pt x="12675" y="13221"/>
                </a:cubicBezTo>
                <a:cubicBezTo>
                  <a:pt x="12675" y="13320"/>
                  <a:pt x="12675" y="13337"/>
                  <a:pt x="12675" y="13395"/>
                </a:cubicBezTo>
              </a:path>
              <a:path w="11733" h="3721">
                <a:moveTo>
                  <a:pt x="12179" y="12650"/>
                </a:moveTo>
                <a:cubicBezTo>
                  <a:pt x="12179" y="12861"/>
                  <a:pt x="12139" y="13061"/>
                  <a:pt x="12129" y="13271"/>
                </a:cubicBezTo>
                <a:cubicBezTo>
                  <a:pt x="12115" y="13568"/>
                  <a:pt x="12102" y="13867"/>
                  <a:pt x="12080" y="14163"/>
                </a:cubicBezTo>
                <a:cubicBezTo>
                  <a:pt x="12066" y="14347"/>
                  <a:pt x="12025" y="14527"/>
                  <a:pt x="12005" y="14709"/>
                </a:cubicBezTo>
                <a:cubicBezTo>
                  <a:pt x="12005" y="14726"/>
                  <a:pt x="12005" y="14742"/>
                  <a:pt x="12005" y="14759"/>
                </a:cubicBezTo>
                <a:cubicBezTo>
                  <a:pt x="12159" y="14749"/>
                  <a:pt x="12299" y="14706"/>
                  <a:pt x="12452" y="14684"/>
                </a:cubicBezTo>
                <a:cubicBezTo>
                  <a:pt x="12716" y="14646"/>
                  <a:pt x="12980" y="14635"/>
                  <a:pt x="13246" y="14635"/>
                </a:cubicBezTo>
                <a:cubicBezTo>
                  <a:pt x="13287" y="14635"/>
                  <a:pt x="13295" y="14635"/>
                  <a:pt x="13320" y="14635"/>
                </a:cubicBezTo>
                <a:cubicBezTo>
                  <a:pt x="13320" y="14416"/>
                  <a:pt x="13343" y="14208"/>
                  <a:pt x="13370" y="13990"/>
                </a:cubicBezTo>
                <a:cubicBezTo>
                  <a:pt x="13399" y="13758"/>
                  <a:pt x="13440" y="13529"/>
                  <a:pt x="13444" y="13295"/>
                </a:cubicBezTo>
                <a:cubicBezTo>
                  <a:pt x="13447" y="13110"/>
                  <a:pt x="13423" y="12933"/>
                  <a:pt x="13419" y="12750"/>
                </a:cubicBezTo>
                <a:cubicBezTo>
                  <a:pt x="13415" y="12592"/>
                  <a:pt x="13420" y="12410"/>
                  <a:pt x="13395" y="12254"/>
                </a:cubicBezTo>
                <a:cubicBezTo>
                  <a:pt x="13385" y="12189"/>
                  <a:pt x="13387" y="12093"/>
                  <a:pt x="13370" y="12030"/>
                </a:cubicBezTo>
                <a:cubicBezTo>
                  <a:pt x="13357" y="11981"/>
                  <a:pt x="13332" y="11931"/>
                  <a:pt x="13320" y="11881"/>
                </a:cubicBezTo>
                <a:cubicBezTo>
                  <a:pt x="13232" y="11895"/>
                  <a:pt x="13214" y="11869"/>
                  <a:pt x="13097" y="11956"/>
                </a:cubicBezTo>
                <a:cubicBezTo>
                  <a:pt x="12919" y="12090"/>
                  <a:pt x="12768" y="12233"/>
                  <a:pt x="12601" y="12378"/>
                </a:cubicBezTo>
                <a:cubicBezTo>
                  <a:pt x="12460" y="12500"/>
                  <a:pt x="12325" y="12635"/>
                  <a:pt x="12179" y="12750"/>
                </a:cubicBezTo>
                <a:cubicBezTo>
                  <a:pt x="12079" y="12828"/>
                  <a:pt x="11965" y="12902"/>
                  <a:pt x="11881" y="12998"/>
                </a:cubicBezTo>
                <a:cubicBezTo>
                  <a:pt x="11818" y="13070"/>
                  <a:pt x="11768" y="13149"/>
                  <a:pt x="11708" y="13221"/>
                </a:cubicBezTo>
                <a:cubicBezTo>
                  <a:pt x="11683" y="13246"/>
                  <a:pt x="11675" y="13254"/>
                  <a:pt x="11658" y="13271"/>
                </a:cubicBezTo>
                <a:cubicBezTo>
                  <a:pt x="11792" y="13265"/>
                  <a:pt x="11921" y="13250"/>
                  <a:pt x="12055" y="13246"/>
                </a:cubicBezTo>
                <a:cubicBezTo>
                  <a:pt x="12096" y="13245"/>
                  <a:pt x="12138" y="13246"/>
                  <a:pt x="12179" y="13246"/>
                </a:cubicBezTo>
              </a:path>
              <a:path w="11733" h="3721">
                <a:moveTo>
                  <a:pt x="10592" y="15280"/>
                </a:moveTo>
                <a:cubicBezTo>
                  <a:pt x="10678" y="15236"/>
                  <a:pt x="10653" y="15270"/>
                  <a:pt x="10666" y="15453"/>
                </a:cubicBezTo>
                <a:cubicBezTo>
                  <a:pt x="10666" y="15486"/>
                  <a:pt x="10666" y="15520"/>
                  <a:pt x="10666" y="15553"/>
                </a:cubicBezTo>
                <a:cubicBezTo>
                  <a:pt x="10815" y="15574"/>
                  <a:pt x="10950" y="15543"/>
                  <a:pt x="11112" y="15528"/>
                </a:cubicBezTo>
                <a:cubicBezTo>
                  <a:pt x="11691" y="15476"/>
                  <a:pt x="12269" y="15481"/>
                  <a:pt x="12849" y="15453"/>
                </a:cubicBezTo>
                <a:cubicBezTo>
                  <a:pt x="13239" y="15434"/>
                  <a:pt x="13624" y="15404"/>
                  <a:pt x="14015" y="15404"/>
                </a:cubicBezTo>
                <a:cubicBezTo>
                  <a:pt x="14173" y="15404"/>
                  <a:pt x="14170" y="15428"/>
                  <a:pt x="14288" y="15304"/>
                </a:cubicBezTo>
                <a:cubicBezTo>
                  <a:pt x="14417" y="15153"/>
                  <a:pt x="14446" y="15116"/>
                  <a:pt x="14536" y="15032"/>
                </a:cubicBezTo>
              </a:path>
              <a:path w="11733" h="3721">
                <a:moveTo>
                  <a:pt x="15478" y="12898"/>
                </a:moveTo>
                <a:cubicBezTo>
                  <a:pt x="15478" y="12949"/>
                  <a:pt x="15556" y="12768"/>
                  <a:pt x="15577" y="12750"/>
                </a:cubicBezTo>
                <a:cubicBezTo>
                  <a:pt x="15610" y="12733"/>
                  <a:pt x="15644" y="12717"/>
                  <a:pt x="15677" y="12700"/>
                </a:cubicBezTo>
                <a:cubicBezTo>
                  <a:pt x="15873" y="12930"/>
                  <a:pt x="15713" y="13184"/>
                  <a:pt x="15478" y="13395"/>
                </a:cubicBezTo>
                <a:cubicBezTo>
                  <a:pt x="15309" y="13547"/>
                  <a:pt x="15224" y="13564"/>
                  <a:pt x="15081" y="13469"/>
                </a:cubicBezTo>
                <a:cubicBezTo>
                  <a:pt x="15209" y="13278"/>
                  <a:pt x="15397" y="13161"/>
                  <a:pt x="15577" y="13419"/>
                </a:cubicBezTo>
                <a:cubicBezTo>
                  <a:pt x="15636" y="13503"/>
                  <a:pt x="15717" y="13594"/>
                  <a:pt x="15627" y="13643"/>
                </a:cubicBezTo>
              </a:path>
              <a:path w="11733" h="3721">
                <a:moveTo>
                  <a:pt x="16321" y="12799"/>
                </a:moveTo>
                <a:cubicBezTo>
                  <a:pt x="16180" y="12760"/>
                  <a:pt x="16022" y="12761"/>
                  <a:pt x="15925" y="12898"/>
                </a:cubicBezTo>
                <a:cubicBezTo>
                  <a:pt x="15925" y="12915"/>
                  <a:pt x="15925" y="12931"/>
                  <a:pt x="15925" y="12948"/>
                </a:cubicBezTo>
                <a:cubicBezTo>
                  <a:pt x="16126" y="13128"/>
                  <a:pt x="16278" y="13221"/>
                  <a:pt x="16371" y="13469"/>
                </a:cubicBezTo>
                <a:cubicBezTo>
                  <a:pt x="16180" y="13570"/>
                  <a:pt x="16007" y="13576"/>
                  <a:pt x="16098" y="13271"/>
                </a:cubicBezTo>
                <a:cubicBezTo>
                  <a:pt x="16153" y="13088"/>
                  <a:pt x="16329" y="12954"/>
                  <a:pt x="16371" y="12774"/>
                </a:cubicBezTo>
                <a:cubicBezTo>
                  <a:pt x="16371" y="12740"/>
                  <a:pt x="16362" y="12736"/>
                  <a:pt x="16321" y="12774"/>
                </a:cubicBezTo>
              </a:path>
              <a:path w="11733" h="3721">
                <a:moveTo>
                  <a:pt x="17636" y="13816"/>
                </a:moveTo>
                <a:cubicBezTo>
                  <a:pt x="17730" y="13816"/>
                  <a:pt x="17816" y="13778"/>
                  <a:pt x="17909" y="13767"/>
                </a:cubicBezTo>
                <a:cubicBezTo>
                  <a:pt x="17967" y="13767"/>
                  <a:pt x="17975" y="13767"/>
                  <a:pt x="18008" y="13767"/>
                </a:cubicBezTo>
              </a:path>
              <a:path w="11733" h="3721">
                <a:moveTo>
                  <a:pt x="19447" y="13940"/>
                </a:moveTo>
                <a:cubicBezTo>
                  <a:pt x="19447" y="13841"/>
                  <a:pt x="19340" y="13923"/>
                  <a:pt x="19298" y="13965"/>
                </a:cubicBezTo>
                <a:cubicBezTo>
                  <a:pt x="19298" y="13990"/>
                  <a:pt x="19298" y="13998"/>
                  <a:pt x="19298" y="14015"/>
                </a:cubicBezTo>
                <a:cubicBezTo>
                  <a:pt x="19330" y="14007"/>
                  <a:pt x="19526" y="13929"/>
                  <a:pt x="19447" y="13915"/>
                </a:cubicBezTo>
                <a:cubicBezTo>
                  <a:pt x="19385" y="13915"/>
                  <a:pt x="19370" y="13905"/>
                  <a:pt x="19348" y="13940"/>
                </a:cubicBezTo>
                <a:cubicBezTo>
                  <a:pt x="19406" y="13940"/>
                  <a:pt x="19386" y="13953"/>
                  <a:pt x="19397" y="13891"/>
                </a:cubicBezTo>
              </a:path>
              <a:path w="11733" h="3721">
                <a:moveTo>
                  <a:pt x="19794" y="13221"/>
                </a:moveTo>
                <a:cubicBezTo>
                  <a:pt x="19710" y="13193"/>
                  <a:pt x="19895" y="13083"/>
                  <a:pt x="19918" y="13072"/>
                </a:cubicBezTo>
                <a:cubicBezTo>
                  <a:pt x="20015" y="13026"/>
                  <a:pt x="20109" y="13006"/>
                  <a:pt x="20191" y="13072"/>
                </a:cubicBezTo>
                <a:cubicBezTo>
                  <a:pt x="20120" y="13332"/>
                  <a:pt x="20029" y="13494"/>
                  <a:pt x="19844" y="13692"/>
                </a:cubicBezTo>
                <a:cubicBezTo>
                  <a:pt x="19757" y="13779"/>
                  <a:pt x="19733" y="13798"/>
                  <a:pt x="19695" y="13866"/>
                </a:cubicBezTo>
                <a:cubicBezTo>
                  <a:pt x="19625" y="13936"/>
                  <a:pt x="19839" y="13745"/>
                  <a:pt x="19844" y="13742"/>
                </a:cubicBezTo>
                <a:cubicBezTo>
                  <a:pt x="19962" y="13677"/>
                  <a:pt x="20013" y="13746"/>
                  <a:pt x="20117" y="13791"/>
                </a:cubicBezTo>
                <a:cubicBezTo>
                  <a:pt x="20206" y="13829"/>
                  <a:pt x="20312" y="13836"/>
                  <a:pt x="20365" y="13767"/>
                </a:cubicBezTo>
              </a:path>
              <a:path w="11733" h="3721">
                <a:moveTo>
                  <a:pt x="21034" y="13022"/>
                </a:moveTo>
                <a:cubicBezTo>
                  <a:pt x="20995" y="12905"/>
                  <a:pt x="20838" y="12956"/>
                  <a:pt x="20737" y="13022"/>
                </a:cubicBezTo>
                <a:cubicBezTo>
                  <a:pt x="20532" y="13157"/>
                  <a:pt x="20719" y="13312"/>
                  <a:pt x="20811" y="13444"/>
                </a:cubicBezTo>
                <a:cubicBezTo>
                  <a:pt x="20893" y="13562"/>
                  <a:pt x="21083" y="13871"/>
                  <a:pt x="20762" y="13841"/>
                </a:cubicBezTo>
                <a:cubicBezTo>
                  <a:pt x="20737" y="13824"/>
                  <a:pt x="20712" y="13808"/>
                  <a:pt x="20687" y="13791"/>
                </a:cubicBezTo>
                <a:cubicBezTo>
                  <a:pt x="20727" y="13571"/>
                  <a:pt x="20849" y="13408"/>
                  <a:pt x="20935" y="13196"/>
                </a:cubicBezTo>
                <a:cubicBezTo>
                  <a:pt x="20955" y="13136"/>
                  <a:pt x="20974" y="13101"/>
                  <a:pt x="20935" y="13146"/>
                </a:cubicBezTo>
              </a:path>
              <a:path w="11733" h="3721">
                <a:moveTo>
                  <a:pt x="19124" y="13370"/>
                </a:moveTo>
                <a:cubicBezTo>
                  <a:pt x="19118" y="13322"/>
                  <a:pt x="19131" y="13310"/>
                  <a:pt x="19100" y="13271"/>
                </a:cubicBezTo>
                <a:cubicBezTo>
                  <a:pt x="19064" y="13225"/>
                  <a:pt x="18980" y="13192"/>
                  <a:pt x="18926" y="13171"/>
                </a:cubicBezTo>
                <a:cubicBezTo>
                  <a:pt x="18849" y="13141"/>
                  <a:pt x="18729" y="13123"/>
                  <a:pt x="18653" y="13171"/>
                </a:cubicBezTo>
                <a:cubicBezTo>
                  <a:pt x="18553" y="13234"/>
                  <a:pt x="18474" y="13332"/>
                  <a:pt x="18430" y="13444"/>
                </a:cubicBezTo>
                <a:cubicBezTo>
                  <a:pt x="18388" y="13552"/>
                  <a:pt x="18360" y="13677"/>
                  <a:pt x="18355" y="13791"/>
                </a:cubicBezTo>
                <a:cubicBezTo>
                  <a:pt x="18350" y="13901"/>
                  <a:pt x="18395" y="13933"/>
                  <a:pt x="18479" y="13990"/>
                </a:cubicBezTo>
                <a:cubicBezTo>
                  <a:pt x="18572" y="14053"/>
                  <a:pt x="18694" y="14062"/>
                  <a:pt x="18802" y="14015"/>
                </a:cubicBezTo>
                <a:cubicBezTo>
                  <a:pt x="18889" y="13977"/>
                  <a:pt x="18952" y="13906"/>
                  <a:pt x="19000" y="13841"/>
                </a:cubicBezTo>
                <a:cubicBezTo>
                  <a:pt x="19050" y="13773"/>
                  <a:pt x="19104" y="13713"/>
                  <a:pt x="19149" y="13643"/>
                </a:cubicBezTo>
                <a:cubicBezTo>
                  <a:pt x="19213" y="13542"/>
                  <a:pt x="19224" y="13487"/>
                  <a:pt x="19224" y="13370"/>
                </a:cubicBezTo>
                <a:cubicBezTo>
                  <a:pt x="19224" y="13285"/>
                  <a:pt x="19186" y="13241"/>
                  <a:pt x="19149" y="13171"/>
                </a:cubicBezTo>
                <a:cubicBezTo>
                  <a:pt x="19117" y="13112"/>
                  <a:pt x="19059" y="13021"/>
                  <a:pt x="18976" y="13047"/>
                </a:cubicBezTo>
                <a:cubicBezTo>
                  <a:pt x="18884" y="13075"/>
                  <a:pt x="18914" y="13138"/>
                  <a:pt x="18926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84880" y="5892840"/>
            <a:ext cx="2544840" cy="366840"/>
          </a:xfrm>
          <a:custGeom>
            <a:avLst/>
            <a:gdLst/>
            <a:ahLst/>
            <a:rect l="l" t="t" r="r" b="b"/>
            <a:pathLst>
              <a:path w="7071" h="1018">
                <a:moveTo>
                  <a:pt x="15205" y="16570"/>
                </a:moveTo>
                <a:cubicBezTo>
                  <a:pt x="15233" y="16842"/>
                  <a:pt x="15239" y="17120"/>
                  <a:pt x="15280" y="17388"/>
                </a:cubicBezTo>
              </a:path>
              <a:path w="7071" h="1018">
                <a:moveTo>
                  <a:pt x="14957" y="16991"/>
                </a:moveTo>
                <a:cubicBezTo>
                  <a:pt x="15139" y="16973"/>
                  <a:pt x="15409" y="16896"/>
                  <a:pt x="15553" y="17041"/>
                </a:cubicBezTo>
                <a:cubicBezTo>
                  <a:pt x="15654" y="17142"/>
                  <a:pt x="15623" y="17249"/>
                  <a:pt x="15577" y="17363"/>
                </a:cubicBezTo>
              </a:path>
              <a:path w="7071" h="1018">
                <a:moveTo>
                  <a:pt x="15652" y="16768"/>
                </a:moveTo>
                <a:cubicBezTo>
                  <a:pt x="15606" y="16814"/>
                  <a:pt x="15615" y="16846"/>
                  <a:pt x="15701" y="16892"/>
                </a:cubicBezTo>
              </a:path>
              <a:path w="7071" h="1018">
                <a:moveTo>
                  <a:pt x="15701" y="16892"/>
                </a:moveTo>
                <a:lnTo>
                  <a:pt x="15701" y="16892"/>
                </a:lnTo>
              </a:path>
              <a:path w="7071" h="1018">
                <a:moveTo>
                  <a:pt x="22002" y="16371"/>
                </a:moveTo>
                <a:cubicBezTo>
                  <a:pt x="22002" y="16416"/>
                  <a:pt x="21999" y="16436"/>
                  <a:pt x="22027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7920" y="5991120"/>
            <a:ext cx="750960" cy="312840"/>
          </a:xfrm>
          <a:custGeom>
            <a:avLst/>
            <a:gdLst/>
            <a:ahLst/>
            <a:rect l="l" t="t" r="r" b="b"/>
            <a:pathLst>
              <a:path w="2085" h="869">
                <a:moveTo>
                  <a:pt x="13419" y="16942"/>
                </a:moveTo>
                <a:cubicBezTo>
                  <a:pt x="13419" y="16862"/>
                  <a:pt x="13424" y="16818"/>
                  <a:pt x="13370" y="16743"/>
                </a:cubicBezTo>
                <a:cubicBezTo>
                  <a:pt x="13299" y="16645"/>
                  <a:pt x="13086" y="16578"/>
                  <a:pt x="13072" y="16768"/>
                </a:cubicBezTo>
                <a:cubicBezTo>
                  <a:pt x="13054" y="17010"/>
                  <a:pt x="13197" y="17254"/>
                  <a:pt x="13246" y="17487"/>
                </a:cubicBezTo>
                <a:cubicBezTo>
                  <a:pt x="13246" y="17495"/>
                  <a:pt x="13246" y="17504"/>
                  <a:pt x="13246" y="17512"/>
                </a:cubicBezTo>
              </a:path>
              <a:path w="2085" h="869">
                <a:moveTo>
                  <a:pt x="13022" y="17239"/>
                </a:moveTo>
                <a:cubicBezTo>
                  <a:pt x="13176" y="17225"/>
                  <a:pt x="13316" y="17214"/>
                  <a:pt x="13469" y="17214"/>
                </a:cubicBezTo>
              </a:path>
              <a:path w="2085" h="869">
                <a:moveTo>
                  <a:pt x="13717" y="17239"/>
                </a:moveTo>
                <a:cubicBezTo>
                  <a:pt x="13696" y="17155"/>
                  <a:pt x="13710" y="17302"/>
                  <a:pt x="13717" y="17388"/>
                </a:cubicBezTo>
                <a:cubicBezTo>
                  <a:pt x="13717" y="17421"/>
                  <a:pt x="13717" y="17454"/>
                  <a:pt x="13717" y="17487"/>
                </a:cubicBezTo>
                <a:cubicBezTo>
                  <a:pt x="13745" y="17473"/>
                  <a:pt x="13688" y="17387"/>
                  <a:pt x="13692" y="17314"/>
                </a:cubicBezTo>
                <a:cubicBezTo>
                  <a:pt x="13702" y="17132"/>
                  <a:pt x="13833" y="17101"/>
                  <a:pt x="13990" y="17115"/>
                </a:cubicBezTo>
                <a:cubicBezTo>
                  <a:pt x="14031" y="17123"/>
                  <a:pt x="14073" y="17132"/>
                  <a:pt x="14114" y="17140"/>
                </a:cubicBezTo>
              </a:path>
              <a:path w="2085" h="869">
                <a:moveTo>
                  <a:pt x="14436" y="17190"/>
                </a:moveTo>
                <a:cubicBezTo>
                  <a:pt x="14412" y="17140"/>
                  <a:pt x="14404" y="17123"/>
                  <a:pt x="14387" y="17090"/>
                </a:cubicBezTo>
                <a:cubicBezTo>
                  <a:pt x="14195" y="17200"/>
                  <a:pt x="14152" y="17272"/>
                  <a:pt x="14163" y="17487"/>
                </a:cubicBezTo>
                <a:cubicBezTo>
                  <a:pt x="14369" y="17449"/>
                  <a:pt x="14388" y="17386"/>
                  <a:pt x="14436" y="17190"/>
                </a:cubicBezTo>
                <a:cubicBezTo>
                  <a:pt x="14436" y="17198"/>
                  <a:pt x="14436" y="17206"/>
                  <a:pt x="14436" y="17214"/>
                </a:cubicBezTo>
                <a:cubicBezTo>
                  <a:pt x="14492" y="17344"/>
                  <a:pt x="14512" y="17400"/>
                  <a:pt x="14610" y="17363"/>
                </a:cubicBezTo>
              </a:path>
              <a:path w="2085" h="869">
                <a:moveTo>
                  <a:pt x="14908" y="17041"/>
                </a:moveTo>
                <a:cubicBezTo>
                  <a:pt x="14829" y="16902"/>
                  <a:pt x="14720" y="16991"/>
                  <a:pt x="14684" y="17140"/>
                </a:cubicBezTo>
                <a:cubicBezTo>
                  <a:pt x="14588" y="17538"/>
                  <a:pt x="14930" y="17383"/>
                  <a:pt x="15106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61000" y="6045120"/>
            <a:ext cx="430200" cy="214560"/>
          </a:xfrm>
          <a:custGeom>
            <a:avLst/>
            <a:gdLst/>
            <a:ahLst/>
            <a:rect l="l" t="t" r="r" b="b"/>
            <a:pathLst>
              <a:path w="1192" h="596">
                <a:moveTo>
                  <a:pt x="16049" y="16942"/>
                </a:moveTo>
                <a:cubicBezTo>
                  <a:pt x="15806" y="17045"/>
                  <a:pt x="15704" y="17117"/>
                  <a:pt x="15801" y="17363"/>
                </a:cubicBezTo>
                <a:cubicBezTo>
                  <a:pt x="16023" y="17363"/>
                  <a:pt x="16234" y="17276"/>
                  <a:pt x="16222" y="16991"/>
                </a:cubicBezTo>
                <a:cubicBezTo>
                  <a:pt x="16171" y="16887"/>
                  <a:pt x="16149" y="16853"/>
                  <a:pt x="16049" y="16867"/>
                </a:cubicBezTo>
                <a:cubicBezTo>
                  <a:pt x="16007" y="16909"/>
                  <a:pt x="16247" y="16979"/>
                  <a:pt x="16346" y="17090"/>
                </a:cubicBezTo>
                <a:cubicBezTo>
                  <a:pt x="16414" y="17166"/>
                  <a:pt x="16414" y="17214"/>
                  <a:pt x="16446" y="17289"/>
                </a:cubicBezTo>
                <a:cubicBezTo>
                  <a:pt x="16476" y="17110"/>
                  <a:pt x="16499" y="16911"/>
                  <a:pt x="16669" y="16793"/>
                </a:cubicBezTo>
                <a:cubicBezTo>
                  <a:pt x="16702" y="16793"/>
                  <a:pt x="16735" y="16793"/>
                  <a:pt x="16768" y="16793"/>
                </a:cubicBezTo>
                <a:cubicBezTo>
                  <a:pt x="16868" y="16950"/>
                  <a:pt x="16900" y="17029"/>
                  <a:pt x="16917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80160" y="5537160"/>
            <a:ext cx="1677960" cy="598680"/>
          </a:xfrm>
          <a:custGeom>
            <a:avLst/>
            <a:gdLst/>
            <a:ahLst/>
            <a:rect l="l" t="t" r="r" b="b"/>
            <a:pathLst>
              <a:path w="4664" h="1663">
                <a:moveTo>
                  <a:pt x="19124" y="15677"/>
                </a:moveTo>
                <a:cubicBezTo>
                  <a:pt x="19124" y="15718"/>
                  <a:pt x="19124" y="15726"/>
                  <a:pt x="19124" y="15751"/>
                </a:cubicBezTo>
                <a:cubicBezTo>
                  <a:pt x="19140" y="15656"/>
                  <a:pt x="19160" y="15553"/>
                  <a:pt x="19248" y="15503"/>
                </a:cubicBezTo>
                <a:cubicBezTo>
                  <a:pt x="19361" y="15439"/>
                  <a:pt x="19522" y="15420"/>
                  <a:pt x="19645" y="15379"/>
                </a:cubicBezTo>
                <a:cubicBezTo>
                  <a:pt x="19619" y="15538"/>
                  <a:pt x="19544" y="15706"/>
                  <a:pt x="19472" y="15850"/>
                </a:cubicBezTo>
                <a:cubicBezTo>
                  <a:pt x="19413" y="15947"/>
                  <a:pt x="19388" y="15957"/>
                  <a:pt x="19397" y="16024"/>
                </a:cubicBezTo>
              </a:path>
              <a:path w="4664" h="1663">
                <a:moveTo>
                  <a:pt x="18728" y="16173"/>
                </a:moveTo>
                <a:cubicBezTo>
                  <a:pt x="19079" y="16109"/>
                  <a:pt x="19410" y="16036"/>
                  <a:pt x="19769" y="16024"/>
                </a:cubicBezTo>
                <a:cubicBezTo>
                  <a:pt x="19844" y="16024"/>
                  <a:pt x="19902" y="16024"/>
                  <a:pt x="19844" y="16024"/>
                </a:cubicBezTo>
              </a:path>
              <a:path w="4664" h="1663">
                <a:moveTo>
                  <a:pt x="18802" y="16644"/>
                </a:moveTo>
                <a:cubicBezTo>
                  <a:pt x="18886" y="16588"/>
                  <a:pt x="18922" y="16571"/>
                  <a:pt x="19000" y="16594"/>
                </a:cubicBezTo>
                <a:cubicBezTo>
                  <a:pt x="19119" y="16773"/>
                  <a:pt x="19119" y="16962"/>
                  <a:pt x="18852" y="17041"/>
                </a:cubicBezTo>
                <a:cubicBezTo>
                  <a:pt x="18666" y="17096"/>
                  <a:pt x="18618" y="17036"/>
                  <a:pt x="18554" y="16917"/>
                </a:cubicBezTo>
                <a:cubicBezTo>
                  <a:pt x="18688" y="16859"/>
                  <a:pt x="18890" y="16761"/>
                  <a:pt x="19000" y="16942"/>
                </a:cubicBezTo>
                <a:cubicBezTo>
                  <a:pt x="19000" y="16983"/>
                  <a:pt x="18992" y="16999"/>
                  <a:pt x="19025" y="16991"/>
                </a:cubicBezTo>
              </a:path>
              <a:path w="4664" h="1663">
                <a:moveTo>
                  <a:pt x="19521" y="16446"/>
                </a:moveTo>
                <a:cubicBezTo>
                  <a:pt x="19500" y="16448"/>
                  <a:pt x="19353" y="16458"/>
                  <a:pt x="19348" y="16470"/>
                </a:cubicBezTo>
                <a:cubicBezTo>
                  <a:pt x="19339" y="16490"/>
                  <a:pt x="19260" y="16651"/>
                  <a:pt x="19323" y="16669"/>
                </a:cubicBezTo>
                <a:cubicBezTo>
                  <a:pt x="19467" y="16710"/>
                  <a:pt x="19561" y="16613"/>
                  <a:pt x="19695" y="16694"/>
                </a:cubicBezTo>
                <a:cubicBezTo>
                  <a:pt x="19652" y="16866"/>
                  <a:pt x="19517" y="17007"/>
                  <a:pt x="19298" y="16942"/>
                </a:cubicBezTo>
                <a:cubicBezTo>
                  <a:pt x="19197" y="16865"/>
                  <a:pt x="19165" y="16837"/>
                  <a:pt x="19248" y="16743"/>
                </a:cubicBezTo>
              </a:path>
              <a:path w="4664" h="1663">
                <a:moveTo>
                  <a:pt x="20265" y="16098"/>
                </a:moveTo>
                <a:cubicBezTo>
                  <a:pt x="20304" y="16085"/>
                  <a:pt x="20643" y="15970"/>
                  <a:pt x="20662" y="16049"/>
                </a:cubicBezTo>
                <a:cubicBezTo>
                  <a:pt x="20646" y="16074"/>
                  <a:pt x="20629" y="16098"/>
                  <a:pt x="20613" y="16123"/>
                </a:cubicBezTo>
              </a:path>
              <a:path w="4664" h="1663">
                <a:moveTo>
                  <a:pt x="20191" y="16346"/>
                </a:moveTo>
                <a:cubicBezTo>
                  <a:pt x="20370" y="16346"/>
                  <a:pt x="20497" y="16339"/>
                  <a:pt x="20662" y="16272"/>
                </a:cubicBezTo>
              </a:path>
              <a:path w="4664" h="1663">
                <a:moveTo>
                  <a:pt x="21555" y="15875"/>
                </a:moveTo>
                <a:cubicBezTo>
                  <a:pt x="21361" y="16044"/>
                  <a:pt x="21240" y="16214"/>
                  <a:pt x="21134" y="16446"/>
                </a:cubicBezTo>
                <a:cubicBezTo>
                  <a:pt x="21336" y="16576"/>
                  <a:pt x="21532" y="16491"/>
                  <a:pt x="21679" y="16272"/>
                </a:cubicBezTo>
                <a:cubicBezTo>
                  <a:pt x="21799" y="16094"/>
                  <a:pt x="21710" y="15774"/>
                  <a:pt x="21456" y="15900"/>
                </a:cubicBezTo>
                <a:cubicBezTo>
                  <a:pt x="21448" y="15916"/>
                  <a:pt x="21439" y="15933"/>
                  <a:pt x="21431" y="15949"/>
                </a:cubicBezTo>
              </a:path>
              <a:path w="4664" h="1663">
                <a:moveTo>
                  <a:pt x="22399" y="15825"/>
                </a:moveTo>
                <a:cubicBezTo>
                  <a:pt x="22531" y="15753"/>
                  <a:pt x="22721" y="15786"/>
                  <a:pt x="22721" y="15999"/>
                </a:cubicBezTo>
                <a:cubicBezTo>
                  <a:pt x="22721" y="16161"/>
                  <a:pt x="22420" y="16324"/>
                  <a:pt x="22299" y="16197"/>
                </a:cubicBezTo>
                <a:cubicBezTo>
                  <a:pt x="22291" y="16164"/>
                  <a:pt x="22283" y="16131"/>
                  <a:pt x="22275" y="16098"/>
                </a:cubicBezTo>
                <a:cubicBezTo>
                  <a:pt x="22477" y="16021"/>
                  <a:pt x="22451" y="16149"/>
                  <a:pt x="22622" y="16222"/>
                </a:cubicBezTo>
                <a:cubicBezTo>
                  <a:pt x="22647" y="16222"/>
                  <a:pt x="22671" y="16222"/>
                  <a:pt x="22696" y="16222"/>
                </a:cubicBezTo>
              </a:path>
              <a:path w="4664" h="1663">
                <a:moveTo>
                  <a:pt x="23143" y="15701"/>
                </a:moveTo>
                <a:cubicBezTo>
                  <a:pt x="22988" y="15765"/>
                  <a:pt x="22950" y="15763"/>
                  <a:pt x="22870" y="15900"/>
                </a:cubicBezTo>
                <a:cubicBezTo>
                  <a:pt x="22969" y="15993"/>
                  <a:pt x="23125" y="16033"/>
                  <a:pt x="23168" y="16148"/>
                </a:cubicBezTo>
                <a:cubicBezTo>
                  <a:pt x="23044" y="16200"/>
                  <a:pt x="22831" y="16216"/>
                  <a:pt x="22944" y="15974"/>
                </a:cubicBezTo>
                <a:cubicBezTo>
                  <a:pt x="22988" y="15880"/>
                  <a:pt x="23136" y="15789"/>
                  <a:pt x="23217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7280" y="5724360"/>
            <a:ext cx="955800" cy="27000"/>
          </a:xfrm>
          <a:custGeom>
            <a:avLst/>
            <a:gdLst/>
            <a:ahLst/>
            <a:rect l="l" t="t" r="r" b="b"/>
            <a:pathLst>
              <a:path w="2655" h="75">
                <a:moveTo>
                  <a:pt x="13047" y="15900"/>
                </a:moveTo>
                <a:lnTo>
                  <a:pt x="13047" y="15900"/>
                </a:lnTo>
                <a:lnTo>
                  <a:pt x="13047" y="15900"/>
                </a:lnTo>
              </a:path>
              <a:path w="2655" h="75">
                <a:moveTo>
                  <a:pt x="13047" y="15900"/>
                </a:moveTo>
                <a:lnTo>
                  <a:pt x="13047" y="15900"/>
                </a:lnTo>
              </a:path>
              <a:path w="2655" h="75">
                <a:moveTo>
                  <a:pt x="15255" y="15925"/>
                </a:moveTo>
                <a:cubicBezTo>
                  <a:pt x="15372" y="15938"/>
                  <a:pt x="15651" y="15950"/>
                  <a:pt x="15677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89240" y="5634000"/>
            <a:ext cx="1571760" cy="581040"/>
          </a:xfrm>
          <a:custGeom>
            <a:avLst/>
            <a:gdLst/>
            <a:ahLst/>
            <a:rect l="l" t="t" r="r" b="b"/>
            <a:pathLst>
              <a:path w="4366" h="1613">
                <a:moveTo>
                  <a:pt x="11361" y="16222"/>
                </a:moveTo>
                <a:cubicBezTo>
                  <a:pt x="11482" y="16222"/>
                  <a:pt x="11590" y="16213"/>
                  <a:pt x="11708" y="16197"/>
                </a:cubicBezTo>
                <a:cubicBezTo>
                  <a:pt x="11733" y="16197"/>
                  <a:pt x="11741" y="16197"/>
                  <a:pt x="11757" y="16197"/>
                </a:cubicBezTo>
                <a:cubicBezTo>
                  <a:pt x="11737" y="16137"/>
                  <a:pt x="11676" y="16035"/>
                  <a:pt x="11609" y="15974"/>
                </a:cubicBezTo>
                <a:cubicBezTo>
                  <a:pt x="11568" y="15954"/>
                  <a:pt x="11562" y="15945"/>
                  <a:pt x="11534" y="15949"/>
                </a:cubicBezTo>
                <a:cubicBezTo>
                  <a:pt x="11419" y="16169"/>
                  <a:pt x="11356" y="16285"/>
                  <a:pt x="11435" y="16520"/>
                </a:cubicBezTo>
                <a:cubicBezTo>
                  <a:pt x="11631" y="16502"/>
                  <a:pt x="11727" y="16460"/>
                  <a:pt x="11906" y="16371"/>
                </a:cubicBezTo>
              </a:path>
              <a:path w="4366" h="1613">
                <a:moveTo>
                  <a:pt x="12229" y="16024"/>
                </a:moveTo>
                <a:cubicBezTo>
                  <a:pt x="12059" y="16010"/>
                  <a:pt x="11972" y="16163"/>
                  <a:pt x="11956" y="16346"/>
                </a:cubicBezTo>
                <a:cubicBezTo>
                  <a:pt x="11934" y="16594"/>
                  <a:pt x="12199" y="16393"/>
                  <a:pt x="12254" y="16321"/>
                </a:cubicBezTo>
                <a:cubicBezTo>
                  <a:pt x="12270" y="16288"/>
                  <a:pt x="12287" y="16255"/>
                  <a:pt x="12303" y="16222"/>
                </a:cubicBezTo>
                <a:cubicBezTo>
                  <a:pt x="12303" y="16206"/>
                  <a:pt x="12303" y="16189"/>
                  <a:pt x="12303" y="16173"/>
                </a:cubicBezTo>
                <a:cubicBezTo>
                  <a:pt x="12317" y="16378"/>
                  <a:pt x="12329" y="16532"/>
                  <a:pt x="12303" y="16743"/>
                </a:cubicBezTo>
                <a:cubicBezTo>
                  <a:pt x="12278" y="16947"/>
                  <a:pt x="12244" y="17065"/>
                  <a:pt x="12278" y="17264"/>
                </a:cubicBezTo>
                <a:cubicBezTo>
                  <a:pt x="12461" y="17157"/>
                  <a:pt x="12522" y="16979"/>
                  <a:pt x="12427" y="16768"/>
                </a:cubicBezTo>
                <a:cubicBezTo>
                  <a:pt x="12364" y="16705"/>
                  <a:pt x="12347" y="16695"/>
                  <a:pt x="12328" y="16644"/>
                </a:cubicBezTo>
              </a:path>
              <a:path w="4366" h="1613">
                <a:moveTo>
                  <a:pt x="12601" y="15974"/>
                </a:moveTo>
                <a:cubicBezTo>
                  <a:pt x="12601" y="16116"/>
                  <a:pt x="12548" y="16257"/>
                  <a:pt x="12551" y="16396"/>
                </a:cubicBezTo>
                <a:cubicBezTo>
                  <a:pt x="12559" y="16429"/>
                  <a:pt x="12568" y="16462"/>
                  <a:pt x="12576" y="16495"/>
                </a:cubicBezTo>
                <a:cubicBezTo>
                  <a:pt x="12748" y="16470"/>
                  <a:pt x="12773" y="16342"/>
                  <a:pt x="12799" y="16173"/>
                </a:cubicBezTo>
                <a:cubicBezTo>
                  <a:pt x="12799" y="16082"/>
                  <a:pt x="12799" y="16074"/>
                  <a:pt x="12799" y="16024"/>
                </a:cubicBezTo>
                <a:cubicBezTo>
                  <a:pt x="12799" y="16070"/>
                  <a:pt x="12786" y="16512"/>
                  <a:pt x="12874" y="16495"/>
                </a:cubicBezTo>
                <a:cubicBezTo>
                  <a:pt x="12899" y="16470"/>
                  <a:pt x="12923" y="16446"/>
                  <a:pt x="12948" y="16421"/>
                </a:cubicBezTo>
              </a:path>
              <a:path w="4366" h="1613">
                <a:moveTo>
                  <a:pt x="13072" y="16098"/>
                </a:moveTo>
                <a:cubicBezTo>
                  <a:pt x="13087" y="16230"/>
                  <a:pt x="13097" y="16479"/>
                  <a:pt x="13097" y="16346"/>
                </a:cubicBezTo>
              </a:path>
              <a:path w="4366" h="1613">
                <a:moveTo>
                  <a:pt x="13221" y="15974"/>
                </a:moveTo>
                <a:cubicBezTo>
                  <a:pt x="13326" y="16125"/>
                  <a:pt x="13354" y="16315"/>
                  <a:pt x="13444" y="16470"/>
                </a:cubicBezTo>
                <a:cubicBezTo>
                  <a:pt x="13452" y="16470"/>
                  <a:pt x="13461" y="16470"/>
                  <a:pt x="13469" y="16470"/>
                </a:cubicBezTo>
                <a:cubicBezTo>
                  <a:pt x="13480" y="16374"/>
                  <a:pt x="13474" y="16009"/>
                  <a:pt x="13543" y="15949"/>
                </a:cubicBezTo>
                <a:cubicBezTo>
                  <a:pt x="13576" y="15957"/>
                  <a:pt x="13610" y="15966"/>
                  <a:pt x="13643" y="15974"/>
                </a:cubicBezTo>
              </a:path>
              <a:path w="4366" h="1613">
                <a:moveTo>
                  <a:pt x="13891" y="15999"/>
                </a:moveTo>
                <a:cubicBezTo>
                  <a:pt x="13770" y="15848"/>
                  <a:pt x="13665" y="16178"/>
                  <a:pt x="13643" y="16297"/>
                </a:cubicBezTo>
                <a:cubicBezTo>
                  <a:pt x="13643" y="16338"/>
                  <a:pt x="13643" y="16380"/>
                  <a:pt x="13643" y="16421"/>
                </a:cubicBezTo>
                <a:cubicBezTo>
                  <a:pt x="13871" y="16368"/>
                  <a:pt x="13859" y="16236"/>
                  <a:pt x="13891" y="16024"/>
                </a:cubicBezTo>
                <a:cubicBezTo>
                  <a:pt x="13891" y="16032"/>
                  <a:pt x="13891" y="16041"/>
                  <a:pt x="13891" y="16049"/>
                </a:cubicBezTo>
                <a:cubicBezTo>
                  <a:pt x="13879" y="16246"/>
                  <a:pt x="13882" y="16399"/>
                  <a:pt x="14064" y="16247"/>
                </a:cubicBezTo>
              </a:path>
              <a:path w="4366" h="1613">
                <a:moveTo>
                  <a:pt x="14163" y="15701"/>
                </a:moveTo>
                <a:cubicBezTo>
                  <a:pt x="14183" y="15931"/>
                  <a:pt x="14143" y="16226"/>
                  <a:pt x="14213" y="16446"/>
                </a:cubicBezTo>
                <a:cubicBezTo>
                  <a:pt x="14221" y="16446"/>
                  <a:pt x="14230" y="16446"/>
                  <a:pt x="14238" y="16446"/>
                </a:cubicBezTo>
              </a:path>
              <a:path w="4366" h="1613">
                <a:moveTo>
                  <a:pt x="14461" y="16049"/>
                </a:moveTo>
                <a:cubicBezTo>
                  <a:pt x="14553" y="16049"/>
                  <a:pt x="14610" y="16074"/>
                  <a:pt x="14660" y="15999"/>
                </a:cubicBezTo>
                <a:cubicBezTo>
                  <a:pt x="14555" y="15878"/>
                  <a:pt x="14431" y="15916"/>
                  <a:pt x="14387" y="16098"/>
                </a:cubicBezTo>
                <a:cubicBezTo>
                  <a:pt x="14387" y="16255"/>
                  <a:pt x="14377" y="16300"/>
                  <a:pt x="14461" y="16371"/>
                </a:cubicBezTo>
                <a:cubicBezTo>
                  <a:pt x="14750" y="16313"/>
                  <a:pt x="14684" y="16170"/>
                  <a:pt x="14858" y="15974"/>
                </a:cubicBezTo>
                <a:cubicBezTo>
                  <a:pt x="14917" y="15908"/>
                  <a:pt x="14850" y="16135"/>
                  <a:pt x="14833" y="16222"/>
                </a:cubicBezTo>
                <a:cubicBezTo>
                  <a:pt x="14833" y="16326"/>
                  <a:pt x="14861" y="16174"/>
                  <a:pt x="14883" y="16073"/>
                </a:cubicBezTo>
                <a:cubicBezTo>
                  <a:pt x="14891" y="16040"/>
                  <a:pt x="14900" y="16007"/>
                  <a:pt x="14908" y="15974"/>
                </a:cubicBezTo>
                <a:cubicBezTo>
                  <a:pt x="15069" y="16010"/>
                  <a:pt x="15108" y="16109"/>
                  <a:pt x="15131" y="16272"/>
                </a:cubicBezTo>
                <a:cubicBezTo>
                  <a:pt x="15131" y="16350"/>
                  <a:pt x="15116" y="16398"/>
                  <a:pt x="15156" y="16346"/>
                </a:cubicBezTo>
              </a:path>
              <a:path w="4366" h="1613">
                <a:moveTo>
                  <a:pt x="15478" y="15652"/>
                </a:moveTo>
                <a:cubicBezTo>
                  <a:pt x="15453" y="15861"/>
                  <a:pt x="15409" y="16090"/>
                  <a:pt x="15453" y="16297"/>
                </a:cubicBezTo>
                <a:cubicBezTo>
                  <a:pt x="15489" y="16467"/>
                  <a:pt x="15690" y="16265"/>
                  <a:pt x="15726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8160" y="5259240"/>
            <a:ext cx="2170080" cy="1125720"/>
          </a:xfrm>
          <a:custGeom>
            <a:avLst/>
            <a:gdLst/>
            <a:ahLst/>
            <a:rect l="l" t="t" r="r" b="b"/>
            <a:pathLst>
              <a:path w="6029" h="3126">
                <a:moveTo>
                  <a:pt x="20662" y="14957"/>
                </a:moveTo>
                <a:cubicBezTo>
                  <a:pt x="20554" y="14965"/>
                  <a:pt x="20620" y="14938"/>
                  <a:pt x="20513" y="14957"/>
                </a:cubicBezTo>
                <a:cubicBezTo>
                  <a:pt x="20099" y="15032"/>
                  <a:pt x="19687" y="15105"/>
                  <a:pt x="19273" y="15180"/>
                </a:cubicBezTo>
                <a:cubicBezTo>
                  <a:pt x="19018" y="15226"/>
                  <a:pt x="18816" y="15312"/>
                  <a:pt x="18579" y="15404"/>
                </a:cubicBezTo>
                <a:cubicBezTo>
                  <a:pt x="18482" y="15441"/>
                  <a:pt x="18314" y="15468"/>
                  <a:pt x="18231" y="15528"/>
                </a:cubicBezTo>
                <a:cubicBezTo>
                  <a:pt x="18188" y="15559"/>
                  <a:pt x="18153" y="15526"/>
                  <a:pt x="18132" y="15577"/>
                </a:cubicBezTo>
                <a:cubicBezTo>
                  <a:pt x="18059" y="15756"/>
                  <a:pt x="18128" y="16088"/>
                  <a:pt x="18132" y="16272"/>
                </a:cubicBezTo>
                <a:cubicBezTo>
                  <a:pt x="18138" y="16546"/>
                  <a:pt x="18152" y="16817"/>
                  <a:pt x="18157" y="17090"/>
                </a:cubicBezTo>
                <a:cubicBezTo>
                  <a:pt x="18160" y="17295"/>
                  <a:pt x="18166" y="17523"/>
                  <a:pt x="18182" y="17711"/>
                </a:cubicBezTo>
                <a:cubicBezTo>
                  <a:pt x="18276" y="17704"/>
                  <a:pt x="18389" y="17685"/>
                  <a:pt x="18504" y="17661"/>
                </a:cubicBezTo>
                <a:cubicBezTo>
                  <a:pt x="18809" y="17599"/>
                  <a:pt x="19119" y="17572"/>
                  <a:pt x="19422" y="17512"/>
                </a:cubicBezTo>
                <a:cubicBezTo>
                  <a:pt x="20007" y="17397"/>
                  <a:pt x="20596" y="17345"/>
                  <a:pt x="21183" y="17239"/>
                </a:cubicBezTo>
                <a:cubicBezTo>
                  <a:pt x="21690" y="17147"/>
                  <a:pt x="22189" y="16998"/>
                  <a:pt x="22696" y="16917"/>
                </a:cubicBezTo>
                <a:cubicBezTo>
                  <a:pt x="22971" y="16873"/>
                  <a:pt x="23238" y="16826"/>
                  <a:pt x="23515" y="16793"/>
                </a:cubicBezTo>
                <a:cubicBezTo>
                  <a:pt x="23708" y="16770"/>
                  <a:pt x="23893" y="16724"/>
                  <a:pt x="24085" y="16694"/>
                </a:cubicBezTo>
                <a:cubicBezTo>
                  <a:pt x="23985" y="16632"/>
                  <a:pt x="23931" y="16731"/>
                  <a:pt x="23912" y="16570"/>
                </a:cubicBezTo>
                <a:cubicBezTo>
                  <a:pt x="23889" y="16371"/>
                  <a:pt x="23975" y="16128"/>
                  <a:pt x="23986" y="15925"/>
                </a:cubicBezTo>
                <a:cubicBezTo>
                  <a:pt x="23995" y="15754"/>
                  <a:pt x="24025" y="15642"/>
                  <a:pt x="24061" y="15478"/>
                </a:cubicBezTo>
                <a:cubicBezTo>
                  <a:pt x="24097" y="15313"/>
                  <a:pt x="24092" y="15176"/>
                  <a:pt x="24110" y="15007"/>
                </a:cubicBezTo>
                <a:cubicBezTo>
                  <a:pt x="24119" y="14921"/>
                  <a:pt x="24186" y="14705"/>
                  <a:pt x="24110" y="14635"/>
                </a:cubicBezTo>
                <a:cubicBezTo>
                  <a:pt x="24056" y="14585"/>
                  <a:pt x="23908" y="14606"/>
                  <a:pt x="23837" y="14610"/>
                </a:cubicBezTo>
                <a:cubicBezTo>
                  <a:pt x="23614" y="14622"/>
                  <a:pt x="23390" y="14652"/>
                  <a:pt x="23168" y="14684"/>
                </a:cubicBezTo>
                <a:cubicBezTo>
                  <a:pt x="22548" y="14772"/>
                  <a:pt x="21928" y="14911"/>
                  <a:pt x="21307" y="14982"/>
                </a:cubicBezTo>
                <a:cubicBezTo>
                  <a:pt x="21124" y="15003"/>
                  <a:pt x="20945" y="15023"/>
                  <a:pt x="20762" y="15056"/>
                </a:cubicBezTo>
                <a:cubicBezTo>
                  <a:pt x="20578" y="15089"/>
                  <a:pt x="20400" y="15104"/>
                  <a:pt x="20216" y="15131"/>
                </a:cubicBezTo>
                <a:cubicBezTo>
                  <a:pt x="20050" y="15156"/>
                  <a:pt x="19821" y="15231"/>
                  <a:pt x="19670" y="15304"/>
                </a:cubicBezTo>
                <a:cubicBezTo>
                  <a:pt x="19600" y="15338"/>
                  <a:pt x="19607" y="15356"/>
                  <a:pt x="19546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ano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08920" y="2054160"/>
            <a:ext cx="1062000" cy="347760"/>
          </a:xfrm>
          <a:custGeom>
            <a:avLst/>
            <a:gdLst/>
            <a:ahLst/>
            <a:rect l="l" t="t" r="r" b="b"/>
            <a:pathLst>
              <a:path w="2952" h="968">
                <a:moveTo>
                  <a:pt x="19844" y="6449"/>
                </a:moveTo>
                <a:cubicBezTo>
                  <a:pt x="19961" y="6427"/>
                  <a:pt x="19989" y="6394"/>
                  <a:pt x="20042" y="6474"/>
                </a:cubicBezTo>
              </a:path>
              <a:path w="2952" h="968">
                <a:moveTo>
                  <a:pt x="19745" y="6672"/>
                </a:moveTo>
                <a:cubicBezTo>
                  <a:pt x="19943" y="6623"/>
                  <a:pt x="20009" y="6607"/>
                  <a:pt x="20141" y="6573"/>
                </a:cubicBezTo>
              </a:path>
              <a:path w="2952" h="968">
                <a:moveTo>
                  <a:pt x="20141" y="6573"/>
                </a:moveTo>
                <a:lnTo>
                  <a:pt x="20141" y="6573"/>
                </a:lnTo>
              </a:path>
              <a:path w="2952" h="968">
                <a:moveTo>
                  <a:pt x="22473" y="5779"/>
                </a:moveTo>
                <a:cubicBezTo>
                  <a:pt x="22597" y="5738"/>
                  <a:pt x="22622" y="5730"/>
                  <a:pt x="22696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4040" y="2062080"/>
            <a:ext cx="1741320" cy="750960"/>
          </a:xfrm>
          <a:custGeom>
            <a:avLst/>
            <a:gdLst/>
            <a:ahLst/>
            <a:rect l="l" t="t" r="r" b="b"/>
            <a:pathLst>
              <a:path w="4838" h="2084">
                <a:moveTo>
                  <a:pt x="8409" y="6350"/>
                </a:moveTo>
                <a:cubicBezTo>
                  <a:pt x="8409" y="6246"/>
                  <a:pt x="8487" y="6183"/>
                  <a:pt x="8582" y="6152"/>
                </a:cubicBezTo>
                <a:cubicBezTo>
                  <a:pt x="8607" y="6152"/>
                  <a:pt x="8632" y="6152"/>
                  <a:pt x="8657" y="6152"/>
                </a:cubicBezTo>
                <a:cubicBezTo>
                  <a:pt x="8692" y="6271"/>
                  <a:pt x="8732" y="6406"/>
                  <a:pt x="8607" y="6499"/>
                </a:cubicBezTo>
                <a:cubicBezTo>
                  <a:pt x="8579" y="6499"/>
                  <a:pt x="8568" y="6497"/>
                  <a:pt x="8558" y="6474"/>
                </a:cubicBezTo>
                <a:cubicBezTo>
                  <a:pt x="8685" y="6462"/>
                  <a:pt x="8866" y="6540"/>
                  <a:pt x="8806" y="6722"/>
                </a:cubicBezTo>
                <a:cubicBezTo>
                  <a:pt x="8745" y="6910"/>
                  <a:pt x="8523" y="6831"/>
                  <a:pt x="8384" y="6821"/>
                </a:cubicBezTo>
              </a:path>
              <a:path w="4838" h="2084">
                <a:moveTo>
                  <a:pt x="8235" y="6970"/>
                </a:moveTo>
                <a:cubicBezTo>
                  <a:pt x="8526" y="6952"/>
                  <a:pt x="8810" y="6904"/>
                  <a:pt x="9103" y="6896"/>
                </a:cubicBezTo>
                <a:cubicBezTo>
                  <a:pt x="9111" y="6896"/>
                  <a:pt x="9120" y="6896"/>
                  <a:pt x="9128" y="6896"/>
                </a:cubicBezTo>
              </a:path>
              <a:path w="4838" h="2084">
                <a:moveTo>
                  <a:pt x="8210" y="7441"/>
                </a:moveTo>
                <a:cubicBezTo>
                  <a:pt x="8132" y="7415"/>
                  <a:pt x="8211" y="7303"/>
                  <a:pt x="8260" y="7268"/>
                </a:cubicBezTo>
                <a:cubicBezTo>
                  <a:pt x="8285" y="7260"/>
                  <a:pt x="8309" y="7251"/>
                  <a:pt x="8334" y="7243"/>
                </a:cubicBezTo>
                <a:cubicBezTo>
                  <a:pt x="8474" y="7410"/>
                  <a:pt x="8430" y="7594"/>
                  <a:pt x="8260" y="7764"/>
                </a:cubicBezTo>
                <a:cubicBezTo>
                  <a:pt x="8171" y="7853"/>
                  <a:pt x="8052" y="7821"/>
                  <a:pt x="8037" y="7714"/>
                </a:cubicBezTo>
                <a:cubicBezTo>
                  <a:pt x="8200" y="7633"/>
                  <a:pt x="8277" y="7631"/>
                  <a:pt x="8434" y="7739"/>
                </a:cubicBezTo>
                <a:cubicBezTo>
                  <a:pt x="8468" y="7763"/>
                  <a:pt x="8468" y="7779"/>
                  <a:pt x="8508" y="7789"/>
                </a:cubicBezTo>
              </a:path>
              <a:path w="4838" h="2084">
                <a:moveTo>
                  <a:pt x="8806" y="7293"/>
                </a:moveTo>
                <a:cubicBezTo>
                  <a:pt x="8716" y="7456"/>
                  <a:pt x="8674" y="7517"/>
                  <a:pt x="8731" y="7689"/>
                </a:cubicBezTo>
                <a:cubicBezTo>
                  <a:pt x="8929" y="7705"/>
                  <a:pt x="9011" y="7582"/>
                  <a:pt x="8979" y="7367"/>
                </a:cubicBezTo>
                <a:cubicBezTo>
                  <a:pt x="8963" y="7258"/>
                  <a:pt x="8893" y="7243"/>
                  <a:pt x="8806" y="7218"/>
                </a:cubicBezTo>
              </a:path>
              <a:path w="4838" h="2084">
                <a:moveTo>
                  <a:pt x="9327" y="6796"/>
                </a:moveTo>
                <a:cubicBezTo>
                  <a:pt x="9307" y="6854"/>
                  <a:pt x="9427" y="6939"/>
                  <a:pt x="9475" y="7020"/>
                </a:cubicBezTo>
                <a:cubicBezTo>
                  <a:pt x="9475" y="7028"/>
                  <a:pt x="9475" y="7037"/>
                  <a:pt x="9475" y="7045"/>
                </a:cubicBezTo>
              </a:path>
              <a:path w="4838" h="2084">
                <a:moveTo>
                  <a:pt x="9525" y="6672"/>
                </a:moveTo>
                <a:cubicBezTo>
                  <a:pt x="9430" y="6783"/>
                  <a:pt x="9399" y="6987"/>
                  <a:pt x="9302" y="7119"/>
                </a:cubicBezTo>
                <a:cubicBezTo>
                  <a:pt x="9277" y="7119"/>
                  <a:pt x="9269" y="7119"/>
                  <a:pt x="9277" y="7144"/>
                </a:cubicBezTo>
              </a:path>
              <a:path w="4838" h="2084">
                <a:moveTo>
                  <a:pt x="10170" y="6896"/>
                </a:moveTo>
                <a:cubicBezTo>
                  <a:pt x="10144" y="6860"/>
                  <a:pt x="10068" y="6810"/>
                  <a:pt x="10021" y="6871"/>
                </a:cubicBezTo>
                <a:cubicBezTo>
                  <a:pt x="9994" y="6906"/>
                  <a:pt x="9979" y="6954"/>
                  <a:pt x="9971" y="6995"/>
                </a:cubicBezTo>
                <a:cubicBezTo>
                  <a:pt x="10045" y="6995"/>
                  <a:pt x="10176" y="6952"/>
                  <a:pt x="10170" y="7069"/>
                </a:cubicBezTo>
                <a:cubicBezTo>
                  <a:pt x="10162" y="7215"/>
                  <a:pt x="10001" y="7157"/>
                  <a:pt x="9922" y="7144"/>
                </a:cubicBezTo>
                <a:cubicBezTo>
                  <a:pt x="9914" y="7144"/>
                  <a:pt x="9905" y="7144"/>
                  <a:pt x="9897" y="7144"/>
                </a:cubicBezTo>
              </a:path>
              <a:path w="4838" h="2084">
                <a:moveTo>
                  <a:pt x="9897" y="6796"/>
                </a:moveTo>
                <a:cubicBezTo>
                  <a:pt x="10029" y="6759"/>
                  <a:pt x="10157" y="6729"/>
                  <a:pt x="10294" y="6722"/>
                </a:cubicBezTo>
                <a:cubicBezTo>
                  <a:pt x="10319" y="6722"/>
                  <a:pt x="10327" y="6722"/>
                  <a:pt x="10344" y="6722"/>
                </a:cubicBezTo>
              </a:path>
              <a:path w="4838" h="2084">
                <a:moveTo>
                  <a:pt x="10616" y="6846"/>
                </a:moveTo>
                <a:cubicBezTo>
                  <a:pt x="10711" y="6824"/>
                  <a:pt x="10975" y="6776"/>
                  <a:pt x="10889" y="6821"/>
                </a:cubicBezTo>
                <a:cubicBezTo>
                  <a:pt x="10873" y="6821"/>
                  <a:pt x="10856" y="6821"/>
                  <a:pt x="10840" y="6821"/>
                </a:cubicBezTo>
              </a:path>
              <a:path w="4838" h="2084">
                <a:moveTo>
                  <a:pt x="10616" y="6945"/>
                </a:moveTo>
                <a:cubicBezTo>
                  <a:pt x="10740" y="6945"/>
                  <a:pt x="10864" y="6945"/>
                  <a:pt x="10988" y="6945"/>
                </a:cubicBezTo>
              </a:path>
              <a:path w="4838" h="2084">
                <a:moveTo>
                  <a:pt x="11559" y="6970"/>
                </a:moveTo>
                <a:cubicBezTo>
                  <a:pt x="11527" y="7179"/>
                  <a:pt x="11285" y="7739"/>
                  <a:pt x="11435" y="7590"/>
                </a:cubicBezTo>
                <a:cubicBezTo>
                  <a:pt x="11452" y="7557"/>
                  <a:pt x="11468" y="7524"/>
                  <a:pt x="11485" y="7491"/>
                </a:cubicBezTo>
              </a:path>
              <a:path w="4838" h="2084">
                <a:moveTo>
                  <a:pt x="11956" y="7020"/>
                </a:moveTo>
                <a:cubicBezTo>
                  <a:pt x="11815" y="7179"/>
                  <a:pt x="11718" y="7281"/>
                  <a:pt x="11733" y="7491"/>
                </a:cubicBezTo>
                <a:cubicBezTo>
                  <a:pt x="11871" y="7475"/>
                  <a:pt x="12303" y="7435"/>
                  <a:pt x="12179" y="7169"/>
                </a:cubicBezTo>
                <a:cubicBezTo>
                  <a:pt x="12140" y="7085"/>
                  <a:pt x="12012" y="7112"/>
                  <a:pt x="12005" y="7020"/>
                </a:cubicBezTo>
              </a:path>
              <a:path w="4838" h="2084">
                <a:moveTo>
                  <a:pt x="12601" y="6970"/>
                </a:moveTo>
                <a:cubicBezTo>
                  <a:pt x="12528" y="7135"/>
                  <a:pt x="12492" y="7217"/>
                  <a:pt x="12502" y="7392"/>
                </a:cubicBezTo>
                <a:cubicBezTo>
                  <a:pt x="12612" y="7376"/>
                  <a:pt x="13004" y="7292"/>
                  <a:pt x="12799" y="7094"/>
                </a:cubicBezTo>
                <a:cubicBezTo>
                  <a:pt x="12639" y="7014"/>
                  <a:pt x="12577" y="6987"/>
                  <a:pt x="12452" y="6970"/>
                </a:cubicBezTo>
              </a:path>
              <a:path w="4838" h="2084">
                <a:moveTo>
                  <a:pt x="11485" y="6821"/>
                </a:moveTo>
                <a:cubicBezTo>
                  <a:pt x="11884" y="6747"/>
                  <a:pt x="12269" y="6706"/>
                  <a:pt x="12675" y="6697"/>
                </a:cubicBezTo>
                <a:cubicBezTo>
                  <a:pt x="12766" y="6695"/>
                  <a:pt x="12890" y="6697"/>
                  <a:pt x="12799" y="6697"/>
                </a:cubicBezTo>
              </a:path>
              <a:path w="4838" h="2084">
                <a:moveTo>
                  <a:pt x="10195" y="6226"/>
                </a:moveTo>
                <a:cubicBezTo>
                  <a:pt x="10072" y="6226"/>
                  <a:pt x="10046" y="6195"/>
                  <a:pt x="9996" y="6300"/>
                </a:cubicBezTo>
                <a:cubicBezTo>
                  <a:pt x="9974" y="6344"/>
                  <a:pt x="9961" y="6356"/>
                  <a:pt x="9996" y="6375"/>
                </a:cubicBezTo>
                <a:cubicBezTo>
                  <a:pt x="10058" y="6365"/>
                  <a:pt x="10139" y="6328"/>
                  <a:pt x="10170" y="6424"/>
                </a:cubicBezTo>
                <a:cubicBezTo>
                  <a:pt x="10208" y="6544"/>
                  <a:pt x="10079" y="6567"/>
                  <a:pt x="9996" y="6573"/>
                </a:cubicBezTo>
                <a:cubicBezTo>
                  <a:pt x="9988" y="6573"/>
                  <a:pt x="9979" y="6573"/>
                  <a:pt x="9971" y="6573"/>
                </a:cubicBezTo>
              </a:path>
              <a:path w="4838" h="2084">
                <a:moveTo>
                  <a:pt x="9649" y="6325"/>
                </a:moveTo>
                <a:cubicBezTo>
                  <a:pt x="9671" y="6540"/>
                  <a:pt x="9674" y="6728"/>
                  <a:pt x="9649" y="6945"/>
                </a:cubicBezTo>
                <a:cubicBezTo>
                  <a:pt x="9636" y="7062"/>
                  <a:pt x="9610" y="7176"/>
                  <a:pt x="9599" y="7293"/>
                </a:cubicBezTo>
                <a:cubicBezTo>
                  <a:pt x="9751" y="7287"/>
                  <a:pt x="9948" y="7272"/>
                  <a:pt x="10120" y="7293"/>
                </a:cubicBezTo>
                <a:cubicBezTo>
                  <a:pt x="10195" y="7302"/>
                  <a:pt x="10272" y="7325"/>
                  <a:pt x="10344" y="7342"/>
                </a:cubicBezTo>
                <a:cubicBezTo>
                  <a:pt x="10361" y="7128"/>
                  <a:pt x="10395" y="6911"/>
                  <a:pt x="10418" y="6697"/>
                </a:cubicBezTo>
                <a:cubicBezTo>
                  <a:pt x="10441" y="6485"/>
                  <a:pt x="10482" y="6235"/>
                  <a:pt x="10418" y="6028"/>
                </a:cubicBezTo>
                <a:cubicBezTo>
                  <a:pt x="10394" y="5950"/>
                  <a:pt x="10386" y="5883"/>
                  <a:pt x="10368" y="5804"/>
                </a:cubicBezTo>
                <a:cubicBezTo>
                  <a:pt x="10360" y="5779"/>
                  <a:pt x="10352" y="5755"/>
                  <a:pt x="10344" y="5730"/>
                </a:cubicBezTo>
                <a:cubicBezTo>
                  <a:pt x="10209" y="5844"/>
                  <a:pt x="10035" y="5978"/>
                  <a:pt x="9897" y="6102"/>
                </a:cubicBezTo>
                <a:cubicBezTo>
                  <a:pt x="9873" y="6123"/>
                  <a:pt x="9461" y="6467"/>
                  <a:pt x="9475" y="6499"/>
                </a:cubicBezTo>
                <a:cubicBezTo>
                  <a:pt x="9501" y="6559"/>
                  <a:pt x="9696" y="6503"/>
                  <a:pt x="9748" y="6499"/>
                </a:cubicBezTo>
              </a:path>
              <a:path w="4838" h="2084">
                <a:moveTo>
                  <a:pt x="11906" y="6028"/>
                </a:moveTo>
                <a:cubicBezTo>
                  <a:pt x="11906" y="6147"/>
                  <a:pt x="11871" y="6336"/>
                  <a:pt x="11832" y="6449"/>
                </a:cubicBezTo>
                <a:cubicBezTo>
                  <a:pt x="11794" y="6506"/>
                  <a:pt x="11778" y="6509"/>
                  <a:pt x="11782" y="6548"/>
                </a:cubicBezTo>
              </a:path>
              <a:path w="4838" h="2084">
                <a:moveTo>
                  <a:pt x="12626" y="5928"/>
                </a:moveTo>
                <a:cubicBezTo>
                  <a:pt x="12541" y="5928"/>
                  <a:pt x="12440" y="5894"/>
                  <a:pt x="12402" y="5978"/>
                </a:cubicBezTo>
                <a:cubicBezTo>
                  <a:pt x="12368" y="6053"/>
                  <a:pt x="12325" y="6149"/>
                  <a:pt x="12303" y="6226"/>
                </a:cubicBezTo>
                <a:cubicBezTo>
                  <a:pt x="12376" y="6202"/>
                  <a:pt x="12391" y="6114"/>
                  <a:pt x="12526" y="6152"/>
                </a:cubicBezTo>
                <a:cubicBezTo>
                  <a:pt x="12701" y="6201"/>
                  <a:pt x="12543" y="6403"/>
                  <a:pt x="12477" y="6449"/>
                </a:cubicBezTo>
                <a:cubicBezTo>
                  <a:pt x="12375" y="6520"/>
                  <a:pt x="12316" y="6484"/>
                  <a:pt x="12204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48120" y="2224080"/>
            <a:ext cx="1144800" cy="320760"/>
          </a:xfrm>
          <a:custGeom>
            <a:avLst/>
            <a:gdLst/>
            <a:ahLst/>
            <a:rect l="l" t="t" r="r" b="b"/>
            <a:pathLst>
              <a:path w="3176" h="894">
                <a:moveTo>
                  <a:pt x="13469" y="6548"/>
                </a:moveTo>
                <a:cubicBezTo>
                  <a:pt x="13584" y="6548"/>
                  <a:pt x="13768" y="6529"/>
                  <a:pt x="13841" y="6573"/>
                </a:cubicBezTo>
              </a:path>
              <a:path w="3176" h="894">
                <a:moveTo>
                  <a:pt x="13469" y="6772"/>
                </a:moveTo>
                <a:cubicBezTo>
                  <a:pt x="13662" y="6744"/>
                  <a:pt x="13848" y="6712"/>
                  <a:pt x="14039" y="6672"/>
                </a:cubicBezTo>
              </a:path>
              <a:path w="3176" h="894">
                <a:moveTo>
                  <a:pt x="14957" y="6276"/>
                </a:moveTo>
                <a:cubicBezTo>
                  <a:pt x="14780" y="6429"/>
                  <a:pt x="14555" y="6651"/>
                  <a:pt x="14511" y="6896"/>
                </a:cubicBezTo>
                <a:cubicBezTo>
                  <a:pt x="14519" y="6937"/>
                  <a:pt x="14528" y="6979"/>
                  <a:pt x="14536" y="7020"/>
                </a:cubicBezTo>
                <a:cubicBezTo>
                  <a:pt x="14773" y="7094"/>
                  <a:pt x="15013" y="7005"/>
                  <a:pt x="15131" y="6747"/>
                </a:cubicBezTo>
                <a:cubicBezTo>
                  <a:pt x="15178" y="6643"/>
                  <a:pt x="15155" y="6254"/>
                  <a:pt x="14957" y="6276"/>
                </a:cubicBezTo>
                <a:cubicBezTo>
                  <a:pt x="14932" y="6292"/>
                  <a:pt x="14908" y="6309"/>
                  <a:pt x="14883" y="6325"/>
                </a:cubicBezTo>
              </a:path>
              <a:path w="3176" h="894">
                <a:moveTo>
                  <a:pt x="15304" y="6970"/>
                </a:moveTo>
                <a:cubicBezTo>
                  <a:pt x="15284" y="6909"/>
                  <a:pt x="15207" y="6979"/>
                  <a:pt x="15180" y="7020"/>
                </a:cubicBezTo>
                <a:cubicBezTo>
                  <a:pt x="15169" y="7037"/>
                  <a:pt x="15300" y="7084"/>
                  <a:pt x="15255" y="6995"/>
                </a:cubicBezTo>
              </a:path>
              <a:path w="3176" h="894">
                <a:moveTo>
                  <a:pt x="15875" y="6350"/>
                </a:moveTo>
                <a:cubicBezTo>
                  <a:pt x="15875" y="6325"/>
                  <a:pt x="15875" y="6317"/>
                  <a:pt x="15875" y="6300"/>
                </a:cubicBezTo>
                <a:cubicBezTo>
                  <a:pt x="15853" y="6496"/>
                  <a:pt x="15789" y="6679"/>
                  <a:pt x="15751" y="6871"/>
                </a:cubicBezTo>
                <a:cubicBezTo>
                  <a:pt x="15751" y="6888"/>
                  <a:pt x="15751" y="6904"/>
                  <a:pt x="15751" y="6921"/>
                </a:cubicBezTo>
              </a:path>
              <a:path w="3176" h="894">
                <a:moveTo>
                  <a:pt x="16619" y="6226"/>
                </a:moveTo>
                <a:cubicBezTo>
                  <a:pt x="16562" y="6191"/>
                  <a:pt x="16412" y="6167"/>
                  <a:pt x="16346" y="6176"/>
                </a:cubicBezTo>
                <a:cubicBezTo>
                  <a:pt x="16335" y="6178"/>
                  <a:pt x="16233" y="6480"/>
                  <a:pt x="16222" y="6524"/>
                </a:cubicBezTo>
                <a:cubicBezTo>
                  <a:pt x="16339" y="6498"/>
                  <a:pt x="16446" y="6389"/>
                  <a:pt x="16570" y="6499"/>
                </a:cubicBezTo>
                <a:cubicBezTo>
                  <a:pt x="16765" y="6672"/>
                  <a:pt x="16586" y="6824"/>
                  <a:pt x="16421" y="6896"/>
                </a:cubicBezTo>
                <a:cubicBezTo>
                  <a:pt x="16325" y="6938"/>
                  <a:pt x="16266" y="6896"/>
                  <a:pt x="16173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45160" y="1982880"/>
            <a:ext cx="428760" cy="633240"/>
          </a:xfrm>
          <a:custGeom>
            <a:avLst/>
            <a:gdLst/>
            <a:ahLst/>
            <a:rect l="l" t="t" r="r" b="b"/>
            <a:pathLst>
              <a:path w="1191" h="1762">
                <a:moveTo>
                  <a:pt x="18852" y="5655"/>
                </a:moveTo>
                <a:cubicBezTo>
                  <a:pt x="18852" y="5561"/>
                  <a:pt x="18997" y="5528"/>
                  <a:pt x="19075" y="5507"/>
                </a:cubicBezTo>
                <a:cubicBezTo>
                  <a:pt x="19091" y="5507"/>
                  <a:pt x="19108" y="5507"/>
                  <a:pt x="19124" y="5507"/>
                </a:cubicBezTo>
                <a:cubicBezTo>
                  <a:pt x="19101" y="5668"/>
                  <a:pt x="19068" y="5740"/>
                  <a:pt x="18976" y="5879"/>
                </a:cubicBezTo>
                <a:cubicBezTo>
                  <a:pt x="19203" y="5878"/>
                  <a:pt x="19213" y="6050"/>
                  <a:pt x="19025" y="6201"/>
                </a:cubicBezTo>
                <a:cubicBezTo>
                  <a:pt x="18883" y="6315"/>
                  <a:pt x="18793" y="6282"/>
                  <a:pt x="18653" y="6226"/>
                </a:cubicBezTo>
              </a:path>
              <a:path w="1191" h="1762">
                <a:moveTo>
                  <a:pt x="18653" y="6474"/>
                </a:moveTo>
                <a:cubicBezTo>
                  <a:pt x="18855" y="6414"/>
                  <a:pt x="19288" y="6218"/>
                  <a:pt x="19348" y="6375"/>
                </a:cubicBezTo>
              </a:path>
              <a:path w="1191" h="1762">
                <a:moveTo>
                  <a:pt x="18405" y="6846"/>
                </a:moveTo>
                <a:cubicBezTo>
                  <a:pt x="18583" y="6801"/>
                  <a:pt x="18614" y="6811"/>
                  <a:pt x="18777" y="6871"/>
                </a:cubicBezTo>
                <a:cubicBezTo>
                  <a:pt x="18742" y="7115"/>
                  <a:pt x="18558" y="7288"/>
                  <a:pt x="18256" y="7268"/>
                </a:cubicBezTo>
                <a:cubicBezTo>
                  <a:pt x="18188" y="7222"/>
                  <a:pt x="18158" y="7210"/>
                  <a:pt x="18231" y="7169"/>
                </a:cubicBezTo>
                <a:cubicBezTo>
                  <a:pt x="18426" y="7130"/>
                  <a:pt x="18458" y="7243"/>
                  <a:pt x="18628" y="7243"/>
                </a:cubicBezTo>
                <a:cubicBezTo>
                  <a:pt x="18669" y="7235"/>
                  <a:pt x="18711" y="7226"/>
                  <a:pt x="18752" y="7218"/>
                </a:cubicBezTo>
              </a:path>
              <a:path w="1191" h="1762">
                <a:moveTo>
                  <a:pt x="18976" y="6871"/>
                </a:moveTo>
                <a:cubicBezTo>
                  <a:pt x="18885" y="7007"/>
                  <a:pt x="18857" y="7043"/>
                  <a:pt x="18827" y="7144"/>
                </a:cubicBezTo>
                <a:cubicBezTo>
                  <a:pt x="18967" y="7225"/>
                  <a:pt x="19266" y="7260"/>
                  <a:pt x="19273" y="6995"/>
                </a:cubicBezTo>
                <a:cubicBezTo>
                  <a:pt x="19280" y="6736"/>
                  <a:pt x="18793" y="6912"/>
                  <a:pt x="19149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75680" y="2133720"/>
            <a:ext cx="688680" cy="304560"/>
          </a:xfrm>
          <a:custGeom>
            <a:avLst/>
            <a:gdLst/>
            <a:ahLst/>
            <a:rect l="l" t="t" r="r" b="b"/>
            <a:pathLst>
              <a:path w="1911" h="845">
                <a:moveTo>
                  <a:pt x="20935" y="6077"/>
                </a:moveTo>
                <a:cubicBezTo>
                  <a:pt x="20893" y="5950"/>
                  <a:pt x="20765" y="6216"/>
                  <a:pt x="20687" y="6325"/>
                </a:cubicBezTo>
                <a:cubicBezTo>
                  <a:pt x="20559" y="6517"/>
                  <a:pt x="20521" y="6556"/>
                  <a:pt x="20489" y="6697"/>
                </a:cubicBezTo>
                <a:cubicBezTo>
                  <a:pt x="20720" y="6799"/>
                  <a:pt x="20943" y="6623"/>
                  <a:pt x="21034" y="6350"/>
                </a:cubicBezTo>
                <a:cubicBezTo>
                  <a:pt x="21095" y="6167"/>
                  <a:pt x="20957" y="5988"/>
                  <a:pt x="20836" y="6127"/>
                </a:cubicBezTo>
              </a:path>
              <a:path w="1911" h="845">
                <a:moveTo>
                  <a:pt x="21258" y="6598"/>
                </a:moveTo>
                <a:cubicBezTo>
                  <a:pt x="21258" y="6648"/>
                  <a:pt x="21258" y="6665"/>
                  <a:pt x="21258" y="6598"/>
                </a:cubicBezTo>
              </a:path>
              <a:path w="1911" h="845">
                <a:moveTo>
                  <a:pt x="21828" y="5953"/>
                </a:moveTo>
                <a:cubicBezTo>
                  <a:pt x="21805" y="6036"/>
                  <a:pt x="21634" y="6675"/>
                  <a:pt x="21679" y="6499"/>
                </a:cubicBezTo>
              </a:path>
              <a:path w="1911" h="845">
                <a:moveTo>
                  <a:pt x="22225" y="5928"/>
                </a:moveTo>
                <a:cubicBezTo>
                  <a:pt x="22128" y="6075"/>
                  <a:pt x="22071" y="6105"/>
                  <a:pt x="22225" y="6201"/>
                </a:cubicBezTo>
                <a:cubicBezTo>
                  <a:pt x="22383" y="6300"/>
                  <a:pt x="22501" y="6483"/>
                  <a:pt x="22250" y="6573"/>
                </a:cubicBezTo>
                <a:cubicBezTo>
                  <a:pt x="22143" y="6573"/>
                  <a:pt x="22103" y="6568"/>
                  <a:pt x="22051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46680" y="3367080"/>
            <a:ext cx="3662280" cy="490680"/>
          </a:xfrm>
          <a:custGeom>
            <a:avLst/>
            <a:gdLst/>
            <a:ahLst/>
            <a:rect l="l" t="t" r="r" b="b"/>
            <a:pathLst>
              <a:path w="10171" h="1366">
                <a:moveTo>
                  <a:pt x="10964" y="10344"/>
                </a:moveTo>
                <a:cubicBezTo>
                  <a:pt x="11080" y="10321"/>
                  <a:pt x="11113" y="10314"/>
                  <a:pt x="11187" y="10294"/>
                </a:cubicBezTo>
              </a:path>
              <a:path w="10171" h="1366">
                <a:moveTo>
                  <a:pt x="12824" y="10269"/>
                </a:moveTo>
                <a:cubicBezTo>
                  <a:pt x="12752" y="10434"/>
                  <a:pt x="12716" y="10517"/>
                  <a:pt x="12725" y="10691"/>
                </a:cubicBezTo>
                <a:cubicBezTo>
                  <a:pt x="12918" y="10677"/>
                  <a:pt x="13024" y="10518"/>
                  <a:pt x="12973" y="10294"/>
                </a:cubicBezTo>
                <a:cubicBezTo>
                  <a:pt x="12927" y="10248"/>
                  <a:pt x="12915" y="10234"/>
                  <a:pt x="12874" y="10220"/>
                </a:cubicBezTo>
              </a:path>
              <a:path w="10171" h="1366">
                <a:moveTo>
                  <a:pt x="16371" y="9351"/>
                </a:moveTo>
                <a:cubicBezTo>
                  <a:pt x="16299" y="9681"/>
                  <a:pt x="16292" y="10069"/>
                  <a:pt x="16049" y="10269"/>
                </a:cubicBezTo>
              </a:path>
              <a:path w="10171" h="1366">
                <a:moveTo>
                  <a:pt x="19893" y="9922"/>
                </a:moveTo>
                <a:cubicBezTo>
                  <a:pt x="20026" y="9882"/>
                  <a:pt x="20068" y="9834"/>
                  <a:pt x="20141" y="9922"/>
                </a:cubicBezTo>
              </a:path>
              <a:path w="10171" h="1366">
                <a:moveTo>
                  <a:pt x="20290" y="9947"/>
                </a:moveTo>
                <a:lnTo>
                  <a:pt x="20290" y="9947"/>
                </a:lnTo>
              </a:path>
              <a:path w="10171" h="1366">
                <a:moveTo>
                  <a:pt x="20960" y="9426"/>
                </a:moveTo>
                <a:cubicBezTo>
                  <a:pt x="20788" y="9717"/>
                  <a:pt x="20609" y="9927"/>
                  <a:pt x="20737" y="10244"/>
                </a:cubicBezTo>
                <a:cubicBezTo>
                  <a:pt x="21018" y="10109"/>
                  <a:pt x="21251" y="9903"/>
                  <a:pt x="21059" y="9550"/>
                </a:cubicBezTo>
                <a:cubicBezTo>
                  <a:pt x="20953" y="9466"/>
                  <a:pt x="20925" y="9413"/>
                  <a:pt x="20886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30680" y="3251160"/>
            <a:ext cx="3071520" cy="874800"/>
          </a:xfrm>
          <a:custGeom>
            <a:avLst/>
            <a:gdLst/>
            <a:ahLst/>
            <a:rect l="l" t="t" r="r" b="b"/>
            <a:pathLst>
              <a:path w="8534" h="2432">
                <a:moveTo>
                  <a:pt x="8434" y="9500"/>
                </a:moveTo>
                <a:cubicBezTo>
                  <a:pt x="8480" y="9453"/>
                  <a:pt x="8786" y="9446"/>
                  <a:pt x="8880" y="9426"/>
                </a:cubicBezTo>
                <a:cubicBezTo>
                  <a:pt x="8913" y="9418"/>
                  <a:pt x="8946" y="9409"/>
                  <a:pt x="8979" y="9401"/>
                </a:cubicBezTo>
                <a:cubicBezTo>
                  <a:pt x="8927" y="9599"/>
                  <a:pt x="8727" y="9950"/>
                  <a:pt x="8756" y="10145"/>
                </a:cubicBezTo>
                <a:cubicBezTo>
                  <a:pt x="8764" y="10145"/>
                  <a:pt x="8773" y="10145"/>
                  <a:pt x="8781" y="10145"/>
                </a:cubicBezTo>
              </a:path>
              <a:path w="8534" h="2432">
                <a:moveTo>
                  <a:pt x="8161" y="10393"/>
                </a:moveTo>
                <a:cubicBezTo>
                  <a:pt x="8524" y="10344"/>
                  <a:pt x="8886" y="10293"/>
                  <a:pt x="9252" y="10269"/>
                </a:cubicBezTo>
                <a:cubicBezTo>
                  <a:pt x="9433" y="10257"/>
                  <a:pt x="9367" y="10265"/>
                  <a:pt x="9227" y="10344"/>
                </a:cubicBezTo>
              </a:path>
              <a:path w="8534" h="2432">
                <a:moveTo>
                  <a:pt x="8533" y="10443"/>
                </a:moveTo>
                <a:cubicBezTo>
                  <a:pt x="8454" y="10471"/>
                  <a:pt x="8227" y="10522"/>
                  <a:pt x="8186" y="10592"/>
                </a:cubicBezTo>
                <a:cubicBezTo>
                  <a:pt x="8118" y="10708"/>
                  <a:pt x="8072" y="10862"/>
                  <a:pt x="8012" y="10988"/>
                </a:cubicBezTo>
                <a:cubicBezTo>
                  <a:pt x="8133" y="10945"/>
                  <a:pt x="8271" y="10863"/>
                  <a:pt x="8409" y="10914"/>
                </a:cubicBezTo>
                <a:cubicBezTo>
                  <a:pt x="8757" y="11041"/>
                  <a:pt x="8318" y="11414"/>
                  <a:pt x="8161" y="11460"/>
                </a:cubicBezTo>
                <a:cubicBezTo>
                  <a:pt x="7974" y="11460"/>
                  <a:pt x="7908" y="11449"/>
                  <a:pt x="7863" y="11286"/>
                </a:cubicBezTo>
              </a:path>
              <a:path w="8534" h="2432">
                <a:moveTo>
                  <a:pt x="8781" y="10641"/>
                </a:moveTo>
                <a:cubicBezTo>
                  <a:pt x="8680" y="10916"/>
                  <a:pt x="8613" y="11077"/>
                  <a:pt x="8756" y="11336"/>
                </a:cubicBezTo>
                <a:cubicBezTo>
                  <a:pt x="8947" y="11227"/>
                  <a:pt x="9235" y="10978"/>
                  <a:pt x="8954" y="10740"/>
                </a:cubicBezTo>
                <a:cubicBezTo>
                  <a:pt x="8821" y="10702"/>
                  <a:pt x="8800" y="10704"/>
                  <a:pt x="8731" y="10666"/>
                </a:cubicBezTo>
              </a:path>
              <a:path w="8534" h="2432">
                <a:moveTo>
                  <a:pt x="9624" y="10220"/>
                </a:moveTo>
                <a:cubicBezTo>
                  <a:pt x="9656" y="10171"/>
                  <a:pt x="9659" y="10158"/>
                  <a:pt x="9699" y="10145"/>
                </a:cubicBezTo>
                <a:cubicBezTo>
                  <a:pt x="9744" y="10245"/>
                  <a:pt x="9802" y="10351"/>
                  <a:pt x="9847" y="10443"/>
                </a:cubicBezTo>
                <a:cubicBezTo>
                  <a:pt x="9847" y="10435"/>
                  <a:pt x="9847" y="10426"/>
                  <a:pt x="9847" y="10418"/>
                </a:cubicBezTo>
              </a:path>
              <a:path w="8534" h="2432">
                <a:moveTo>
                  <a:pt x="9897" y="10120"/>
                </a:moveTo>
                <a:cubicBezTo>
                  <a:pt x="9809" y="10252"/>
                  <a:pt x="9685" y="10397"/>
                  <a:pt x="9624" y="10542"/>
                </a:cubicBezTo>
                <a:cubicBezTo>
                  <a:pt x="9624" y="10550"/>
                  <a:pt x="9624" y="10559"/>
                  <a:pt x="9624" y="10567"/>
                </a:cubicBezTo>
              </a:path>
              <a:path w="8534" h="2432">
                <a:moveTo>
                  <a:pt x="10244" y="10319"/>
                </a:moveTo>
                <a:cubicBezTo>
                  <a:pt x="10197" y="10440"/>
                  <a:pt x="10307" y="10259"/>
                  <a:pt x="10393" y="10319"/>
                </a:cubicBezTo>
                <a:cubicBezTo>
                  <a:pt x="10593" y="10459"/>
                  <a:pt x="10394" y="10767"/>
                  <a:pt x="10220" y="10815"/>
                </a:cubicBezTo>
                <a:cubicBezTo>
                  <a:pt x="10203" y="10807"/>
                  <a:pt x="10187" y="10798"/>
                  <a:pt x="10170" y="10790"/>
                </a:cubicBezTo>
                <a:cubicBezTo>
                  <a:pt x="10135" y="10669"/>
                  <a:pt x="10261" y="10660"/>
                  <a:pt x="10368" y="10691"/>
                </a:cubicBezTo>
                <a:cubicBezTo>
                  <a:pt x="10393" y="10716"/>
                  <a:pt x="10401" y="10724"/>
                  <a:pt x="10418" y="10740"/>
                </a:cubicBezTo>
              </a:path>
              <a:path w="8534" h="2432">
                <a:moveTo>
                  <a:pt x="10220" y="10220"/>
                </a:moveTo>
                <a:cubicBezTo>
                  <a:pt x="10326" y="10176"/>
                  <a:pt x="10428" y="10139"/>
                  <a:pt x="10542" y="10120"/>
                </a:cubicBezTo>
              </a:path>
              <a:path w="8534" h="2432">
                <a:moveTo>
                  <a:pt x="10319" y="9674"/>
                </a:moveTo>
                <a:cubicBezTo>
                  <a:pt x="10231" y="9615"/>
                  <a:pt x="10387" y="9593"/>
                  <a:pt x="10443" y="9575"/>
                </a:cubicBezTo>
                <a:cubicBezTo>
                  <a:pt x="10494" y="9750"/>
                  <a:pt x="10487" y="9944"/>
                  <a:pt x="10269" y="10021"/>
                </a:cubicBezTo>
                <a:cubicBezTo>
                  <a:pt x="10226" y="9999"/>
                  <a:pt x="10214" y="9995"/>
                  <a:pt x="10195" y="9971"/>
                </a:cubicBezTo>
                <a:cubicBezTo>
                  <a:pt x="10253" y="9855"/>
                  <a:pt x="10332" y="9841"/>
                  <a:pt x="10443" y="9947"/>
                </a:cubicBezTo>
                <a:cubicBezTo>
                  <a:pt x="10480" y="10003"/>
                  <a:pt x="10497" y="10007"/>
                  <a:pt x="10492" y="10046"/>
                </a:cubicBezTo>
              </a:path>
              <a:path w="8534" h="2432">
                <a:moveTo>
                  <a:pt x="10939" y="10170"/>
                </a:moveTo>
                <a:cubicBezTo>
                  <a:pt x="11022" y="10158"/>
                  <a:pt x="11104" y="10132"/>
                  <a:pt x="11187" y="10120"/>
                </a:cubicBezTo>
              </a:path>
              <a:path w="8534" h="2432">
                <a:moveTo>
                  <a:pt x="11956" y="9203"/>
                </a:moveTo>
                <a:cubicBezTo>
                  <a:pt x="11956" y="9387"/>
                  <a:pt x="11966" y="9567"/>
                  <a:pt x="11931" y="9748"/>
                </a:cubicBezTo>
                <a:cubicBezTo>
                  <a:pt x="11912" y="9806"/>
                  <a:pt x="11903" y="9812"/>
                  <a:pt x="11906" y="9847"/>
                </a:cubicBezTo>
              </a:path>
              <a:path w="8534" h="2432">
                <a:moveTo>
                  <a:pt x="12278" y="9203"/>
                </a:moveTo>
                <a:cubicBezTo>
                  <a:pt x="12273" y="9315"/>
                  <a:pt x="12267" y="9395"/>
                  <a:pt x="12229" y="9500"/>
                </a:cubicBezTo>
                <a:cubicBezTo>
                  <a:pt x="12341" y="9500"/>
                  <a:pt x="12410" y="9472"/>
                  <a:pt x="12526" y="9500"/>
                </a:cubicBezTo>
                <a:cubicBezTo>
                  <a:pt x="12574" y="9524"/>
                  <a:pt x="12591" y="9534"/>
                  <a:pt x="12576" y="9475"/>
                </a:cubicBezTo>
              </a:path>
              <a:path w="8534" h="2432">
                <a:moveTo>
                  <a:pt x="12526" y="9029"/>
                </a:moveTo>
                <a:cubicBezTo>
                  <a:pt x="12526" y="9268"/>
                  <a:pt x="12541" y="9518"/>
                  <a:pt x="12502" y="9748"/>
                </a:cubicBezTo>
                <a:cubicBezTo>
                  <a:pt x="12502" y="9756"/>
                  <a:pt x="12502" y="9765"/>
                  <a:pt x="12502" y="9773"/>
                </a:cubicBezTo>
              </a:path>
              <a:path w="8534" h="2432">
                <a:moveTo>
                  <a:pt x="11609" y="10120"/>
                </a:moveTo>
                <a:cubicBezTo>
                  <a:pt x="11931" y="10051"/>
                  <a:pt x="12249" y="10008"/>
                  <a:pt x="12576" y="9971"/>
                </a:cubicBezTo>
                <a:cubicBezTo>
                  <a:pt x="12677" y="9960"/>
                  <a:pt x="12737" y="9947"/>
                  <a:pt x="12824" y="9947"/>
                </a:cubicBezTo>
              </a:path>
              <a:path w="8534" h="2432">
                <a:moveTo>
                  <a:pt x="11881" y="10344"/>
                </a:moveTo>
                <a:cubicBezTo>
                  <a:pt x="11894" y="10304"/>
                  <a:pt x="11893" y="10334"/>
                  <a:pt x="11906" y="10294"/>
                </a:cubicBezTo>
                <a:cubicBezTo>
                  <a:pt x="11868" y="10525"/>
                  <a:pt x="11776" y="10783"/>
                  <a:pt x="11658" y="10988"/>
                </a:cubicBezTo>
                <a:cubicBezTo>
                  <a:pt x="11650" y="10988"/>
                  <a:pt x="11641" y="10988"/>
                  <a:pt x="11633" y="10988"/>
                </a:cubicBezTo>
              </a:path>
              <a:path w="8534" h="2432">
                <a:moveTo>
                  <a:pt x="12229" y="10244"/>
                </a:moveTo>
                <a:cubicBezTo>
                  <a:pt x="12178" y="10429"/>
                  <a:pt x="12128" y="10603"/>
                  <a:pt x="12105" y="10790"/>
                </a:cubicBezTo>
                <a:cubicBezTo>
                  <a:pt x="12303" y="10790"/>
                  <a:pt x="12498" y="10642"/>
                  <a:pt x="12452" y="10393"/>
                </a:cubicBezTo>
                <a:cubicBezTo>
                  <a:pt x="12385" y="10326"/>
                  <a:pt x="12370" y="10301"/>
                  <a:pt x="12303" y="10319"/>
                </a:cubicBezTo>
              </a:path>
              <a:path w="8534" h="2432">
                <a:moveTo>
                  <a:pt x="13345" y="10294"/>
                </a:moveTo>
                <a:cubicBezTo>
                  <a:pt x="13364" y="10236"/>
                  <a:pt x="13493" y="10194"/>
                  <a:pt x="13568" y="10170"/>
                </a:cubicBezTo>
                <a:cubicBezTo>
                  <a:pt x="13614" y="10170"/>
                  <a:pt x="13611" y="10188"/>
                  <a:pt x="13543" y="10244"/>
                </a:cubicBezTo>
              </a:path>
              <a:path w="8534" h="2432">
                <a:moveTo>
                  <a:pt x="13370" y="10368"/>
                </a:moveTo>
                <a:cubicBezTo>
                  <a:pt x="13499" y="10329"/>
                  <a:pt x="13632" y="10313"/>
                  <a:pt x="13767" y="10294"/>
                </a:cubicBezTo>
              </a:path>
              <a:path w="8534" h="2432">
                <a:moveTo>
                  <a:pt x="14412" y="9897"/>
                </a:moveTo>
                <a:cubicBezTo>
                  <a:pt x="14233" y="10194"/>
                  <a:pt x="14170" y="10225"/>
                  <a:pt x="14238" y="10542"/>
                </a:cubicBezTo>
                <a:cubicBezTo>
                  <a:pt x="14508" y="10499"/>
                  <a:pt x="14908" y="10388"/>
                  <a:pt x="14784" y="9996"/>
                </a:cubicBezTo>
                <a:cubicBezTo>
                  <a:pt x="14731" y="9828"/>
                  <a:pt x="14438" y="9726"/>
                  <a:pt x="14684" y="10071"/>
                </a:cubicBezTo>
              </a:path>
              <a:path w="8534" h="2432">
                <a:moveTo>
                  <a:pt x="15106" y="10368"/>
                </a:moveTo>
                <a:cubicBezTo>
                  <a:pt x="15220" y="10368"/>
                  <a:pt x="15169" y="10364"/>
                  <a:pt x="15304" y="10269"/>
                </a:cubicBezTo>
              </a:path>
              <a:path w="8534" h="2432">
                <a:moveTo>
                  <a:pt x="15627" y="9599"/>
                </a:moveTo>
                <a:cubicBezTo>
                  <a:pt x="15627" y="9831"/>
                  <a:pt x="15624" y="10066"/>
                  <a:pt x="15577" y="10294"/>
                </a:cubicBezTo>
                <a:cubicBezTo>
                  <a:pt x="15550" y="10351"/>
                  <a:pt x="15544" y="10360"/>
                  <a:pt x="15577" y="10269"/>
                </a:cubicBezTo>
              </a:path>
              <a:path w="8534" h="2432">
                <a:moveTo>
                  <a:pt x="16049" y="9575"/>
                </a:moveTo>
                <a:cubicBezTo>
                  <a:pt x="16036" y="9686"/>
                  <a:pt x="15942" y="9922"/>
                  <a:pt x="16123" y="9922"/>
                </a:cubicBezTo>
                <a:cubicBezTo>
                  <a:pt x="16270" y="9897"/>
                  <a:pt x="16318" y="9890"/>
                  <a:pt x="16396" y="9823"/>
                </a:cubicBezTo>
              </a:path>
              <a:path w="8534" h="2432">
                <a:moveTo>
                  <a:pt x="14536" y="9847"/>
                </a:moveTo>
                <a:cubicBezTo>
                  <a:pt x="14564" y="9847"/>
                  <a:pt x="14574" y="9845"/>
                  <a:pt x="14585" y="9823"/>
                </a:cubicBezTo>
                <a:cubicBezTo>
                  <a:pt x="14539" y="9823"/>
                  <a:pt x="14447" y="9897"/>
                  <a:pt x="14461" y="9897"/>
                </a:cubicBezTo>
                <a:cubicBezTo>
                  <a:pt x="14486" y="9889"/>
                  <a:pt x="14511" y="9880"/>
                  <a:pt x="14536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16800" y="3224160"/>
            <a:ext cx="687240" cy="687600"/>
          </a:xfrm>
          <a:custGeom>
            <a:avLst/>
            <a:gdLst/>
            <a:ahLst/>
            <a:rect l="l" t="t" r="r" b="b"/>
            <a:pathLst>
              <a:path w="1911" h="1911">
                <a:moveTo>
                  <a:pt x="18802" y="9178"/>
                </a:moveTo>
                <a:cubicBezTo>
                  <a:pt x="18741" y="9219"/>
                  <a:pt x="18822" y="9103"/>
                  <a:pt x="18876" y="9054"/>
                </a:cubicBezTo>
                <a:cubicBezTo>
                  <a:pt x="18975" y="8963"/>
                  <a:pt x="19104" y="9025"/>
                  <a:pt x="19224" y="8979"/>
                </a:cubicBezTo>
                <a:cubicBezTo>
                  <a:pt x="19232" y="8971"/>
                  <a:pt x="19240" y="8962"/>
                  <a:pt x="19248" y="8954"/>
                </a:cubicBezTo>
                <a:cubicBezTo>
                  <a:pt x="19211" y="9124"/>
                  <a:pt x="19102" y="9299"/>
                  <a:pt x="19050" y="9475"/>
                </a:cubicBezTo>
                <a:cubicBezTo>
                  <a:pt x="19013" y="9624"/>
                  <a:pt x="18996" y="9638"/>
                  <a:pt x="19000" y="9723"/>
                </a:cubicBezTo>
              </a:path>
              <a:path w="1911" h="1911">
                <a:moveTo>
                  <a:pt x="18430" y="10021"/>
                </a:moveTo>
                <a:cubicBezTo>
                  <a:pt x="18808" y="9948"/>
                  <a:pt x="19169" y="9822"/>
                  <a:pt x="19546" y="9748"/>
                </a:cubicBezTo>
                <a:cubicBezTo>
                  <a:pt x="19621" y="9748"/>
                  <a:pt x="19618" y="9763"/>
                  <a:pt x="19496" y="9823"/>
                </a:cubicBezTo>
              </a:path>
              <a:path w="1911" h="1911">
                <a:moveTo>
                  <a:pt x="18529" y="10319"/>
                </a:moveTo>
                <a:cubicBezTo>
                  <a:pt x="18522" y="10397"/>
                  <a:pt x="18526" y="10409"/>
                  <a:pt x="18479" y="10468"/>
                </a:cubicBezTo>
                <a:cubicBezTo>
                  <a:pt x="18600" y="10485"/>
                  <a:pt x="18778" y="10493"/>
                  <a:pt x="18752" y="10666"/>
                </a:cubicBezTo>
                <a:cubicBezTo>
                  <a:pt x="18697" y="11036"/>
                  <a:pt x="18453" y="10793"/>
                  <a:pt x="18380" y="10641"/>
                </a:cubicBezTo>
              </a:path>
              <a:path w="1911" h="1911">
                <a:moveTo>
                  <a:pt x="18554" y="10344"/>
                </a:moveTo>
                <a:cubicBezTo>
                  <a:pt x="18755" y="10298"/>
                  <a:pt x="18949" y="10276"/>
                  <a:pt x="19149" y="10244"/>
                </a:cubicBezTo>
                <a:cubicBezTo>
                  <a:pt x="19174" y="10236"/>
                  <a:pt x="19199" y="10228"/>
                  <a:pt x="19224" y="10220"/>
                </a:cubicBezTo>
                <a:cubicBezTo>
                  <a:pt x="19183" y="10396"/>
                  <a:pt x="19102" y="10558"/>
                  <a:pt x="19075" y="10740"/>
                </a:cubicBezTo>
                <a:cubicBezTo>
                  <a:pt x="19281" y="10697"/>
                  <a:pt x="19564" y="10560"/>
                  <a:pt x="19422" y="10269"/>
                </a:cubicBezTo>
                <a:cubicBezTo>
                  <a:pt x="19341" y="10209"/>
                  <a:pt x="19328" y="10194"/>
                  <a:pt x="19273" y="10170"/>
                </a:cubicBezTo>
              </a:path>
              <a:path w="1911" h="1911">
                <a:moveTo>
                  <a:pt x="19893" y="10096"/>
                </a:moveTo>
                <a:cubicBezTo>
                  <a:pt x="20044" y="10071"/>
                  <a:pt x="20148" y="10018"/>
                  <a:pt x="20290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7880" y="3197160"/>
            <a:ext cx="509400" cy="446040"/>
          </a:xfrm>
          <a:custGeom>
            <a:avLst/>
            <a:gdLst/>
            <a:ahLst/>
            <a:rect l="l" t="t" r="r" b="b"/>
            <a:pathLst>
              <a:path w="1415" h="1241">
                <a:moveTo>
                  <a:pt x="21406" y="10046"/>
                </a:moveTo>
                <a:cubicBezTo>
                  <a:pt x="21397" y="10095"/>
                  <a:pt x="21385" y="10099"/>
                  <a:pt x="21406" y="10120"/>
                </a:cubicBezTo>
              </a:path>
              <a:path w="1415" h="1241">
                <a:moveTo>
                  <a:pt x="22002" y="9252"/>
                </a:moveTo>
                <a:cubicBezTo>
                  <a:pt x="21981" y="9477"/>
                  <a:pt x="21965" y="9764"/>
                  <a:pt x="21853" y="9971"/>
                </a:cubicBezTo>
                <a:cubicBezTo>
                  <a:pt x="21853" y="9955"/>
                  <a:pt x="21853" y="9938"/>
                  <a:pt x="21853" y="9922"/>
                </a:cubicBezTo>
              </a:path>
              <a:path w="1415" h="1241">
                <a:moveTo>
                  <a:pt x="22250" y="9550"/>
                </a:moveTo>
                <a:cubicBezTo>
                  <a:pt x="22214" y="9710"/>
                  <a:pt x="22351" y="9564"/>
                  <a:pt x="22473" y="9550"/>
                </a:cubicBezTo>
                <a:cubicBezTo>
                  <a:pt x="22754" y="9518"/>
                  <a:pt x="22783" y="9315"/>
                  <a:pt x="22796" y="9029"/>
                </a:cubicBezTo>
                <a:cubicBezTo>
                  <a:pt x="22788" y="8988"/>
                  <a:pt x="22779" y="8946"/>
                  <a:pt x="22771" y="8905"/>
                </a:cubicBezTo>
                <a:cubicBezTo>
                  <a:pt x="22713" y="9050"/>
                  <a:pt x="22633" y="9466"/>
                  <a:pt x="22572" y="9699"/>
                </a:cubicBezTo>
                <a:cubicBezTo>
                  <a:pt x="22537" y="9831"/>
                  <a:pt x="22553" y="9946"/>
                  <a:pt x="22498" y="9872"/>
                </a:cubicBezTo>
              </a:path>
              <a:path w="1415" h="1241">
                <a:moveTo>
                  <a:pt x="22275" y="9277"/>
                </a:moveTo>
                <a:cubicBezTo>
                  <a:pt x="22302" y="9242"/>
                  <a:pt x="22316" y="9219"/>
                  <a:pt x="22349" y="9203"/>
                </a:cubicBezTo>
                <a:cubicBezTo>
                  <a:pt x="22326" y="9317"/>
                  <a:pt x="22274" y="9432"/>
                  <a:pt x="22250" y="9550"/>
                </a:cubicBezTo>
                <a:cubicBezTo>
                  <a:pt x="22250" y="9592"/>
                  <a:pt x="22250" y="9583"/>
                  <a:pt x="22250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3040" y="1544760"/>
            <a:ext cx="2089080" cy="1251000"/>
          </a:xfrm>
          <a:custGeom>
            <a:avLst/>
            <a:gdLst/>
            <a:ahLst/>
            <a:rect l="l" t="t" r="r" b="b"/>
            <a:pathLst>
              <a:path w="5805" h="3474">
                <a:moveTo>
                  <a:pt x="19695" y="4738"/>
                </a:moveTo>
                <a:cubicBezTo>
                  <a:pt x="19413" y="4793"/>
                  <a:pt x="19167" y="4836"/>
                  <a:pt x="18876" y="4862"/>
                </a:cubicBezTo>
                <a:cubicBezTo>
                  <a:pt x="18694" y="4878"/>
                  <a:pt x="18478" y="4754"/>
                  <a:pt x="18331" y="4862"/>
                </a:cubicBezTo>
                <a:cubicBezTo>
                  <a:pt x="18259" y="4915"/>
                  <a:pt x="18155" y="5222"/>
                  <a:pt x="18132" y="5308"/>
                </a:cubicBezTo>
                <a:cubicBezTo>
                  <a:pt x="17961" y="5954"/>
                  <a:pt x="17852" y="6620"/>
                  <a:pt x="17686" y="7268"/>
                </a:cubicBezTo>
                <a:cubicBezTo>
                  <a:pt x="17646" y="7425"/>
                  <a:pt x="17605" y="7585"/>
                  <a:pt x="17562" y="7739"/>
                </a:cubicBezTo>
                <a:cubicBezTo>
                  <a:pt x="17978" y="7723"/>
                  <a:pt x="18380" y="7658"/>
                  <a:pt x="18802" y="7590"/>
                </a:cubicBezTo>
                <a:cubicBezTo>
                  <a:pt x="19588" y="7464"/>
                  <a:pt x="20387" y="7346"/>
                  <a:pt x="21183" y="7317"/>
                </a:cubicBezTo>
                <a:cubicBezTo>
                  <a:pt x="21513" y="7305"/>
                  <a:pt x="21844" y="7293"/>
                  <a:pt x="22175" y="7293"/>
                </a:cubicBezTo>
                <a:cubicBezTo>
                  <a:pt x="22347" y="7293"/>
                  <a:pt x="22794" y="7363"/>
                  <a:pt x="22870" y="7268"/>
                </a:cubicBezTo>
                <a:cubicBezTo>
                  <a:pt x="22938" y="7182"/>
                  <a:pt x="22949" y="6870"/>
                  <a:pt x="22969" y="6772"/>
                </a:cubicBezTo>
                <a:cubicBezTo>
                  <a:pt x="23083" y="6209"/>
                  <a:pt x="23219" y="5627"/>
                  <a:pt x="23292" y="5060"/>
                </a:cubicBezTo>
                <a:cubicBezTo>
                  <a:pt x="23316" y="4871"/>
                  <a:pt x="23316" y="4681"/>
                  <a:pt x="23341" y="4490"/>
                </a:cubicBezTo>
                <a:cubicBezTo>
                  <a:pt x="23350" y="4422"/>
                  <a:pt x="23358" y="4358"/>
                  <a:pt x="23366" y="4291"/>
                </a:cubicBezTo>
                <a:cubicBezTo>
                  <a:pt x="23228" y="4319"/>
                  <a:pt x="23088" y="4356"/>
                  <a:pt x="22944" y="4366"/>
                </a:cubicBezTo>
                <a:cubicBezTo>
                  <a:pt x="22573" y="4391"/>
                  <a:pt x="22199" y="4371"/>
                  <a:pt x="21828" y="4390"/>
                </a:cubicBezTo>
                <a:cubicBezTo>
                  <a:pt x="21548" y="4404"/>
                  <a:pt x="21263" y="4415"/>
                  <a:pt x="20985" y="4440"/>
                </a:cubicBezTo>
                <a:cubicBezTo>
                  <a:pt x="20752" y="4461"/>
                  <a:pt x="20523" y="4530"/>
                  <a:pt x="20290" y="4564"/>
                </a:cubicBezTo>
                <a:cubicBezTo>
                  <a:pt x="20031" y="4601"/>
                  <a:pt x="19794" y="4633"/>
                  <a:pt x="19546" y="4713"/>
                </a:cubicBezTo>
                <a:cubicBezTo>
                  <a:pt x="19324" y="4784"/>
                  <a:pt x="19092" y="4839"/>
                  <a:pt x="18876" y="4911"/>
                </a:cubicBezTo>
                <a:cubicBezTo>
                  <a:pt x="18868" y="4919"/>
                  <a:pt x="18860" y="4928"/>
                  <a:pt x="18852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48240" y="2867040"/>
            <a:ext cx="2197440" cy="1160280"/>
          </a:xfrm>
          <a:custGeom>
            <a:avLst/>
            <a:gdLst/>
            <a:ahLst/>
            <a:rect l="l" t="t" r="r" b="b"/>
            <a:pathLst>
              <a:path w="6103" h="3226">
                <a:moveTo>
                  <a:pt x="17983" y="8756"/>
                </a:moveTo>
                <a:cubicBezTo>
                  <a:pt x="17928" y="9098"/>
                  <a:pt x="17865" y="9454"/>
                  <a:pt x="17810" y="9798"/>
                </a:cubicBezTo>
                <a:cubicBezTo>
                  <a:pt x="17736" y="10260"/>
                  <a:pt x="17651" y="10719"/>
                  <a:pt x="17636" y="11187"/>
                </a:cubicBezTo>
                <a:cubicBezTo>
                  <a:pt x="18026" y="11187"/>
                  <a:pt x="18412" y="11155"/>
                  <a:pt x="18802" y="11137"/>
                </a:cubicBezTo>
                <a:cubicBezTo>
                  <a:pt x="19952" y="11085"/>
                  <a:pt x="21105" y="11000"/>
                  <a:pt x="22250" y="10889"/>
                </a:cubicBezTo>
                <a:cubicBezTo>
                  <a:pt x="22422" y="10872"/>
                  <a:pt x="22746" y="10862"/>
                  <a:pt x="22920" y="10790"/>
                </a:cubicBezTo>
                <a:cubicBezTo>
                  <a:pt x="22996" y="10759"/>
                  <a:pt x="22946" y="10806"/>
                  <a:pt x="22994" y="10691"/>
                </a:cubicBezTo>
                <a:cubicBezTo>
                  <a:pt x="23135" y="10352"/>
                  <a:pt x="23220" y="9926"/>
                  <a:pt x="23341" y="9575"/>
                </a:cubicBezTo>
                <a:cubicBezTo>
                  <a:pt x="23478" y="9179"/>
                  <a:pt x="23610" y="8728"/>
                  <a:pt x="23664" y="8310"/>
                </a:cubicBezTo>
                <a:cubicBezTo>
                  <a:pt x="23679" y="8197"/>
                  <a:pt x="23677" y="8124"/>
                  <a:pt x="23713" y="8012"/>
                </a:cubicBezTo>
                <a:cubicBezTo>
                  <a:pt x="23736" y="7989"/>
                  <a:pt x="23744" y="7985"/>
                  <a:pt x="23738" y="7962"/>
                </a:cubicBezTo>
                <a:cubicBezTo>
                  <a:pt x="23493" y="7978"/>
                  <a:pt x="23265" y="8036"/>
                  <a:pt x="23019" y="8062"/>
                </a:cubicBezTo>
                <a:cubicBezTo>
                  <a:pt x="22440" y="8123"/>
                  <a:pt x="21860" y="8133"/>
                  <a:pt x="21282" y="8210"/>
                </a:cubicBezTo>
                <a:cubicBezTo>
                  <a:pt x="20930" y="8257"/>
                  <a:pt x="20586" y="8351"/>
                  <a:pt x="20241" y="8434"/>
                </a:cubicBezTo>
                <a:cubicBezTo>
                  <a:pt x="19944" y="8506"/>
                  <a:pt x="19679" y="8587"/>
                  <a:pt x="19372" y="8632"/>
                </a:cubicBezTo>
                <a:cubicBezTo>
                  <a:pt x="19134" y="8667"/>
                  <a:pt x="18888" y="8707"/>
                  <a:pt x="18653" y="8731"/>
                </a:cubicBezTo>
                <a:cubicBezTo>
                  <a:pt x="18492" y="8747"/>
                  <a:pt x="18318" y="8774"/>
                  <a:pt x="18157" y="8781"/>
                </a:cubicBezTo>
                <a:cubicBezTo>
                  <a:pt x="18021" y="8787"/>
                  <a:pt x="17893" y="8786"/>
                  <a:pt x="17760" y="8806"/>
                </a:cubicBezTo>
                <a:cubicBezTo>
                  <a:pt x="17713" y="8813"/>
                  <a:pt x="17677" y="8825"/>
                  <a:pt x="17636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an’t multiply to get the denominator to be 100, then you need to div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12  means 3 divided by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…. 5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0" y="1901880"/>
            <a:ext cx="152280" cy="260280"/>
          </a:xfrm>
          <a:custGeom>
            <a:avLst/>
            <a:gdLst/>
            <a:ahLst/>
            <a:rect l="l" t="t" r="r" b="b"/>
            <a:pathLst>
              <a:path w="422" h="721">
                <a:moveTo>
                  <a:pt x="22423" y="5283"/>
                </a:moveTo>
                <a:cubicBezTo>
                  <a:pt x="22364" y="5290"/>
                  <a:pt x="22310" y="5308"/>
                  <a:pt x="22250" y="5308"/>
                </a:cubicBezTo>
                <a:cubicBezTo>
                  <a:pt x="22201" y="5308"/>
                  <a:pt x="22164" y="5332"/>
                  <a:pt x="22151" y="5383"/>
                </a:cubicBezTo>
                <a:cubicBezTo>
                  <a:pt x="22136" y="5439"/>
                  <a:pt x="22152" y="5480"/>
                  <a:pt x="22126" y="5531"/>
                </a:cubicBezTo>
                <a:cubicBezTo>
                  <a:pt x="22184" y="5522"/>
                  <a:pt x="22262" y="5487"/>
                  <a:pt x="22324" y="5507"/>
                </a:cubicBezTo>
                <a:cubicBezTo>
                  <a:pt x="22432" y="5542"/>
                  <a:pt x="22415" y="5704"/>
                  <a:pt x="22399" y="5779"/>
                </a:cubicBezTo>
                <a:cubicBezTo>
                  <a:pt x="22372" y="5907"/>
                  <a:pt x="22307" y="5980"/>
                  <a:pt x="22175" y="6003"/>
                </a:cubicBezTo>
                <a:cubicBezTo>
                  <a:pt x="22080" y="6019"/>
                  <a:pt x="22018" y="5971"/>
                  <a:pt x="22002" y="5879"/>
                </a:cubicBezTo>
                <a:cubicBezTo>
                  <a:pt x="22002" y="5871"/>
                  <a:pt x="22002" y="5862"/>
                  <a:pt x="22002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16840" y="2251080"/>
            <a:ext cx="1000080" cy="463680"/>
          </a:xfrm>
          <a:custGeom>
            <a:avLst/>
            <a:gdLst/>
            <a:ahLst/>
            <a:rect l="l" t="t" r="r" b="b"/>
            <a:pathLst>
              <a:path w="2779" h="1291">
                <a:moveTo>
                  <a:pt x="19794" y="7541"/>
                </a:moveTo>
                <a:cubicBezTo>
                  <a:pt x="19815" y="7456"/>
                  <a:pt x="19819" y="7386"/>
                  <a:pt x="19819" y="7293"/>
                </a:cubicBezTo>
                <a:cubicBezTo>
                  <a:pt x="19819" y="7119"/>
                  <a:pt x="19866" y="6946"/>
                  <a:pt x="19844" y="6772"/>
                </a:cubicBezTo>
                <a:cubicBezTo>
                  <a:pt x="19836" y="6710"/>
                  <a:pt x="19776" y="6577"/>
                  <a:pt x="19769" y="6548"/>
                </a:cubicBezTo>
                <a:cubicBezTo>
                  <a:pt x="19769" y="6540"/>
                  <a:pt x="19769" y="6532"/>
                  <a:pt x="19769" y="6524"/>
                </a:cubicBezTo>
                <a:cubicBezTo>
                  <a:pt x="19947" y="6514"/>
                  <a:pt x="20115" y="6472"/>
                  <a:pt x="20290" y="6449"/>
                </a:cubicBezTo>
                <a:cubicBezTo>
                  <a:pt x="20513" y="6420"/>
                  <a:pt x="20735" y="6385"/>
                  <a:pt x="20960" y="6375"/>
                </a:cubicBezTo>
                <a:cubicBezTo>
                  <a:pt x="21228" y="6363"/>
                  <a:pt x="21487" y="6334"/>
                  <a:pt x="21754" y="6300"/>
                </a:cubicBezTo>
                <a:cubicBezTo>
                  <a:pt x="21983" y="6271"/>
                  <a:pt x="22218" y="6257"/>
                  <a:pt x="22448" y="6251"/>
                </a:cubicBezTo>
                <a:cubicBezTo>
                  <a:pt x="22489" y="6250"/>
                  <a:pt x="22482" y="6251"/>
                  <a:pt x="22523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12080" y="2374920"/>
            <a:ext cx="160200" cy="233280"/>
          </a:xfrm>
          <a:custGeom>
            <a:avLst/>
            <a:gdLst/>
            <a:ahLst/>
            <a:rect l="l" t="t" r="r" b="b"/>
            <a:pathLst>
              <a:path w="447" h="646">
                <a:moveTo>
                  <a:pt x="22200" y="6598"/>
                </a:moveTo>
                <a:cubicBezTo>
                  <a:pt x="22123" y="6686"/>
                  <a:pt x="22074" y="6766"/>
                  <a:pt x="22027" y="6871"/>
                </a:cubicBezTo>
                <a:cubicBezTo>
                  <a:pt x="22001" y="6930"/>
                  <a:pt x="21987" y="7016"/>
                  <a:pt x="21977" y="7069"/>
                </a:cubicBezTo>
                <a:cubicBezTo>
                  <a:pt x="21967" y="7123"/>
                  <a:pt x="22002" y="7140"/>
                  <a:pt x="22002" y="7193"/>
                </a:cubicBezTo>
                <a:cubicBezTo>
                  <a:pt x="22002" y="7238"/>
                  <a:pt x="22084" y="7241"/>
                  <a:pt x="22126" y="7243"/>
                </a:cubicBezTo>
                <a:cubicBezTo>
                  <a:pt x="22195" y="7247"/>
                  <a:pt x="22229" y="7215"/>
                  <a:pt x="22275" y="7169"/>
                </a:cubicBezTo>
                <a:cubicBezTo>
                  <a:pt x="22332" y="7111"/>
                  <a:pt x="22363" y="7068"/>
                  <a:pt x="22399" y="6995"/>
                </a:cubicBezTo>
                <a:cubicBezTo>
                  <a:pt x="22421" y="6950"/>
                  <a:pt x="22442" y="6872"/>
                  <a:pt x="22423" y="6821"/>
                </a:cubicBezTo>
                <a:cubicBezTo>
                  <a:pt x="22407" y="6778"/>
                  <a:pt x="22399" y="6708"/>
                  <a:pt x="22349" y="6697"/>
                </a:cubicBezTo>
                <a:cubicBezTo>
                  <a:pt x="22310" y="6688"/>
                  <a:pt x="22296" y="6664"/>
                  <a:pt x="22275" y="6648"/>
                </a:cubicBezTo>
                <a:cubicBezTo>
                  <a:pt x="22252" y="6625"/>
                  <a:pt x="22244" y="6614"/>
                  <a:pt x="22250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1160" y="1928880"/>
            <a:ext cx="179640" cy="268200"/>
          </a:xfrm>
          <a:custGeom>
            <a:avLst/>
            <a:gdLst/>
            <a:ahLst/>
            <a:rect l="l" t="t" r="r" b="b"/>
            <a:pathLst>
              <a:path w="498" h="745">
                <a:moveTo>
                  <a:pt x="21382" y="5531"/>
                </a:moveTo>
                <a:cubicBezTo>
                  <a:pt x="21389" y="5509"/>
                  <a:pt x="21402" y="5479"/>
                  <a:pt x="21431" y="5457"/>
                </a:cubicBezTo>
                <a:cubicBezTo>
                  <a:pt x="21482" y="5418"/>
                  <a:pt x="21577" y="5316"/>
                  <a:pt x="21654" y="5358"/>
                </a:cubicBezTo>
                <a:cubicBezTo>
                  <a:pt x="21748" y="5410"/>
                  <a:pt x="21689" y="5558"/>
                  <a:pt x="21654" y="5631"/>
                </a:cubicBezTo>
                <a:cubicBezTo>
                  <a:pt x="21604" y="5736"/>
                  <a:pt x="21505" y="5865"/>
                  <a:pt x="21431" y="5953"/>
                </a:cubicBezTo>
                <a:cubicBezTo>
                  <a:pt x="21391" y="6000"/>
                  <a:pt x="21326" y="6076"/>
                  <a:pt x="21282" y="6102"/>
                </a:cubicBezTo>
                <a:cubicBezTo>
                  <a:pt x="21328" y="6087"/>
                  <a:pt x="21314" y="6019"/>
                  <a:pt x="21357" y="5978"/>
                </a:cubicBezTo>
                <a:cubicBezTo>
                  <a:pt x="21392" y="5945"/>
                  <a:pt x="21455" y="5931"/>
                  <a:pt x="21481" y="5953"/>
                </a:cubicBezTo>
                <a:cubicBezTo>
                  <a:pt x="21523" y="5990"/>
                  <a:pt x="21580" y="6093"/>
                  <a:pt x="21654" y="6052"/>
                </a:cubicBezTo>
                <a:cubicBezTo>
                  <a:pt x="21702" y="6025"/>
                  <a:pt x="21760" y="5950"/>
                  <a:pt x="21779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56720" y="2643120"/>
            <a:ext cx="172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22151" y="7367"/>
                </a:moveTo>
                <a:cubicBezTo>
                  <a:pt x="22151" y="7292"/>
                  <a:pt x="22161" y="7467"/>
                  <a:pt x="22151" y="7541"/>
                </a:cubicBezTo>
                <a:cubicBezTo>
                  <a:pt x="22139" y="7635"/>
                  <a:pt x="22108" y="7722"/>
                  <a:pt x="22101" y="7813"/>
                </a:cubicBezTo>
                <a:cubicBezTo>
                  <a:pt x="22096" y="7882"/>
                  <a:pt x="22114" y="7837"/>
                  <a:pt x="22101" y="7888"/>
                </a:cubicBezTo>
                <a:cubicBezTo>
                  <a:pt x="22096" y="7909"/>
                  <a:pt x="22101" y="7940"/>
                  <a:pt x="22101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85080" y="2901960"/>
            <a:ext cx="169920" cy="16992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22027" y="8086"/>
                </a:moveTo>
                <a:cubicBezTo>
                  <a:pt x="22027" y="8078"/>
                  <a:pt x="22027" y="8070"/>
                  <a:pt x="22027" y="8062"/>
                </a:cubicBezTo>
                <a:cubicBezTo>
                  <a:pt x="22091" y="8083"/>
                  <a:pt x="21999" y="8088"/>
                  <a:pt x="21977" y="8136"/>
                </a:cubicBezTo>
                <a:cubicBezTo>
                  <a:pt x="21939" y="8217"/>
                  <a:pt x="21908" y="8345"/>
                  <a:pt x="21903" y="8434"/>
                </a:cubicBezTo>
                <a:cubicBezTo>
                  <a:pt x="21898" y="8539"/>
                  <a:pt x="21994" y="8529"/>
                  <a:pt x="22076" y="8533"/>
                </a:cubicBezTo>
                <a:cubicBezTo>
                  <a:pt x="22122" y="8535"/>
                  <a:pt x="22215" y="8508"/>
                  <a:pt x="22250" y="8483"/>
                </a:cubicBezTo>
                <a:cubicBezTo>
                  <a:pt x="22324" y="8429"/>
                  <a:pt x="22366" y="8342"/>
                  <a:pt x="22374" y="8260"/>
                </a:cubicBezTo>
                <a:cubicBezTo>
                  <a:pt x="22382" y="8181"/>
                  <a:pt x="22336" y="8148"/>
                  <a:pt x="22275" y="8111"/>
                </a:cubicBezTo>
                <a:cubicBezTo>
                  <a:pt x="22224" y="8080"/>
                  <a:pt x="22159" y="8065"/>
                  <a:pt x="22101" y="8062"/>
                </a:cubicBezTo>
                <a:cubicBezTo>
                  <a:pt x="22084" y="8062"/>
                  <a:pt x="22068" y="8062"/>
                  <a:pt x="22051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9720" y="3160800"/>
            <a:ext cx="115560" cy="16200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22175" y="8781"/>
                </a:moveTo>
                <a:cubicBezTo>
                  <a:pt x="22097" y="8844"/>
                  <a:pt x="22044" y="8990"/>
                  <a:pt x="22027" y="9103"/>
                </a:cubicBezTo>
                <a:cubicBezTo>
                  <a:pt x="22000" y="9276"/>
                  <a:pt x="22188" y="9225"/>
                  <a:pt x="22275" y="9153"/>
                </a:cubicBezTo>
                <a:cubicBezTo>
                  <a:pt x="22367" y="9077"/>
                  <a:pt x="22381" y="8923"/>
                  <a:pt x="22299" y="8830"/>
                </a:cubicBezTo>
                <a:cubicBezTo>
                  <a:pt x="22295" y="8825"/>
                  <a:pt x="22191" y="8788"/>
                  <a:pt x="22175" y="8806"/>
                </a:cubicBezTo>
                <a:cubicBezTo>
                  <a:pt x="22167" y="8822"/>
                  <a:pt x="22159" y="8839"/>
                  <a:pt x="22151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46960" y="3295800"/>
            <a:ext cx="617400" cy="106200"/>
          </a:xfrm>
          <a:custGeom>
            <a:avLst/>
            <a:gdLst/>
            <a:ahLst/>
            <a:rect l="l" t="t" r="r" b="b"/>
            <a:pathLst>
              <a:path w="1713" h="299">
                <a:moveTo>
                  <a:pt x="20687" y="9451"/>
                </a:moveTo>
                <a:cubicBezTo>
                  <a:pt x="20902" y="9401"/>
                  <a:pt x="21111" y="9382"/>
                  <a:pt x="21332" y="9351"/>
                </a:cubicBezTo>
                <a:cubicBezTo>
                  <a:pt x="21663" y="9305"/>
                  <a:pt x="22027" y="9268"/>
                  <a:pt x="22349" y="9178"/>
                </a:cubicBezTo>
                <a:cubicBezTo>
                  <a:pt x="22372" y="9155"/>
                  <a:pt x="22376" y="9147"/>
                  <a:pt x="22399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20000" y="338472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22250" y="9426"/>
                </a:moveTo>
                <a:cubicBezTo>
                  <a:pt x="22199" y="9350"/>
                  <a:pt x="22113" y="9464"/>
                  <a:pt x="22076" y="9525"/>
                </a:cubicBezTo>
                <a:cubicBezTo>
                  <a:pt x="22023" y="9612"/>
                  <a:pt x="21953" y="9764"/>
                  <a:pt x="22051" y="9847"/>
                </a:cubicBezTo>
                <a:cubicBezTo>
                  <a:pt x="22161" y="9939"/>
                  <a:pt x="22303" y="9895"/>
                  <a:pt x="22399" y="9798"/>
                </a:cubicBezTo>
                <a:cubicBezTo>
                  <a:pt x="22479" y="9718"/>
                  <a:pt x="22485" y="9623"/>
                  <a:pt x="22448" y="9525"/>
                </a:cubicBezTo>
                <a:cubicBezTo>
                  <a:pt x="22423" y="9461"/>
                  <a:pt x="22341" y="9430"/>
                  <a:pt x="22275" y="9426"/>
                </a:cubicBezTo>
                <a:cubicBezTo>
                  <a:pt x="22258" y="9426"/>
                  <a:pt x="22242" y="9426"/>
                  <a:pt x="22225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70880" y="2670120"/>
            <a:ext cx="17280" cy="179280"/>
          </a:xfrm>
          <a:custGeom>
            <a:avLst/>
            <a:gdLst/>
            <a:ahLst/>
            <a:rect l="l" t="t" r="r" b="b"/>
            <a:pathLst>
              <a:path w="51" h="497">
                <a:moveTo>
                  <a:pt x="21357" y="7417"/>
                </a:moveTo>
                <a:cubicBezTo>
                  <a:pt x="21357" y="7533"/>
                  <a:pt x="21335" y="7647"/>
                  <a:pt x="21332" y="7764"/>
                </a:cubicBezTo>
                <a:cubicBezTo>
                  <a:pt x="21332" y="7849"/>
                  <a:pt x="21338" y="7869"/>
                  <a:pt x="21307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89880" y="2705040"/>
            <a:ext cx="117360" cy="7308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21134" y="7516"/>
                </a:moveTo>
                <a:cubicBezTo>
                  <a:pt x="21116" y="7577"/>
                  <a:pt x="21079" y="7678"/>
                  <a:pt x="21109" y="7689"/>
                </a:cubicBezTo>
                <a:cubicBezTo>
                  <a:pt x="21182" y="7715"/>
                  <a:pt x="21336" y="7758"/>
                  <a:pt x="21382" y="7665"/>
                </a:cubicBezTo>
                <a:cubicBezTo>
                  <a:pt x="21390" y="7632"/>
                  <a:pt x="21398" y="7598"/>
                  <a:pt x="21406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05800" y="3160800"/>
            <a:ext cx="171360" cy="196920"/>
          </a:xfrm>
          <a:custGeom>
            <a:avLst/>
            <a:gdLst/>
            <a:ahLst/>
            <a:rect l="l" t="t" r="r" b="b"/>
            <a:pathLst>
              <a:path w="473" h="547">
                <a:moveTo>
                  <a:pt x="21506" y="8806"/>
                </a:moveTo>
                <a:cubicBezTo>
                  <a:pt x="21506" y="8748"/>
                  <a:pt x="21521" y="8874"/>
                  <a:pt x="21506" y="8930"/>
                </a:cubicBezTo>
                <a:cubicBezTo>
                  <a:pt x="21473" y="9056"/>
                  <a:pt x="21421" y="9172"/>
                  <a:pt x="21406" y="9302"/>
                </a:cubicBezTo>
                <a:cubicBezTo>
                  <a:pt x="21509" y="9317"/>
                  <a:pt x="21630" y="9338"/>
                  <a:pt x="21729" y="9277"/>
                </a:cubicBezTo>
                <a:cubicBezTo>
                  <a:pt x="21756" y="9260"/>
                  <a:pt x="21879" y="9115"/>
                  <a:pt x="21878" y="9103"/>
                </a:cubicBezTo>
                <a:cubicBezTo>
                  <a:pt x="21870" y="9087"/>
                  <a:pt x="21861" y="9070"/>
                  <a:pt x="21853" y="9054"/>
                </a:cubicBezTo>
                <a:cubicBezTo>
                  <a:pt x="21765" y="9054"/>
                  <a:pt x="21768" y="9075"/>
                  <a:pt x="21729" y="9153"/>
                </a:cubicBezTo>
                <a:cubicBezTo>
                  <a:pt x="21705" y="9201"/>
                  <a:pt x="21704" y="9205"/>
                  <a:pt x="21704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23120" y="204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340" y="5680"/>
                </a:moveTo>
                <a:lnTo>
                  <a:pt x="20340" y="56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3760" y="204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315" y="5680"/>
                </a:moveTo>
                <a:lnTo>
                  <a:pt x="20315" y="56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3760" y="204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315" y="5680"/>
                </a:moveTo>
                <a:lnTo>
                  <a:pt x="20315" y="56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9240" y="2973240"/>
            <a:ext cx="160560" cy="179640"/>
          </a:xfrm>
          <a:custGeom>
            <a:avLst/>
            <a:gdLst/>
            <a:ahLst/>
            <a:rect l="l" t="t" r="r" b="b"/>
            <a:pathLst>
              <a:path w="447" h="497">
                <a:moveTo>
                  <a:pt x="21158" y="8285"/>
                </a:moveTo>
                <a:cubicBezTo>
                  <a:pt x="21183" y="8285"/>
                  <a:pt x="21191" y="8285"/>
                  <a:pt x="21183" y="8260"/>
                </a:cubicBezTo>
                <a:cubicBezTo>
                  <a:pt x="21183" y="8343"/>
                  <a:pt x="21157" y="8406"/>
                  <a:pt x="21134" y="8483"/>
                </a:cubicBezTo>
                <a:cubicBezTo>
                  <a:pt x="21121" y="8525"/>
                  <a:pt x="21087" y="8653"/>
                  <a:pt x="21109" y="8706"/>
                </a:cubicBezTo>
                <a:cubicBezTo>
                  <a:pt x="21144" y="8790"/>
                  <a:pt x="21324" y="8764"/>
                  <a:pt x="21382" y="8731"/>
                </a:cubicBezTo>
                <a:cubicBezTo>
                  <a:pt x="21444" y="8696"/>
                  <a:pt x="21529" y="8626"/>
                  <a:pt x="21555" y="8558"/>
                </a:cubicBezTo>
                <a:cubicBezTo>
                  <a:pt x="21568" y="8523"/>
                  <a:pt x="21560" y="8487"/>
                  <a:pt x="21530" y="8483"/>
                </a:cubicBezTo>
                <a:cubicBezTo>
                  <a:pt x="21507" y="8480"/>
                  <a:pt x="21467" y="8443"/>
                  <a:pt x="21431" y="8483"/>
                </a:cubicBezTo>
                <a:cubicBezTo>
                  <a:pt x="21380" y="8539"/>
                  <a:pt x="21382" y="8613"/>
                  <a:pt x="21382" y="8682"/>
                </a:cubicBezTo>
                <a:cubicBezTo>
                  <a:pt x="21382" y="8698"/>
                  <a:pt x="21382" y="8715"/>
                  <a:pt x="21382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77040" y="2374920"/>
            <a:ext cx="179280" cy="25092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20290" y="6722"/>
                </a:moveTo>
                <a:cubicBezTo>
                  <a:pt x="20314" y="6769"/>
                  <a:pt x="20339" y="6672"/>
                  <a:pt x="20389" y="6648"/>
                </a:cubicBezTo>
                <a:cubicBezTo>
                  <a:pt x="20436" y="6625"/>
                  <a:pt x="20480" y="6603"/>
                  <a:pt x="20538" y="6598"/>
                </a:cubicBezTo>
                <a:cubicBezTo>
                  <a:pt x="20608" y="6593"/>
                  <a:pt x="20676" y="6609"/>
                  <a:pt x="20662" y="6697"/>
                </a:cubicBezTo>
                <a:cubicBezTo>
                  <a:pt x="20643" y="6816"/>
                  <a:pt x="20544" y="6819"/>
                  <a:pt x="20464" y="6871"/>
                </a:cubicBezTo>
                <a:cubicBezTo>
                  <a:pt x="20456" y="6879"/>
                  <a:pt x="20447" y="6888"/>
                  <a:pt x="20439" y="6896"/>
                </a:cubicBezTo>
                <a:cubicBezTo>
                  <a:pt x="20376" y="6896"/>
                  <a:pt x="20516" y="6872"/>
                  <a:pt x="20538" y="6871"/>
                </a:cubicBezTo>
                <a:cubicBezTo>
                  <a:pt x="20615" y="6867"/>
                  <a:pt x="20659" y="6901"/>
                  <a:pt x="20687" y="6970"/>
                </a:cubicBezTo>
                <a:cubicBezTo>
                  <a:pt x="20720" y="7051"/>
                  <a:pt x="20692" y="7186"/>
                  <a:pt x="20613" y="7243"/>
                </a:cubicBezTo>
                <a:cubicBezTo>
                  <a:pt x="20501" y="7324"/>
                  <a:pt x="20405" y="7263"/>
                  <a:pt x="20290" y="7243"/>
                </a:cubicBezTo>
                <a:cubicBezTo>
                  <a:pt x="20246" y="7243"/>
                  <a:pt x="20232" y="7246"/>
                  <a:pt x="20216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04040" y="2678040"/>
            <a:ext cx="189000" cy="250920"/>
          </a:xfrm>
          <a:custGeom>
            <a:avLst/>
            <a:gdLst/>
            <a:ahLst/>
            <a:rect l="l" t="t" r="r" b="b"/>
            <a:pathLst>
              <a:path w="522" h="696">
                <a:moveTo>
                  <a:pt x="20389" y="7565"/>
                </a:moveTo>
                <a:cubicBezTo>
                  <a:pt x="20441" y="7513"/>
                  <a:pt x="20496" y="7465"/>
                  <a:pt x="20563" y="7441"/>
                </a:cubicBezTo>
                <a:cubicBezTo>
                  <a:pt x="20591" y="7441"/>
                  <a:pt x="20602" y="7443"/>
                  <a:pt x="20613" y="7466"/>
                </a:cubicBezTo>
                <a:cubicBezTo>
                  <a:pt x="20645" y="7644"/>
                  <a:pt x="20570" y="7743"/>
                  <a:pt x="20464" y="7888"/>
                </a:cubicBezTo>
                <a:cubicBezTo>
                  <a:pt x="20420" y="7948"/>
                  <a:pt x="20303" y="8124"/>
                  <a:pt x="20290" y="8111"/>
                </a:cubicBezTo>
                <a:cubicBezTo>
                  <a:pt x="20390" y="8020"/>
                  <a:pt x="20409" y="7970"/>
                  <a:pt x="20538" y="8012"/>
                </a:cubicBezTo>
                <a:cubicBezTo>
                  <a:pt x="20611" y="8035"/>
                  <a:pt x="20663" y="8095"/>
                  <a:pt x="20737" y="8037"/>
                </a:cubicBezTo>
                <a:cubicBezTo>
                  <a:pt x="20762" y="8012"/>
                  <a:pt x="20786" y="7987"/>
                  <a:pt x="20811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00960" y="329580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20836" y="9227"/>
                </a:moveTo>
                <a:cubicBezTo>
                  <a:pt x="20923" y="9198"/>
                  <a:pt x="20963" y="9159"/>
                  <a:pt x="21059" y="9153"/>
                </a:cubicBezTo>
                <a:cubicBezTo>
                  <a:pt x="21067" y="9153"/>
                  <a:pt x="21076" y="9153"/>
                  <a:pt x="21084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99000" y="2357280"/>
            <a:ext cx="2054160" cy="3724560"/>
          </a:xfrm>
          <a:custGeom>
            <a:avLst/>
            <a:gdLst/>
            <a:ahLst/>
            <a:rect l="l" t="t" r="r" b="b"/>
            <a:pathLst>
              <a:path w="5706" h="10345">
                <a:moveTo>
                  <a:pt x="15677" y="6697"/>
                </a:moveTo>
                <a:cubicBezTo>
                  <a:pt x="15686" y="6658"/>
                  <a:pt x="15736" y="6618"/>
                  <a:pt x="15776" y="6598"/>
                </a:cubicBezTo>
                <a:cubicBezTo>
                  <a:pt x="15834" y="6569"/>
                  <a:pt x="16018" y="6499"/>
                  <a:pt x="16073" y="6573"/>
                </a:cubicBezTo>
                <a:cubicBezTo>
                  <a:pt x="16145" y="6671"/>
                  <a:pt x="16050" y="6818"/>
                  <a:pt x="15949" y="6846"/>
                </a:cubicBezTo>
                <a:cubicBezTo>
                  <a:pt x="15933" y="6846"/>
                  <a:pt x="15916" y="6846"/>
                  <a:pt x="15900" y="6846"/>
                </a:cubicBezTo>
                <a:cubicBezTo>
                  <a:pt x="15982" y="6825"/>
                  <a:pt x="16053" y="6806"/>
                  <a:pt x="16148" y="6846"/>
                </a:cubicBezTo>
                <a:cubicBezTo>
                  <a:pt x="16328" y="6922"/>
                  <a:pt x="16174" y="7108"/>
                  <a:pt x="16049" y="7144"/>
                </a:cubicBezTo>
                <a:cubicBezTo>
                  <a:pt x="15955" y="7171"/>
                  <a:pt x="15841" y="7134"/>
                  <a:pt x="15751" y="7119"/>
                </a:cubicBezTo>
              </a:path>
              <a:path w="5706" h="10345">
                <a:moveTo>
                  <a:pt x="15528" y="7541"/>
                </a:moveTo>
                <a:cubicBezTo>
                  <a:pt x="15908" y="7468"/>
                  <a:pt x="16284" y="7388"/>
                  <a:pt x="16669" y="7342"/>
                </a:cubicBezTo>
                <a:cubicBezTo>
                  <a:pt x="16677" y="7342"/>
                  <a:pt x="16686" y="7342"/>
                  <a:pt x="16694" y="7342"/>
                </a:cubicBezTo>
              </a:path>
              <a:path w="5706" h="10345">
                <a:moveTo>
                  <a:pt x="15528" y="7838"/>
                </a:moveTo>
                <a:cubicBezTo>
                  <a:pt x="15581" y="7962"/>
                  <a:pt x="15544" y="8152"/>
                  <a:pt x="15528" y="8285"/>
                </a:cubicBezTo>
                <a:cubicBezTo>
                  <a:pt x="15522" y="8331"/>
                  <a:pt x="15450" y="8488"/>
                  <a:pt x="15528" y="8384"/>
                </a:cubicBezTo>
              </a:path>
              <a:path w="5706" h="10345">
                <a:moveTo>
                  <a:pt x="16024" y="7888"/>
                </a:moveTo>
                <a:cubicBezTo>
                  <a:pt x="15992" y="7824"/>
                  <a:pt x="16060" y="7785"/>
                  <a:pt x="16123" y="7739"/>
                </a:cubicBezTo>
                <a:cubicBezTo>
                  <a:pt x="16188" y="7695"/>
                  <a:pt x="16202" y="7684"/>
                  <a:pt x="16247" y="7665"/>
                </a:cubicBezTo>
                <a:cubicBezTo>
                  <a:pt x="16323" y="7720"/>
                  <a:pt x="16308" y="7789"/>
                  <a:pt x="16272" y="7888"/>
                </a:cubicBezTo>
                <a:cubicBezTo>
                  <a:pt x="16214" y="8046"/>
                  <a:pt x="16096" y="8154"/>
                  <a:pt x="15999" y="8285"/>
                </a:cubicBezTo>
                <a:cubicBezTo>
                  <a:pt x="15943" y="8361"/>
                  <a:pt x="15969" y="8487"/>
                  <a:pt x="15875" y="8483"/>
                </a:cubicBezTo>
                <a:cubicBezTo>
                  <a:pt x="15917" y="8390"/>
                  <a:pt x="15932" y="8337"/>
                  <a:pt x="16024" y="8285"/>
                </a:cubicBezTo>
                <a:cubicBezTo>
                  <a:pt x="16113" y="8235"/>
                  <a:pt x="16133" y="8337"/>
                  <a:pt x="16173" y="8409"/>
                </a:cubicBezTo>
                <a:cubicBezTo>
                  <a:pt x="16254" y="8386"/>
                  <a:pt x="16351" y="8341"/>
                  <a:pt x="16396" y="8285"/>
                </a:cubicBezTo>
              </a:path>
              <a:path w="5706" h="10345">
                <a:moveTo>
                  <a:pt x="15379" y="7466"/>
                </a:moveTo>
                <a:cubicBezTo>
                  <a:pt x="15495" y="7448"/>
                  <a:pt x="15609" y="7438"/>
                  <a:pt x="15726" y="7417"/>
                </a:cubicBezTo>
                <a:cubicBezTo>
                  <a:pt x="15881" y="7389"/>
                  <a:pt x="16041" y="7334"/>
                  <a:pt x="16197" y="7317"/>
                </a:cubicBezTo>
                <a:cubicBezTo>
                  <a:pt x="16325" y="7303"/>
                  <a:pt x="16444" y="7261"/>
                  <a:pt x="16570" y="7243"/>
                </a:cubicBezTo>
                <a:cubicBezTo>
                  <a:pt x="16642" y="7233"/>
                  <a:pt x="16661" y="7253"/>
                  <a:pt x="16718" y="7218"/>
                </a:cubicBezTo>
                <a:cubicBezTo>
                  <a:pt x="16591" y="7269"/>
                  <a:pt x="16505" y="7288"/>
                  <a:pt x="16371" y="7317"/>
                </a:cubicBezTo>
                <a:cubicBezTo>
                  <a:pt x="16065" y="7384"/>
                  <a:pt x="15755" y="7430"/>
                  <a:pt x="15453" y="7516"/>
                </a:cubicBezTo>
                <a:cubicBezTo>
                  <a:pt x="15396" y="7535"/>
                  <a:pt x="15389" y="7544"/>
                  <a:pt x="15354" y="7541"/>
                </a:cubicBezTo>
                <a:cubicBezTo>
                  <a:pt x="15668" y="7518"/>
                  <a:pt x="15980" y="7456"/>
                  <a:pt x="16297" y="7441"/>
                </a:cubicBezTo>
                <a:cubicBezTo>
                  <a:pt x="16478" y="7432"/>
                  <a:pt x="16661" y="7441"/>
                  <a:pt x="16842" y="7441"/>
                </a:cubicBezTo>
              </a:path>
              <a:path w="5706" h="10345">
                <a:moveTo>
                  <a:pt x="15329" y="7640"/>
                </a:moveTo>
                <a:cubicBezTo>
                  <a:pt x="15293" y="7568"/>
                  <a:pt x="15387" y="7571"/>
                  <a:pt x="15453" y="7541"/>
                </a:cubicBezTo>
                <a:cubicBezTo>
                  <a:pt x="15596" y="7477"/>
                  <a:pt x="15725" y="7474"/>
                  <a:pt x="15875" y="7441"/>
                </a:cubicBezTo>
                <a:cubicBezTo>
                  <a:pt x="16020" y="7409"/>
                  <a:pt x="16154" y="7412"/>
                  <a:pt x="16297" y="7392"/>
                </a:cubicBezTo>
                <a:cubicBezTo>
                  <a:pt x="16422" y="7375"/>
                  <a:pt x="16545" y="7330"/>
                  <a:pt x="16669" y="7317"/>
                </a:cubicBezTo>
                <a:cubicBezTo>
                  <a:pt x="16727" y="7311"/>
                  <a:pt x="16841" y="7319"/>
                  <a:pt x="16892" y="7293"/>
                </a:cubicBezTo>
                <a:cubicBezTo>
                  <a:pt x="16892" y="7285"/>
                  <a:pt x="16892" y="7276"/>
                  <a:pt x="16892" y="7268"/>
                </a:cubicBezTo>
                <a:cubicBezTo>
                  <a:pt x="16762" y="7294"/>
                  <a:pt x="16624" y="7311"/>
                  <a:pt x="16495" y="7342"/>
                </a:cubicBezTo>
                <a:cubicBezTo>
                  <a:pt x="16247" y="7402"/>
                  <a:pt x="15998" y="7455"/>
                  <a:pt x="15751" y="7516"/>
                </a:cubicBezTo>
                <a:cubicBezTo>
                  <a:pt x="15676" y="7535"/>
                  <a:pt x="15467" y="7601"/>
                  <a:pt x="15404" y="7590"/>
                </a:cubicBezTo>
                <a:cubicBezTo>
                  <a:pt x="15334" y="7578"/>
                  <a:pt x="15411" y="7548"/>
                  <a:pt x="15429" y="7565"/>
                </a:cubicBezTo>
                <a:cubicBezTo>
                  <a:pt x="15463" y="7636"/>
                  <a:pt x="15489" y="7666"/>
                  <a:pt x="15553" y="7689"/>
                </a:cubicBezTo>
              </a:path>
              <a:path w="5706" h="10345">
                <a:moveTo>
                  <a:pt x="15553" y="7541"/>
                </a:moveTo>
                <a:cubicBezTo>
                  <a:pt x="15528" y="7541"/>
                  <a:pt x="15520" y="7541"/>
                  <a:pt x="15503" y="7541"/>
                </a:cubicBezTo>
                <a:cubicBezTo>
                  <a:pt x="15660" y="7521"/>
                  <a:pt x="15817" y="7489"/>
                  <a:pt x="15974" y="7466"/>
                </a:cubicBezTo>
                <a:cubicBezTo>
                  <a:pt x="16164" y="7438"/>
                  <a:pt x="16357" y="7445"/>
                  <a:pt x="16545" y="7417"/>
                </a:cubicBezTo>
                <a:cubicBezTo>
                  <a:pt x="16645" y="7402"/>
                  <a:pt x="16744" y="7371"/>
                  <a:pt x="16842" y="7367"/>
                </a:cubicBezTo>
                <a:cubicBezTo>
                  <a:pt x="16870" y="7366"/>
                  <a:pt x="17009" y="7349"/>
                  <a:pt x="16966" y="7367"/>
                </a:cubicBezTo>
                <a:cubicBezTo>
                  <a:pt x="16950" y="7375"/>
                  <a:pt x="16933" y="7384"/>
                  <a:pt x="16917" y="7392"/>
                </a:cubicBezTo>
              </a:path>
              <a:path w="5706" h="10345">
                <a:moveTo>
                  <a:pt x="14312" y="9376"/>
                </a:moveTo>
                <a:cubicBezTo>
                  <a:pt x="14368" y="9348"/>
                  <a:pt x="14419" y="9351"/>
                  <a:pt x="14486" y="9351"/>
                </a:cubicBezTo>
              </a:path>
              <a:path w="5706" h="10345">
                <a:moveTo>
                  <a:pt x="14337" y="9525"/>
                </a:moveTo>
                <a:cubicBezTo>
                  <a:pt x="14429" y="9525"/>
                  <a:pt x="14456" y="9527"/>
                  <a:pt x="14511" y="9500"/>
                </a:cubicBezTo>
              </a:path>
              <a:path w="5706" h="10345">
                <a:moveTo>
                  <a:pt x="14684" y="9599"/>
                </a:moveTo>
                <a:cubicBezTo>
                  <a:pt x="14692" y="9674"/>
                  <a:pt x="14686" y="9939"/>
                  <a:pt x="14734" y="9971"/>
                </a:cubicBezTo>
              </a:path>
              <a:path w="5706" h="10345">
                <a:moveTo>
                  <a:pt x="15056" y="9500"/>
                </a:moveTo>
                <a:cubicBezTo>
                  <a:pt x="14932" y="9671"/>
                  <a:pt x="14894" y="9747"/>
                  <a:pt x="15007" y="9922"/>
                </a:cubicBezTo>
                <a:cubicBezTo>
                  <a:pt x="15159" y="9874"/>
                  <a:pt x="15349" y="9818"/>
                  <a:pt x="15180" y="9649"/>
                </a:cubicBezTo>
                <a:cubicBezTo>
                  <a:pt x="15155" y="9632"/>
                  <a:pt x="15131" y="9616"/>
                  <a:pt x="15106" y="9599"/>
                </a:cubicBezTo>
              </a:path>
              <a:path w="5706" h="10345">
                <a:moveTo>
                  <a:pt x="15429" y="9525"/>
                </a:moveTo>
                <a:cubicBezTo>
                  <a:pt x="15346" y="9665"/>
                  <a:pt x="15335" y="9687"/>
                  <a:pt x="15354" y="9847"/>
                </a:cubicBezTo>
                <a:cubicBezTo>
                  <a:pt x="15464" y="9880"/>
                  <a:pt x="15742" y="9905"/>
                  <a:pt x="15652" y="9674"/>
                </a:cubicBezTo>
                <a:cubicBezTo>
                  <a:pt x="15617" y="9585"/>
                  <a:pt x="15505" y="9565"/>
                  <a:pt x="15429" y="9550"/>
                </a:cubicBezTo>
              </a:path>
              <a:path w="5706" h="10345">
                <a:moveTo>
                  <a:pt x="14759" y="9426"/>
                </a:moveTo>
                <a:cubicBezTo>
                  <a:pt x="14963" y="9346"/>
                  <a:pt x="15183" y="9298"/>
                  <a:pt x="15404" y="9277"/>
                </a:cubicBezTo>
                <a:cubicBezTo>
                  <a:pt x="15478" y="9277"/>
                  <a:pt x="15487" y="9277"/>
                  <a:pt x="15528" y="9277"/>
                </a:cubicBezTo>
              </a:path>
              <a:path w="5706" h="10345">
                <a:moveTo>
                  <a:pt x="13370" y="9500"/>
                </a:moveTo>
                <a:cubicBezTo>
                  <a:pt x="13383" y="9460"/>
                  <a:pt x="13409" y="9475"/>
                  <a:pt x="13444" y="9451"/>
                </a:cubicBezTo>
                <a:cubicBezTo>
                  <a:pt x="13452" y="9443"/>
                  <a:pt x="13461" y="9434"/>
                  <a:pt x="13469" y="9426"/>
                </a:cubicBezTo>
                <a:cubicBezTo>
                  <a:pt x="13456" y="9570"/>
                  <a:pt x="13394" y="9643"/>
                  <a:pt x="13345" y="9773"/>
                </a:cubicBezTo>
                <a:cubicBezTo>
                  <a:pt x="13321" y="9836"/>
                  <a:pt x="13527" y="9752"/>
                  <a:pt x="13543" y="9748"/>
                </a:cubicBezTo>
              </a:path>
              <a:path w="5706" h="10345">
                <a:moveTo>
                  <a:pt x="13643" y="9475"/>
                </a:moveTo>
                <a:cubicBezTo>
                  <a:pt x="13643" y="9593"/>
                  <a:pt x="13663" y="9554"/>
                  <a:pt x="13767" y="9624"/>
                </a:cubicBezTo>
                <a:cubicBezTo>
                  <a:pt x="13856" y="9684"/>
                  <a:pt x="13801" y="9748"/>
                  <a:pt x="13717" y="9773"/>
                </a:cubicBezTo>
                <a:cubicBezTo>
                  <a:pt x="13658" y="9773"/>
                  <a:pt x="13638" y="9764"/>
                  <a:pt x="13643" y="9699"/>
                </a:cubicBezTo>
              </a:path>
              <a:path w="5706" h="10345">
                <a:moveTo>
                  <a:pt x="13618" y="9451"/>
                </a:moveTo>
                <a:cubicBezTo>
                  <a:pt x="13684" y="9424"/>
                  <a:pt x="13754" y="9392"/>
                  <a:pt x="13816" y="9376"/>
                </a:cubicBezTo>
              </a:path>
              <a:path w="5706" h="10345">
                <a:moveTo>
                  <a:pt x="13370" y="9327"/>
                </a:moveTo>
                <a:cubicBezTo>
                  <a:pt x="13483" y="9304"/>
                  <a:pt x="13597" y="9263"/>
                  <a:pt x="13717" y="9252"/>
                </a:cubicBezTo>
                <a:cubicBezTo>
                  <a:pt x="13750" y="9252"/>
                  <a:pt x="13783" y="9252"/>
                  <a:pt x="13816" y="9252"/>
                </a:cubicBezTo>
              </a:path>
              <a:path w="5706" h="10345">
                <a:moveTo>
                  <a:pt x="13320" y="8930"/>
                </a:moveTo>
                <a:cubicBezTo>
                  <a:pt x="13358" y="8917"/>
                  <a:pt x="13357" y="8896"/>
                  <a:pt x="13419" y="8880"/>
                </a:cubicBezTo>
                <a:cubicBezTo>
                  <a:pt x="13427" y="8880"/>
                  <a:pt x="13436" y="8880"/>
                  <a:pt x="13444" y="8880"/>
                </a:cubicBezTo>
                <a:cubicBezTo>
                  <a:pt x="13494" y="8979"/>
                  <a:pt x="13437" y="9041"/>
                  <a:pt x="13370" y="9128"/>
                </a:cubicBezTo>
                <a:cubicBezTo>
                  <a:pt x="13345" y="9153"/>
                  <a:pt x="13337" y="9161"/>
                  <a:pt x="13320" y="9178"/>
                </a:cubicBezTo>
                <a:cubicBezTo>
                  <a:pt x="13375" y="9206"/>
                  <a:pt x="13404" y="9152"/>
                  <a:pt x="13469" y="9128"/>
                </a:cubicBezTo>
                <a:cubicBezTo>
                  <a:pt x="13487" y="9121"/>
                  <a:pt x="13523" y="9128"/>
                  <a:pt x="13543" y="9128"/>
                </a:cubicBezTo>
              </a:path>
              <a:path w="5706" h="10345">
                <a:moveTo>
                  <a:pt x="13767" y="8806"/>
                </a:moveTo>
                <a:cubicBezTo>
                  <a:pt x="13714" y="8815"/>
                  <a:pt x="13633" y="8817"/>
                  <a:pt x="13618" y="8855"/>
                </a:cubicBezTo>
                <a:cubicBezTo>
                  <a:pt x="13595" y="8914"/>
                  <a:pt x="13593" y="8945"/>
                  <a:pt x="13593" y="9004"/>
                </a:cubicBezTo>
                <a:cubicBezTo>
                  <a:pt x="13650" y="8993"/>
                  <a:pt x="13714" y="8920"/>
                  <a:pt x="13767" y="8930"/>
                </a:cubicBezTo>
                <a:cubicBezTo>
                  <a:pt x="13849" y="8945"/>
                  <a:pt x="13852" y="9018"/>
                  <a:pt x="13866" y="9079"/>
                </a:cubicBezTo>
                <a:cubicBezTo>
                  <a:pt x="13744" y="9139"/>
                  <a:pt x="13703" y="9144"/>
                  <a:pt x="13568" y="9128"/>
                </a:cubicBezTo>
              </a:path>
              <a:path w="5706" h="10345">
                <a:moveTo>
                  <a:pt x="14883" y="8781"/>
                </a:moveTo>
                <a:cubicBezTo>
                  <a:pt x="14896" y="8730"/>
                  <a:pt x="14907" y="8735"/>
                  <a:pt x="14957" y="8706"/>
                </a:cubicBezTo>
                <a:cubicBezTo>
                  <a:pt x="14999" y="8845"/>
                  <a:pt x="14961" y="8908"/>
                  <a:pt x="14883" y="9029"/>
                </a:cubicBezTo>
                <a:cubicBezTo>
                  <a:pt x="14832" y="9109"/>
                  <a:pt x="14805" y="9103"/>
                  <a:pt x="14784" y="9178"/>
                </a:cubicBezTo>
                <a:cubicBezTo>
                  <a:pt x="14833" y="9157"/>
                  <a:pt x="14990" y="9075"/>
                  <a:pt x="15007" y="9079"/>
                </a:cubicBezTo>
                <a:cubicBezTo>
                  <a:pt x="15029" y="9101"/>
                  <a:pt x="15034" y="9109"/>
                  <a:pt x="15056" y="9103"/>
                </a:cubicBezTo>
              </a:path>
              <a:path w="5706" h="10345">
                <a:moveTo>
                  <a:pt x="15255" y="8632"/>
                </a:moveTo>
                <a:cubicBezTo>
                  <a:pt x="15228" y="8632"/>
                  <a:pt x="15114" y="8609"/>
                  <a:pt x="15106" y="8657"/>
                </a:cubicBezTo>
                <a:cubicBezTo>
                  <a:pt x="15106" y="8748"/>
                  <a:pt x="15106" y="8772"/>
                  <a:pt x="15106" y="8830"/>
                </a:cubicBezTo>
                <a:cubicBezTo>
                  <a:pt x="15164" y="8819"/>
                  <a:pt x="15242" y="8758"/>
                  <a:pt x="15304" y="8781"/>
                </a:cubicBezTo>
                <a:cubicBezTo>
                  <a:pt x="15401" y="8817"/>
                  <a:pt x="15430" y="8910"/>
                  <a:pt x="15354" y="8979"/>
                </a:cubicBezTo>
                <a:cubicBezTo>
                  <a:pt x="15291" y="9035"/>
                  <a:pt x="15275" y="9029"/>
                  <a:pt x="15205" y="9029"/>
                </a:cubicBezTo>
              </a:path>
              <a:path w="5706" h="10345">
                <a:moveTo>
                  <a:pt x="15949" y="9302"/>
                </a:moveTo>
                <a:cubicBezTo>
                  <a:pt x="16046" y="9259"/>
                  <a:pt x="16117" y="9227"/>
                  <a:pt x="16222" y="9227"/>
                </a:cubicBezTo>
              </a:path>
              <a:path w="5706" h="10345">
                <a:moveTo>
                  <a:pt x="15999" y="9426"/>
                </a:moveTo>
                <a:cubicBezTo>
                  <a:pt x="16091" y="9426"/>
                  <a:pt x="16118" y="9428"/>
                  <a:pt x="16173" y="9401"/>
                </a:cubicBezTo>
              </a:path>
              <a:path w="5706" h="10345">
                <a:moveTo>
                  <a:pt x="16818" y="9103"/>
                </a:moveTo>
                <a:cubicBezTo>
                  <a:pt x="16625" y="9148"/>
                  <a:pt x="16454" y="9285"/>
                  <a:pt x="16470" y="9525"/>
                </a:cubicBezTo>
                <a:cubicBezTo>
                  <a:pt x="16487" y="9558"/>
                  <a:pt x="16503" y="9591"/>
                  <a:pt x="16520" y="9624"/>
                </a:cubicBezTo>
                <a:cubicBezTo>
                  <a:pt x="16730" y="9656"/>
                  <a:pt x="16919" y="9567"/>
                  <a:pt x="16966" y="9302"/>
                </a:cubicBezTo>
                <a:cubicBezTo>
                  <a:pt x="16979" y="9227"/>
                  <a:pt x="16802" y="9018"/>
                  <a:pt x="16768" y="9079"/>
                </a:cubicBezTo>
                <a:cubicBezTo>
                  <a:pt x="16768" y="9095"/>
                  <a:pt x="16768" y="9112"/>
                  <a:pt x="16768" y="9128"/>
                </a:cubicBezTo>
              </a:path>
              <a:path w="5706" h="10345">
                <a:moveTo>
                  <a:pt x="17190" y="9525"/>
                </a:moveTo>
                <a:lnTo>
                  <a:pt x="17190" y="9525"/>
                </a:lnTo>
                <a:lnTo>
                  <a:pt x="17190" y="9525"/>
                </a:lnTo>
              </a:path>
              <a:path w="5706" h="10345">
                <a:moveTo>
                  <a:pt x="17562" y="9004"/>
                </a:moveTo>
                <a:cubicBezTo>
                  <a:pt x="17519" y="9004"/>
                  <a:pt x="17524" y="8994"/>
                  <a:pt x="17512" y="9029"/>
                </a:cubicBezTo>
                <a:cubicBezTo>
                  <a:pt x="17544" y="8987"/>
                  <a:pt x="17761" y="8763"/>
                  <a:pt x="17810" y="8930"/>
                </a:cubicBezTo>
                <a:cubicBezTo>
                  <a:pt x="17866" y="9123"/>
                  <a:pt x="17689" y="9429"/>
                  <a:pt x="17462" y="9401"/>
                </a:cubicBezTo>
                <a:cubicBezTo>
                  <a:pt x="17454" y="9384"/>
                  <a:pt x="17446" y="9368"/>
                  <a:pt x="17438" y="9351"/>
                </a:cubicBezTo>
                <a:cubicBezTo>
                  <a:pt x="17482" y="9204"/>
                  <a:pt x="17612" y="9245"/>
                  <a:pt x="17735" y="9351"/>
                </a:cubicBezTo>
                <a:cubicBezTo>
                  <a:pt x="17773" y="9408"/>
                  <a:pt x="17790" y="9411"/>
                  <a:pt x="17785" y="9451"/>
                </a:cubicBezTo>
              </a:path>
              <a:path w="5706" h="10345">
                <a:moveTo>
                  <a:pt x="18331" y="8806"/>
                </a:moveTo>
                <a:cubicBezTo>
                  <a:pt x="18280" y="8814"/>
                  <a:pt x="18127" y="8826"/>
                  <a:pt x="18107" y="8880"/>
                </a:cubicBezTo>
                <a:cubicBezTo>
                  <a:pt x="18095" y="8913"/>
                  <a:pt x="18090" y="8990"/>
                  <a:pt x="18083" y="9029"/>
                </a:cubicBezTo>
                <a:cubicBezTo>
                  <a:pt x="18176" y="9020"/>
                  <a:pt x="18371" y="8935"/>
                  <a:pt x="18455" y="9004"/>
                </a:cubicBezTo>
                <a:cubicBezTo>
                  <a:pt x="18631" y="9148"/>
                  <a:pt x="18280" y="9288"/>
                  <a:pt x="18207" y="9302"/>
                </a:cubicBezTo>
                <a:cubicBezTo>
                  <a:pt x="18139" y="9302"/>
                  <a:pt x="18120" y="9305"/>
                  <a:pt x="18083" y="9277"/>
                </a:cubicBezTo>
              </a:path>
              <a:path w="5706" h="10345">
                <a:moveTo>
                  <a:pt x="17239" y="9575"/>
                </a:moveTo>
                <a:cubicBezTo>
                  <a:pt x="17124" y="9681"/>
                  <a:pt x="17136" y="9820"/>
                  <a:pt x="17239" y="9699"/>
                </a:cubicBezTo>
                <a:cubicBezTo>
                  <a:pt x="17310" y="9615"/>
                  <a:pt x="17224" y="9627"/>
                  <a:pt x="17165" y="9649"/>
                </a:cubicBezTo>
              </a:path>
              <a:path w="5706" h="10345">
                <a:moveTo>
                  <a:pt x="12774" y="15627"/>
                </a:moveTo>
                <a:cubicBezTo>
                  <a:pt x="12851" y="15608"/>
                  <a:pt x="12921" y="15596"/>
                  <a:pt x="12998" y="15577"/>
                </a:cubicBezTo>
              </a:path>
              <a:path w="5706" h="10345">
                <a:moveTo>
                  <a:pt x="13593" y="16892"/>
                </a:moveTo>
                <a:cubicBezTo>
                  <a:pt x="13700" y="16865"/>
                  <a:pt x="13741" y="16855"/>
                  <a:pt x="13816" y="16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37080" y="4044960"/>
            <a:ext cx="3409920" cy="2357280"/>
          </a:xfrm>
          <a:custGeom>
            <a:avLst/>
            <a:gdLst/>
            <a:ahLst/>
            <a:rect l="l" t="t" r="r" b="b"/>
            <a:pathLst>
              <a:path w="9476" h="6549">
                <a:moveTo>
                  <a:pt x="12601" y="15875"/>
                </a:moveTo>
                <a:cubicBezTo>
                  <a:pt x="13041" y="15732"/>
                  <a:pt x="13491" y="15662"/>
                  <a:pt x="13940" y="15553"/>
                </a:cubicBezTo>
                <a:cubicBezTo>
                  <a:pt x="14059" y="15524"/>
                  <a:pt x="14191" y="15482"/>
                  <a:pt x="14312" y="15453"/>
                </a:cubicBezTo>
              </a:path>
              <a:path w="9476" h="6549">
                <a:moveTo>
                  <a:pt x="13915" y="15801"/>
                </a:moveTo>
                <a:cubicBezTo>
                  <a:pt x="13943" y="15801"/>
                  <a:pt x="13954" y="15799"/>
                  <a:pt x="13965" y="15776"/>
                </a:cubicBezTo>
                <a:cubicBezTo>
                  <a:pt x="13998" y="15896"/>
                  <a:pt x="13976" y="15940"/>
                  <a:pt x="13940" y="16049"/>
                </a:cubicBezTo>
                <a:cubicBezTo>
                  <a:pt x="14049" y="16033"/>
                  <a:pt x="14157" y="16004"/>
                  <a:pt x="14263" y="15974"/>
                </a:cubicBezTo>
              </a:path>
              <a:path w="9476" h="6549">
                <a:moveTo>
                  <a:pt x="14188" y="15701"/>
                </a:moveTo>
                <a:cubicBezTo>
                  <a:pt x="14188" y="15877"/>
                  <a:pt x="14207" y="16047"/>
                  <a:pt x="14213" y="16222"/>
                </a:cubicBezTo>
                <a:cubicBezTo>
                  <a:pt x="14213" y="16274"/>
                  <a:pt x="14214" y="16289"/>
                  <a:pt x="14238" y="16222"/>
                </a:cubicBezTo>
              </a:path>
              <a:path w="9476" h="6549">
                <a:moveTo>
                  <a:pt x="14436" y="12700"/>
                </a:moveTo>
                <a:cubicBezTo>
                  <a:pt x="14416" y="12637"/>
                  <a:pt x="14362" y="12642"/>
                  <a:pt x="14312" y="12725"/>
                </a:cubicBezTo>
                <a:cubicBezTo>
                  <a:pt x="14242" y="12842"/>
                  <a:pt x="14163" y="13109"/>
                  <a:pt x="14362" y="13146"/>
                </a:cubicBezTo>
                <a:cubicBezTo>
                  <a:pt x="14549" y="13181"/>
                  <a:pt x="14589" y="12936"/>
                  <a:pt x="14511" y="12824"/>
                </a:cubicBezTo>
                <a:cubicBezTo>
                  <a:pt x="14446" y="12781"/>
                  <a:pt x="14432" y="12769"/>
                  <a:pt x="14387" y="12750"/>
                </a:cubicBezTo>
              </a:path>
              <a:path w="9476" h="6549">
                <a:moveTo>
                  <a:pt x="14362" y="13444"/>
                </a:moveTo>
                <a:cubicBezTo>
                  <a:pt x="14299" y="13537"/>
                  <a:pt x="14360" y="13605"/>
                  <a:pt x="14362" y="13717"/>
                </a:cubicBezTo>
                <a:cubicBezTo>
                  <a:pt x="14365" y="13894"/>
                  <a:pt x="14365" y="14088"/>
                  <a:pt x="14387" y="14263"/>
                </a:cubicBezTo>
                <a:cubicBezTo>
                  <a:pt x="14405" y="14405"/>
                  <a:pt x="14471" y="14540"/>
                  <a:pt x="14486" y="14684"/>
                </a:cubicBezTo>
                <a:cubicBezTo>
                  <a:pt x="14500" y="14824"/>
                  <a:pt x="14524" y="14967"/>
                  <a:pt x="14536" y="15106"/>
                </a:cubicBezTo>
                <a:cubicBezTo>
                  <a:pt x="14542" y="15179"/>
                  <a:pt x="14536" y="15256"/>
                  <a:pt x="14536" y="15329"/>
                </a:cubicBezTo>
              </a:path>
              <a:path w="9476" h="6549">
                <a:moveTo>
                  <a:pt x="14635" y="15801"/>
                </a:moveTo>
                <a:cubicBezTo>
                  <a:pt x="14635" y="15768"/>
                  <a:pt x="14635" y="15734"/>
                  <a:pt x="14635" y="15701"/>
                </a:cubicBezTo>
                <a:cubicBezTo>
                  <a:pt x="14515" y="15725"/>
                  <a:pt x="14486" y="15860"/>
                  <a:pt x="14486" y="15974"/>
                </a:cubicBezTo>
                <a:cubicBezTo>
                  <a:pt x="14486" y="16190"/>
                  <a:pt x="14661" y="16183"/>
                  <a:pt x="14784" y="16049"/>
                </a:cubicBezTo>
                <a:cubicBezTo>
                  <a:pt x="14901" y="15921"/>
                  <a:pt x="14924" y="15740"/>
                  <a:pt x="14734" y="15677"/>
                </a:cubicBezTo>
                <a:cubicBezTo>
                  <a:pt x="14676" y="15677"/>
                  <a:pt x="14668" y="15677"/>
                  <a:pt x="14635" y="15677"/>
                </a:cubicBezTo>
              </a:path>
              <a:path w="9476" h="6549">
                <a:moveTo>
                  <a:pt x="13593" y="12378"/>
                </a:moveTo>
                <a:cubicBezTo>
                  <a:pt x="13692" y="12338"/>
                  <a:pt x="13778" y="12344"/>
                  <a:pt x="13891" y="12328"/>
                </a:cubicBezTo>
                <a:cubicBezTo>
                  <a:pt x="14214" y="12281"/>
                  <a:pt x="14519" y="12191"/>
                  <a:pt x="14833" y="12105"/>
                </a:cubicBezTo>
                <a:cubicBezTo>
                  <a:pt x="14912" y="12083"/>
                  <a:pt x="14920" y="12086"/>
                  <a:pt x="14982" y="12080"/>
                </a:cubicBezTo>
              </a:path>
              <a:path w="9476" h="6549">
                <a:moveTo>
                  <a:pt x="14337" y="11460"/>
                </a:moveTo>
                <a:cubicBezTo>
                  <a:pt x="14298" y="11477"/>
                  <a:pt x="14182" y="11505"/>
                  <a:pt x="14163" y="11534"/>
                </a:cubicBezTo>
                <a:cubicBezTo>
                  <a:pt x="14133" y="11579"/>
                  <a:pt x="14142" y="11701"/>
                  <a:pt x="14139" y="11757"/>
                </a:cubicBezTo>
                <a:cubicBezTo>
                  <a:pt x="14139" y="11765"/>
                  <a:pt x="14139" y="11774"/>
                  <a:pt x="14139" y="11782"/>
                </a:cubicBezTo>
                <a:cubicBezTo>
                  <a:pt x="14226" y="11747"/>
                  <a:pt x="14269" y="11651"/>
                  <a:pt x="14387" y="11683"/>
                </a:cubicBezTo>
                <a:cubicBezTo>
                  <a:pt x="14555" y="11728"/>
                  <a:pt x="14429" y="11951"/>
                  <a:pt x="14337" y="12005"/>
                </a:cubicBezTo>
                <a:cubicBezTo>
                  <a:pt x="14262" y="12049"/>
                  <a:pt x="14237" y="12041"/>
                  <a:pt x="14188" y="12005"/>
                </a:cubicBezTo>
              </a:path>
              <a:path w="9476" h="6549">
                <a:moveTo>
                  <a:pt x="14188" y="16520"/>
                </a:moveTo>
                <a:cubicBezTo>
                  <a:pt x="14188" y="16460"/>
                  <a:pt x="14166" y="16662"/>
                  <a:pt x="14163" y="16669"/>
                </a:cubicBezTo>
                <a:cubicBezTo>
                  <a:pt x="14142" y="16712"/>
                  <a:pt x="14138" y="16724"/>
                  <a:pt x="14114" y="16743"/>
                </a:cubicBezTo>
                <a:cubicBezTo>
                  <a:pt x="14220" y="16704"/>
                  <a:pt x="14338" y="16669"/>
                  <a:pt x="14436" y="16694"/>
                </a:cubicBezTo>
              </a:path>
              <a:path w="9476" h="6549">
                <a:moveTo>
                  <a:pt x="14312" y="16346"/>
                </a:moveTo>
                <a:cubicBezTo>
                  <a:pt x="14380" y="16522"/>
                  <a:pt x="14406" y="16679"/>
                  <a:pt x="14412" y="16867"/>
                </a:cubicBezTo>
                <a:cubicBezTo>
                  <a:pt x="14412" y="16912"/>
                  <a:pt x="14408" y="16932"/>
                  <a:pt x="14436" y="16892"/>
                </a:cubicBezTo>
              </a:path>
              <a:path w="9476" h="6549">
                <a:moveTo>
                  <a:pt x="14759" y="16321"/>
                </a:moveTo>
                <a:cubicBezTo>
                  <a:pt x="14679" y="16401"/>
                  <a:pt x="14623" y="16611"/>
                  <a:pt x="14660" y="16743"/>
                </a:cubicBezTo>
                <a:cubicBezTo>
                  <a:pt x="14676" y="16760"/>
                  <a:pt x="14693" y="16776"/>
                  <a:pt x="14709" y="16793"/>
                </a:cubicBezTo>
                <a:cubicBezTo>
                  <a:pt x="14800" y="16750"/>
                  <a:pt x="15045" y="16573"/>
                  <a:pt x="14858" y="16446"/>
                </a:cubicBezTo>
                <a:cubicBezTo>
                  <a:pt x="14750" y="16446"/>
                  <a:pt x="14708" y="16448"/>
                  <a:pt x="14635" y="16470"/>
                </a:cubicBezTo>
              </a:path>
              <a:path w="9476" h="6549">
                <a:moveTo>
                  <a:pt x="13791" y="17165"/>
                </a:moveTo>
                <a:cubicBezTo>
                  <a:pt x="14136" y="17058"/>
                  <a:pt x="14478" y="16980"/>
                  <a:pt x="14833" y="16917"/>
                </a:cubicBezTo>
                <a:cubicBezTo>
                  <a:pt x="14949" y="16898"/>
                  <a:pt x="14965" y="16889"/>
                  <a:pt x="15032" y="16892"/>
                </a:cubicBezTo>
              </a:path>
              <a:path w="9476" h="6549">
                <a:moveTo>
                  <a:pt x="14808" y="17289"/>
                </a:moveTo>
                <a:cubicBezTo>
                  <a:pt x="14851" y="17275"/>
                  <a:pt x="14842" y="17263"/>
                  <a:pt x="14808" y="17314"/>
                </a:cubicBezTo>
                <a:cubicBezTo>
                  <a:pt x="14762" y="17381"/>
                  <a:pt x="14517" y="17778"/>
                  <a:pt x="14784" y="17785"/>
                </a:cubicBezTo>
                <a:cubicBezTo>
                  <a:pt x="14971" y="17790"/>
                  <a:pt x="15078" y="17542"/>
                  <a:pt x="15032" y="17388"/>
                </a:cubicBezTo>
                <a:cubicBezTo>
                  <a:pt x="15019" y="17346"/>
                  <a:pt x="14940" y="17315"/>
                  <a:pt x="14908" y="17289"/>
                </a:cubicBezTo>
              </a:path>
              <a:path w="9476" h="6549">
                <a:moveTo>
                  <a:pt x="15825" y="12427"/>
                </a:moveTo>
                <a:cubicBezTo>
                  <a:pt x="16020" y="12912"/>
                  <a:pt x="16156" y="13371"/>
                  <a:pt x="16247" y="13891"/>
                </a:cubicBezTo>
                <a:cubicBezTo>
                  <a:pt x="16311" y="14258"/>
                  <a:pt x="16361" y="14641"/>
                  <a:pt x="16396" y="15007"/>
                </a:cubicBezTo>
                <a:cubicBezTo>
                  <a:pt x="16396" y="15015"/>
                  <a:pt x="16396" y="15024"/>
                  <a:pt x="16396" y="15032"/>
                </a:cubicBezTo>
                <a:cubicBezTo>
                  <a:pt x="16734" y="14957"/>
                  <a:pt x="17054" y="14847"/>
                  <a:pt x="17388" y="14734"/>
                </a:cubicBezTo>
                <a:cubicBezTo>
                  <a:pt x="18342" y="14411"/>
                  <a:pt x="19282" y="14093"/>
                  <a:pt x="20265" y="13866"/>
                </a:cubicBezTo>
                <a:cubicBezTo>
                  <a:pt x="20801" y="13742"/>
                  <a:pt x="21340" y="13607"/>
                  <a:pt x="21878" y="13494"/>
                </a:cubicBezTo>
                <a:cubicBezTo>
                  <a:pt x="21950" y="13479"/>
                  <a:pt x="22008" y="13481"/>
                  <a:pt x="22076" y="13469"/>
                </a:cubicBezTo>
                <a:cubicBezTo>
                  <a:pt x="22044" y="13341"/>
                  <a:pt x="22003" y="13204"/>
                  <a:pt x="21977" y="13072"/>
                </a:cubicBezTo>
                <a:cubicBezTo>
                  <a:pt x="21876" y="12562"/>
                  <a:pt x="21897" y="12024"/>
                  <a:pt x="21704" y="11534"/>
                </a:cubicBezTo>
                <a:cubicBezTo>
                  <a:pt x="21669" y="11445"/>
                  <a:pt x="21609" y="11349"/>
                  <a:pt x="21580" y="11261"/>
                </a:cubicBezTo>
                <a:cubicBezTo>
                  <a:pt x="21580" y="11253"/>
                  <a:pt x="21580" y="11245"/>
                  <a:pt x="21580" y="11237"/>
                </a:cubicBezTo>
                <a:cubicBezTo>
                  <a:pt x="21272" y="11332"/>
                  <a:pt x="20955" y="11433"/>
                  <a:pt x="20638" y="11509"/>
                </a:cubicBezTo>
                <a:cubicBezTo>
                  <a:pt x="20088" y="11641"/>
                  <a:pt x="19524" y="11719"/>
                  <a:pt x="18976" y="11857"/>
                </a:cubicBezTo>
                <a:cubicBezTo>
                  <a:pt x="18618" y="11947"/>
                  <a:pt x="18266" y="12036"/>
                  <a:pt x="17909" y="12129"/>
                </a:cubicBezTo>
                <a:cubicBezTo>
                  <a:pt x="17646" y="12198"/>
                  <a:pt x="17379" y="12224"/>
                  <a:pt x="17115" y="12278"/>
                </a:cubicBezTo>
                <a:cubicBezTo>
                  <a:pt x="16883" y="12325"/>
                  <a:pt x="16620" y="12356"/>
                  <a:pt x="16396" y="12427"/>
                </a:cubicBezTo>
                <a:cubicBezTo>
                  <a:pt x="16204" y="12488"/>
                  <a:pt x="16021" y="12577"/>
                  <a:pt x="15825" y="12626"/>
                </a:cubicBezTo>
                <a:cubicBezTo>
                  <a:pt x="15792" y="12634"/>
                  <a:pt x="15648" y="12645"/>
                  <a:pt x="15701" y="12650"/>
                </a:cubicBezTo>
                <a:cubicBezTo>
                  <a:pt x="15759" y="12642"/>
                  <a:pt x="15817" y="12634"/>
                  <a:pt x="15875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920" y="2830680"/>
            <a:ext cx="71280" cy="27000"/>
          </a:xfrm>
          <a:custGeom>
            <a:avLst/>
            <a:gdLst/>
            <a:ahLst/>
            <a:rect l="l" t="t" r="r" b="b"/>
            <a:pathLst>
              <a:path w="200" h="76">
                <a:moveTo>
                  <a:pt x="19670" y="7938"/>
                </a:moveTo>
                <a:cubicBezTo>
                  <a:pt x="19743" y="7881"/>
                  <a:pt x="19778" y="7863"/>
                  <a:pt x="19869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6720" y="2463840"/>
            <a:ext cx="1440" cy="198360"/>
          </a:xfrm>
          <a:custGeom>
            <a:avLst/>
            <a:gdLst/>
            <a:ahLst/>
            <a:rect l="l" t="t" r="r" b="b"/>
            <a:pathLst>
              <a:path w="1" h="547">
                <a:moveTo>
                  <a:pt x="18852" y="6846"/>
                </a:moveTo>
                <a:cubicBezTo>
                  <a:pt x="18852" y="7028"/>
                  <a:pt x="18852" y="7210"/>
                  <a:pt x="18852" y="7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63920" y="3054240"/>
            <a:ext cx="1278000" cy="625680"/>
          </a:xfrm>
          <a:custGeom>
            <a:avLst/>
            <a:gdLst/>
            <a:ahLst/>
            <a:rect l="l" t="t" r="r" b="b"/>
            <a:pathLst>
              <a:path w="3548" h="1738">
                <a:moveTo>
                  <a:pt x="9699" y="8657"/>
                </a:moveTo>
                <a:cubicBezTo>
                  <a:pt x="9765" y="8610"/>
                  <a:pt x="10035" y="8370"/>
                  <a:pt x="10071" y="8582"/>
                </a:cubicBezTo>
                <a:cubicBezTo>
                  <a:pt x="10043" y="8694"/>
                  <a:pt x="10026" y="8736"/>
                  <a:pt x="9947" y="8781"/>
                </a:cubicBezTo>
                <a:cubicBezTo>
                  <a:pt x="9930" y="8789"/>
                  <a:pt x="9914" y="8798"/>
                  <a:pt x="9897" y="8806"/>
                </a:cubicBezTo>
                <a:cubicBezTo>
                  <a:pt x="10018" y="8773"/>
                  <a:pt x="10231" y="8779"/>
                  <a:pt x="10170" y="8979"/>
                </a:cubicBezTo>
                <a:cubicBezTo>
                  <a:pt x="10114" y="9163"/>
                  <a:pt x="9905" y="9090"/>
                  <a:pt x="9773" y="9079"/>
                </a:cubicBezTo>
              </a:path>
              <a:path w="3548" h="1738">
                <a:moveTo>
                  <a:pt x="9624" y="9426"/>
                </a:moveTo>
                <a:cubicBezTo>
                  <a:pt x="9918" y="9345"/>
                  <a:pt x="10257" y="9241"/>
                  <a:pt x="10567" y="9252"/>
                </a:cubicBezTo>
                <a:cubicBezTo>
                  <a:pt x="10567" y="9260"/>
                  <a:pt x="10567" y="9269"/>
                  <a:pt x="10567" y="9277"/>
                </a:cubicBezTo>
              </a:path>
              <a:path w="3548" h="1738">
                <a:moveTo>
                  <a:pt x="9971" y="9773"/>
                </a:moveTo>
                <a:cubicBezTo>
                  <a:pt x="10043" y="9725"/>
                  <a:pt x="10064" y="9710"/>
                  <a:pt x="10120" y="9699"/>
                </a:cubicBezTo>
                <a:cubicBezTo>
                  <a:pt x="10231" y="9855"/>
                  <a:pt x="10188" y="9955"/>
                  <a:pt x="10096" y="10120"/>
                </a:cubicBezTo>
                <a:cubicBezTo>
                  <a:pt x="10058" y="10177"/>
                  <a:pt x="10041" y="10180"/>
                  <a:pt x="10046" y="10220"/>
                </a:cubicBezTo>
                <a:cubicBezTo>
                  <a:pt x="10155" y="10211"/>
                  <a:pt x="10260" y="10191"/>
                  <a:pt x="10368" y="10170"/>
                </a:cubicBezTo>
              </a:path>
              <a:path w="3548" h="1738">
                <a:moveTo>
                  <a:pt x="10443" y="8855"/>
                </a:moveTo>
                <a:cubicBezTo>
                  <a:pt x="10462" y="8799"/>
                  <a:pt x="10534" y="8848"/>
                  <a:pt x="10592" y="8830"/>
                </a:cubicBezTo>
                <a:cubicBezTo>
                  <a:pt x="10616" y="8806"/>
                  <a:pt x="10624" y="8798"/>
                  <a:pt x="10641" y="8830"/>
                </a:cubicBezTo>
              </a:path>
              <a:path w="3548" h="1738">
                <a:moveTo>
                  <a:pt x="10542" y="8682"/>
                </a:moveTo>
                <a:cubicBezTo>
                  <a:pt x="10542" y="8690"/>
                  <a:pt x="10542" y="8698"/>
                  <a:pt x="10542" y="8706"/>
                </a:cubicBezTo>
              </a:path>
              <a:path w="3548" h="1738">
                <a:moveTo>
                  <a:pt x="10616" y="9029"/>
                </a:moveTo>
                <a:cubicBezTo>
                  <a:pt x="10608" y="9029"/>
                  <a:pt x="10600" y="9029"/>
                  <a:pt x="10592" y="9029"/>
                </a:cubicBezTo>
              </a:path>
              <a:path w="3548" h="1738">
                <a:moveTo>
                  <a:pt x="10592" y="9922"/>
                </a:moveTo>
                <a:cubicBezTo>
                  <a:pt x="10658" y="9922"/>
                  <a:pt x="10711" y="9912"/>
                  <a:pt x="10765" y="9897"/>
                </a:cubicBezTo>
                <a:cubicBezTo>
                  <a:pt x="10773" y="9897"/>
                  <a:pt x="10782" y="9897"/>
                  <a:pt x="10790" y="9897"/>
                </a:cubicBezTo>
              </a:path>
              <a:path w="3548" h="1738">
                <a:moveTo>
                  <a:pt x="10666" y="9748"/>
                </a:moveTo>
                <a:lnTo>
                  <a:pt x="10666" y="9748"/>
                </a:lnTo>
              </a:path>
              <a:path w="3548" h="1738">
                <a:moveTo>
                  <a:pt x="10765" y="10170"/>
                </a:moveTo>
                <a:lnTo>
                  <a:pt x="10765" y="10170"/>
                </a:lnTo>
              </a:path>
              <a:path w="3548" h="1738">
                <a:moveTo>
                  <a:pt x="10765" y="8607"/>
                </a:moveTo>
                <a:cubicBezTo>
                  <a:pt x="10798" y="8552"/>
                  <a:pt x="10926" y="8444"/>
                  <a:pt x="11013" y="8483"/>
                </a:cubicBezTo>
                <a:cubicBezTo>
                  <a:pt x="11103" y="8523"/>
                  <a:pt x="10988" y="8647"/>
                  <a:pt x="10964" y="8682"/>
                </a:cubicBezTo>
                <a:cubicBezTo>
                  <a:pt x="11028" y="8682"/>
                  <a:pt x="11128" y="8682"/>
                  <a:pt x="11112" y="8781"/>
                </a:cubicBezTo>
                <a:cubicBezTo>
                  <a:pt x="11096" y="8882"/>
                  <a:pt x="10927" y="8930"/>
                  <a:pt x="10889" y="8905"/>
                </a:cubicBezTo>
              </a:path>
              <a:path w="3548" h="1738">
                <a:moveTo>
                  <a:pt x="11088" y="9624"/>
                </a:moveTo>
                <a:cubicBezTo>
                  <a:pt x="11145" y="9624"/>
                  <a:pt x="11217" y="9570"/>
                  <a:pt x="11261" y="9624"/>
                </a:cubicBezTo>
                <a:cubicBezTo>
                  <a:pt x="11339" y="9720"/>
                  <a:pt x="11244" y="9771"/>
                  <a:pt x="11187" y="9823"/>
                </a:cubicBezTo>
                <a:cubicBezTo>
                  <a:pt x="11259" y="9823"/>
                  <a:pt x="11426" y="9796"/>
                  <a:pt x="11410" y="9922"/>
                </a:cubicBezTo>
                <a:cubicBezTo>
                  <a:pt x="11382" y="10138"/>
                  <a:pt x="11200" y="10059"/>
                  <a:pt x="11112" y="9971"/>
                </a:cubicBezTo>
              </a:path>
              <a:path w="3548" h="1738">
                <a:moveTo>
                  <a:pt x="11584" y="9302"/>
                </a:moveTo>
                <a:cubicBezTo>
                  <a:pt x="11662" y="9302"/>
                  <a:pt x="11746" y="9281"/>
                  <a:pt x="11807" y="9327"/>
                </a:cubicBezTo>
              </a:path>
              <a:path w="3548" h="1738">
                <a:moveTo>
                  <a:pt x="11633" y="9500"/>
                </a:moveTo>
                <a:cubicBezTo>
                  <a:pt x="11736" y="9500"/>
                  <a:pt x="11773" y="9498"/>
                  <a:pt x="11832" y="9451"/>
                </a:cubicBezTo>
              </a:path>
              <a:path w="3548" h="1738">
                <a:moveTo>
                  <a:pt x="11832" y="9451"/>
                </a:moveTo>
                <a:lnTo>
                  <a:pt x="11832" y="9451"/>
                </a:lnTo>
              </a:path>
              <a:path w="3548" h="1738">
                <a:moveTo>
                  <a:pt x="12353" y="8657"/>
                </a:moveTo>
                <a:cubicBezTo>
                  <a:pt x="12353" y="8803"/>
                  <a:pt x="12355" y="8938"/>
                  <a:pt x="12378" y="9079"/>
                </a:cubicBezTo>
                <a:cubicBezTo>
                  <a:pt x="12378" y="9087"/>
                  <a:pt x="12378" y="9095"/>
                  <a:pt x="12378" y="9103"/>
                </a:cubicBezTo>
              </a:path>
              <a:path w="3548" h="1738">
                <a:moveTo>
                  <a:pt x="12055" y="9351"/>
                </a:moveTo>
                <a:cubicBezTo>
                  <a:pt x="12211" y="9351"/>
                  <a:pt x="12350" y="9295"/>
                  <a:pt x="12502" y="9277"/>
                </a:cubicBezTo>
                <a:cubicBezTo>
                  <a:pt x="12592" y="9267"/>
                  <a:pt x="12699" y="9269"/>
                  <a:pt x="12774" y="9302"/>
                </a:cubicBezTo>
              </a:path>
              <a:path w="3548" h="1738">
                <a:moveTo>
                  <a:pt x="12254" y="9773"/>
                </a:moveTo>
                <a:cubicBezTo>
                  <a:pt x="12290" y="9823"/>
                  <a:pt x="12267" y="9819"/>
                  <a:pt x="12254" y="9872"/>
                </a:cubicBezTo>
                <a:cubicBezTo>
                  <a:pt x="12340" y="9872"/>
                  <a:pt x="12417" y="9852"/>
                  <a:pt x="12502" y="9847"/>
                </a:cubicBezTo>
                <a:cubicBezTo>
                  <a:pt x="12518" y="9847"/>
                  <a:pt x="12535" y="9847"/>
                  <a:pt x="12551" y="9847"/>
                </a:cubicBezTo>
              </a:path>
              <a:path w="3548" h="1738">
                <a:moveTo>
                  <a:pt x="12502" y="9550"/>
                </a:moveTo>
                <a:cubicBezTo>
                  <a:pt x="12502" y="9765"/>
                  <a:pt x="12502" y="9980"/>
                  <a:pt x="12502" y="10195"/>
                </a:cubicBezTo>
              </a:path>
              <a:path w="3548" h="1738">
                <a:moveTo>
                  <a:pt x="13047" y="9277"/>
                </a:moveTo>
                <a:cubicBezTo>
                  <a:pt x="13069" y="9355"/>
                  <a:pt x="13122" y="9426"/>
                  <a:pt x="13146" y="9500"/>
                </a:cubicBezTo>
              </a:path>
              <a:path w="3548" h="1738">
                <a:moveTo>
                  <a:pt x="13171" y="9277"/>
                </a:moveTo>
                <a:cubicBezTo>
                  <a:pt x="13157" y="9389"/>
                  <a:pt x="13121" y="9490"/>
                  <a:pt x="13097" y="9599"/>
                </a:cubicBezTo>
                <a:cubicBezTo>
                  <a:pt x="13097" y="9607"/>
                  <a:pt x="13097" y="9616"/>
                  <a:pt x="13097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2240" y="4143240"/>
            <a:ext cx="1019520" cy="1465560"/>
          </a:xfrm>
          <a:custGeom>
            <a:avLst/>
            <a:gdLst/>
            <a:ahLst/>
            <a:rect l="l" t="t" r="r" b="b"/>
            <a:pathLst>
              <a:path w="2829" h="4069">
                <a:moveTo>
                  <a:pt x="12799" y="12626"/>
                </a:moveTo>
                <a:cubicBezTo>
                  <a:pt x="12910" y="12661"/>
                  <a:pt x="12677" y="12743"/>
                  <a:pt x="12650" y="12750"/>
                </a:cubicBezTo>
                <a:cubicBezTo>
                  <a:pt x="12619" y="12758"/>
                  <a:pt x="12454" y="12756"/>
                  <a:pt x="12452" y="12799"/>
                </a:cubicBezTo>
                <a:cubicBezTo>
                  <a:pt x="12447" y="12885"/>
                  <a:pt x="12444" y="12978"/>
                  <a:pt x="12402" y="13047"/>
                </a:cubicBezTo>
                <a:cubicBezTo>
                  <a:pt x="12488" y="13035"/>
                  <a:pt x="12528" y="12962"/>
                  <a:pt x="12626" y="12973"/>
                </a:cubicBezTo>
                <a:cubicBezTo>
                  <a:pt x="12775" y="12990"/>
                  <a:pt x="12781" y="13178"/>
                  <a:pt x="12700" y="13271"/>
                </a:cubicBezTo>
                <a:cubicBezTo>
                  <a:pt x="12563" y="13429"/>
                  <a:pt x="12438" y="13357"/>
                  <a:pt x="12278" y="13370"/>
                </a:cubicBezTo>
                <a:cubicBezTo>
                  <a:pt x="12262" y="13378"/>
                  <a:pt x="12245" y="13387"/>
                  <a:pt x="12229" y="13395"/>
                </a:cubicBezTo>
              </a:path>
              <a:path w="2829" h="4069">
                <a:moveTo>
                  <a:pt x="12030" y="13692"/>
                </a:moveTo>
                <a:cubicBezTo>
                  <a:pt x="12014" y="13519"/>
                  <a:pt x="11990" y="13345"/>
                  <a:pt x="11981" y="13171"/>
                </a:cubicBezTo>
                <a:cubicBezTo>
                  <a:pt x="11975" y="13052"/>
                  <a:pt x="11961" y="12942"/>
                  <a:pt x="11956" y="12824"/>
                </a:cubicBezTo>
                <a:cubicBezTo>
                  <a:pt x="11954" y="12783"/>
                  <a:pt x="11974" y="12766"/>
                  <a:pt x="11981" y="12725"/>
                </a:cubicBezTo>
                <a:cubicBezTo>
                  <a:pt x="11986" y="12697"/>
                  <a:pt x="11987" y="12656"/>
                  <a:pt x="12005" y="12650"/>
                </a:cubicBezTo>
                <a:cubicBezTo>
                  <a:pt x="12161" y="12595"/>
                  <a:pt x="12338" y="12571"/>
                  <a:pt x="12502" y="12551"/>
                </a:cubicBezTo>
                <a:cubicBezTo>
                  <a:pt x="12820" y="12512"/>
                  <a:pt x="13130" y="12487"/>
                  <a:pt x="13444" y="12427"/>
                </a:cubicBezTo>
                <a:cubicBezTo>
                  <a:pt x="13533" y="12410"/>
                  <a:pt x="13628" y="12395"/>
                  <a:pt x="13717" y="12378"/>
                </a:cubicBezTo>
              </a:path>
              <a:path w="2829" h="4069">
                <a:moveTo>
                  <a:pt x="11609" y="12973"/>
                </a:moveTo>
                <a:cubicBezTo>
                  <a:pt x="11659" y="12868"/>
                  <a:pt x="11434" y="12929"/>
                  <a:pt x="11385" y="12948"/>
                </a:cubicBezTo>
                <a:cubicBezTo>
                  <a:pt x="11256" y="12998"/>
                  <a:pt x="11251" y="13149"/>
                  <a:pt x="11361" y="13221"/>
                </a:cubicBezTo>
                <a:cubicBezTo>
                  <a:pt x="11436" y="13269"/>
                  <a:pt x="11738" y="13303"/>
                  <a:pt x="11658" y="13469"/>
                </a:cubicBezTo>
                <a:cubicBezTo>
                  <a:pt x="11604" y="13581"/>
                  <a:pt x="11525" y="13576"/>
                  <a:pt x="11435" y="13568"/>
                </a:cubicBezTo>
                <a:cubicBezTo>
                  <a:pt x="11394" y="13432"/>
                  <a:pt x="11417" y="13325"/>
                  <a:pt x="11485" y="13196"/>
                </a:cubicBezTo>
                <a:cubicBezTo>
                  <a:pt x="11485" y="13195"/>
                  <a:pt x="11559" y="13022"/>
                  <a:pt x="11559" y="13022"/>
                </a:cubicBezTo>
                <a:cubicBezTo>
                  <a:pt x="11567" y="13022"/>
                  <a:pt x="11576" y="13022"/>
                  <a:pt x="11584" y="13022"/>
                </a:cubicBezTo>
              </a:path>
              <a:path w="2829" h="4069">
                <a:moveTo>
                  <a:pt x="12551" y="11857"/>
                </a:moveTo>
                <a:cubicBezTo>
                  <a:pt x="12545" y="11838"/>
                  <a:pt x="12510" y="11809"/>
                  <a:pt x="12477" y="11832"/>
                </a:cubicBezTo>
                <a:cubicBezTo>
                  <a:pt x="12391" y="11893"/>
                  <a:pt x="12325" y="12029"/>
                  <a:pt x="12303" y="12129"/>
                </a:cubicBezTo>
                <a:cubicBezTo>
                  <a:pt x="12289" y="12194"/>
                  <a:pt x="12302" y="12270"/>
                  <a:pt x="12328" y="12328"/>
                </a:cubicBezTo>
                <a:cubicBezTo>
                  <a:pt x="12362" y="12404"/>
                  <a:pt x="12419" y="12436"/>
                  <a:pt x="12502" y="12452"/>
                </a:cubicBezTo>
                <a:cubicBezTo>
                  <a:pt x="12588" y="12469"/>
                  <a:pt x="12587" y="12423"/>
                  <a:pt x="12650" y="12378"/>
                </a:cubicBezTo>
                <a:cubicBezTo>
                  <a:pt x="12729" y="12322"/>
                  <a:pt x="12722" y="12290"/>
                  <a:pt x="12750" y="12204"/>
                </a:cubicBezTo>
                <a:cubicBezTo>
                  <a:pt x="12770" y="12142"/>
                  <a:pt x="12764" y="12068"/>
                  <a:pt x="12725" y="12005"/>
                </a:cubicBezTo>
                <a:cubicBezTo>
                  <a:pt x="12701" y="11967"/>
                  <a:pt x="12641" y="11919"/>
                  <a:pt x="12601" y="11906"/>
                </a:cubicBezTo>
                <a:cubicBezTo>
                  <a:pt x="12567" y="11895"/>
                  <a:pt x="12512" y="11883"/>
                  <a:pt x="12477" y="11881"/>
                </a:cubicBezTo>
                <a:cubicBezTo>
                  <a:pt x="12407" y="11876"/>
                  <a:pt x="12404" y="11885"/>
                  <a:pt x="12427" y="11931"/>
                </a:cubicBezTo>
              </a:path>
              <a:path w="2829" h="4069">
                <a:moveTo>
                  <a:pt x="12948" y="13246"/>
                </a:moveTo>
                <a:cubicBezTo>
                  <a:pt x="12959" y="13212"/>
                  <a:pt x="12960" y="13193"/>
                  <a:pt x="12923" y="13246"/>
                </a:cubicBezTo>
                <a:cubicBezTo>
                  <a:pt x="12899" y="13294"/>
                  <a:pt x="12890" y="13308"/>
                  <a:pt x="12898" y="13345"/>
                </a:cubicBezTo>
                <a:cubicBezTo>
                  <a:pt x="12918" y="13341"/>
                  <a:pt x="13083" y="13295"/>
                  <a:pt x="12998" y="13246"/>
                </a:cubicBezTo>
                <a:cubicBezTo>
                  <a:pt x="12959" y="13224"/>
                  <a:pt x="12932" y="13304"/>
                  <a:pt x="12923" y="13320"/>
                </a:cubicBezTo>
                <a:cubicBezTo>
                  <a:pt x="12929" y="13312"/>
                  <a:pt x="12999" y="13217"/>
                  <a:pt x="12948" y="13246"/>
                </a:cubicBezTo>
                <a:cubicBezTo>
                  <a:pt x="12923" y="13271"/>
                  <a:pt x="12915" y="13279"/>
                  <a:pt x="12898" y="13246"/>
                </a:cubicBezTo>
              </a:path>
              <a:path w="2829" h="4069">
                <a:moveTo>
                  <a:pt x="12849" y="12303"/>
                </a:moveTo>
                <a:cubicBezTo>
                  <a:pt x="12803" y="12315"/>
                  <a:pt x="12763" y="12365"/>
                  <a:pt x="12824" y="12402"/>
                </a:cubicBezTo>
                <a:cubicBezTo>
                  <a:pt x="12900" y="12448"/>
                  <a:pt x="12895" y="12293"/>
                  <a:pt x="12898" y="12278"/>
                </a:cubicBezTo>
                <a:cubicBezTo>
                  <a:pt x="12875" y="12314"/>
                  <a:pt x="12803" y="12423"/>
                  <a:pt x="12874" y="12378"/>
                </a:cubicBezTo>
                <a:cubicBezTo>
                  <a:pt x="12903" y="12337"/>
                  <a:pt x="12891" y="12303"/>
                  <a:pt x="12874" y="12353"/>
                </a:cubicBezTo>
                <a:cubicBezTo>
                  <a:pt x="12848" y="12431"/>
                  <a:pt x="12843" y="12457"/>
                  <a:pt x="12923" y="12477"/>
                </a:cubicBezTo>
              </a:path>
              <a:path w="2829" h="4069">
                <a:moveTo>
                  <a:pt x="13320" y="12750"/>
                </a:moveTo>
                <a:cubicBezTo>
                  <a:pt x="13309" y="12717"/>
                  <a:pt x="13307" y="12728"/>
                  <a:pt x="13271" y="12700"/>
                </a:cubicBezTo>
                <a:cubicBezTo>
                  <a:pt x="13180" y="12700"/>
                  <a:pt x="13139" y="12775"/>
                  <a:pt x="13122" y="12874"/>
                </a:cubicBezTo>
                <a:cubicBezTo>
                  <a:pt x="13103" y="12986"/>
                  <a:pt x="13114" y="13219"/>
                  <a:pt x="13196" y="13295"/>
                </a:cubicBezTo>
                <a:cubicBezTo>
                  <a:pt x="13265" y="13359"/>
                  <a:pt x="13415" y="13232"/>
                  <a:pt x="13444" y="13171"/>
                </a:cubicBezTo>
                <a:cubicBezTo>
                  <a:pt x="13495" y="13063"/>
                  <a:pt x="13491" y="12879"/>
                  <a:pt x="13395" y="12799"/>
                </a:cubicBezTo>
                <a:cubicBezTo>
                  <a:pt x="13374" y="12782"/>
                  <a:pt x="13325" y="12762"/>
                  <a:pt x="13295" y="12750"/>
                </a:cubicBezTo>
              </a:path>
              <a:path w="2829" h="4069">
                <a:moveTo>
                  <a:pt x="13097" y="11708"/>
                </a:moveTo>
                <a:cubicBezTo>
                  <a:pt x="13097" y="11575"/>
                  <a:pt x="13122" y="11794"/>
                  <a:pt x="13122" y="11807"/>
                </a:cubicBezTo>
                <a:cubicBezTo>
                  <a:pt x="13125" y="11921"/>
                  <a:pt x="13097" y="12049"/>
                  <a:pt x="13146" y="12154"/>
                </a:cubicBezTo>
                <a:cubicBezTo>
                  <a:pt x="13178" y="12222"/>
                  <a:pt x="13235" y="12229"/>
                  <a:pt x="13295" y="12204"/>
                </a:cubicBezTo>
                <a:cubicBezTo>
                  <a:pt x="13371" y="12173"/>
                  <a:pt x="13350" y="12180"/>
                  <a:pt x="13395" y="12129"/>
                </a:cubicBezTo>
                <a:cubicBezTo>
                  <a:pt x="13418" y="12103"/>
                  <a:pt x="13468" y="12046"/>
                  <a:pt x="13444" y="12005"/>
                </a:cubicBezTo>
                <a:cubicBezTo>
                  <a:pt x="13429" y="11979"/>
                  <a:pt x="13344" y="11965"/>
                  <a:pt x="13320" y="11981"/>
                </a:cubicBezTo>
                <a:cubicBezTo>
                  <a:pt x="13288" y="12003"/>
                  <a:pt x="13295" y="12117"/>
                  <a:pt x="13295" y="12154"/>
                </a:cubicBezTo>
                <a:cubicBezTo>
                  <a:pt x="13295" y="12196"/>
                  <a:pt x="13295" y="12204"/>
                  <a:pt x="13295" y="12229"/>
                </a:cubicBezTo>
              </a:path>
              <a:path w="2829" h="4069">
                <a:moveTo>
                  <a:pt x="12502" y="13643"/>
                </a:moveTo>
                <a:cubicBezTo>
                  <a:pt x="12513" y="13724"/>
                  <a:pt x="12547" y="13821"/>
                  <a:pt x="12477" y="13891"/>
                </a:cubicBezTo>
                <a:cubicBezTo>
                  <a:pt x="12469" y="13891"/>
                  <a:pt x="12460" y="13891"/>
                  <a:pt x="12452" y="13891"/>
                </a:cubicBezTo>
                <a:cubicBezTo>
                  <a:pt x="12531" y="13792"/>
                  <a:pt x="12568" y="13786"/>
                  <a:pt x="12700" y="13816"/>
                </a:cubicBezTo>
                <a:cubicBezTo>
                  <a:pt x="12828" y="13845"/>
                  <a:pt x="12806" y="13857"/>
                  <a:pt x="12849" y="13717"/>
                </a:cubicBezTo>
              </a:path>
              <a:path w="2829" h="4069">
                <a:moveTo>
                  <a:pt x="12774" y="13543"/>
                </a:moveTo>
                <a:cubicBezTo>
                  <a:pt x="12800" y="13674"/>
                  <a:pt x="12858" y="13802"/>
                  <a:pt x="12874" y="13940"/>
                </a:cubicBezTo>
                <a:cubicBezTo>
                  <a:pt x="12874" y="14014"/>
                  <a:pt x="12849" y="14047"/>
                  <a:pt x="12898" y="14039"/>
                </a:cubicBezTo>
              </a:path>
              <a:path w="2829" h="4069">
                <a:moveTo>
                  <a:pt x="13246" y="13519"/>
                </a:moveTo>
                <a:cubicBezTo>
                  <a:pt x="13135" y="13563"/>
                  <a:pt x="12970" y="13620"/>
                  <a:pt x="13097" y="13767"/>
                </a:cubicBezTo>
                <a:cubicBezTo>
                  <a:pt x="13160" y="13840"/>
                  <a:pt x="13219" y="13859"/>
                  <a:pt x="13271" y="13940"/>
                </a:cubicBezTo>
                <a:cubicBezTo>
                  <a:pt x="13160" y="14002"/>
                  <a:pt x="13093" y="13966"/>
                  <a:pt x="13146" y="13816"/>
                </a:cubicBezTo>
                <a:cubicBezTo>
                  <a:pt x="13163" y="13768"/>
                  <a:pt x="13267" y="13642"/>
                  <a:pt x="13196" y="13618"/>
                </a:cubicBezTo>
              </a:path>
              <a:path w="2829" h="4069">
                <a:moveTo>
                  <a:pt x="11832" y="14163"/>
                </a:moveTo>
                <a:cubicBezTo>
                  <a:pt x="11945" y="14129"/>
                  <a:pt x="12036" y="14114"/>
                  <a:pt x="12154" y="14114"/>
                </a:cubicBezTo>
              </a:path>
              <a:path w="2829" h="4069">
                <a:moveTo>
                  <a:pt x="11807" y="14511"/>
                </a:moveTo>
                <a:cubicBezTo>
                  <a:pt x="12235" y="14368"/>
                  <a:pt x="12657" y="14215"/>
                  <a:pt x="13097" y="14114"/>
                </a:cubicBezTo>
                <a:cubicBezTo>
                  <a:pt x="13383" y="14048"/>
                  <a:pt x="13176" y="14106"/>
                  <a:pt x="13271" y="14064"/>
                </a:cubicBezTo>
              </a:path>
              <a:path w="2829" h="4069">
                <a:moveTo>
                  <a:pt x="13047" y="14585"/>
                </a:moveTo>
                <a:cubicBezTo>
                  <a:pt x="13077" y="14525"/>
                  <a:pt x="13151" y="14502"/>
                  <a:pt x="13221" y="14486"/>
                </a:cubicBezTo>
                <a:cubicBezTo>
                  <a:pt x="13265" y="14632"/>
                  <a:pt x="13242" y="14755"/>
                  <a:pt x="13146" y="14883"/>
                </a:cubicBezTo>
                <a:cubicBezTo>
                  <a:pt x="13067" y="14962"/>
                  <a:pt x="13059" y="14982"/>
                  <a:pt x="12998" y="15007"/>
                </a:cubicBezTo>
                <a:cubicBezTo>
                  <a:pt x="13111" y="15007"/>
                  <a:pt x="13208" y="14970"/>
                  <a:pt x="13320" y="14957"/>
                </a:cubicBezTo>
                <a:cubicBezTo>
                  <a:pt x="13378" y="14957"/>
                  <a:pt x="13386" y="14957"/>
                  <a:pt x="13419" y="14957"/>
                </a:cubicBezTo>
              </a:path>
              <a:path w="2829" h="4069">
                <a:moveTo>
                  <a:pt x="13816" y="12750"/>
                </a:moveTo>
                <a:cubicBezTo>
                  <a:pt x="13790" y="12646"/>
                  <a:pt x="13680" y="12741"/>
                  <a:pt x="13643" y="12799"/>
                </a:cubicBezTo>
                <a:cubicBezTo>
                  <a:pt x="13552" y="12944"/>
                  <a:pt x="13533" y="13179"/>
                  <a:pt x="13643" y="13320"/>
                </a:cubicBezTo>
                <a:cubicBezTo>
                  <a:pt x="13769" y="13481"/>
                  <a:pt x="13942" y="13269"/>
                  <a:pt x="13965" y="13146"/>
                </a:cubicBezTo>
                <a:cubicBezTo>
                  <a:pt x="13973" y="13105"/>
                  <a:pt x="13849" y="12761"/>
                  <a:pt x="13816" y="12824"/>
                </a:cubicBezTo>
                <a:cubicBezTo>
                  <a:pt x="13808" y="12874"/>
                  <a:pt x="13799" y="12923"/>
                  <a:pt x="13791" y="12973"/>
                </a:cubicBezTo>
              </a:path>
              <a:path w="2829" h="4069">
                <a:moveTo>
                  <a:pt x="13717" y="13643"/>
                </a:moveTo>
                <a:cubicBezTo>
                  <a:pt x="13717" y="13598"/>
                  <a:pt x="13720" y="13585"/>
                  <a:pt x="13692" y="13568"/>
                </a:cubicBezTo>
                <a:cubicBezTo>
                  <a:pt x="13611" y="13514"/>
                  <a:pt x="13692" y="13891"/>
                  <a:pt x="13692" y="13891"/>
                </a:cubicBezTo>
                <a:cubicBezTo>
                  <a:pt x="13697" y="14018"/>
                  <a:pt x="13660" y="14327"/>
                  <a:pt x="13717" y="14213"/>
                </a:cubicBezTo>
              </a:path>
              <a:path w="2829" h="4069">
                <a:moveTo>
                  <a:pt x="13841" y="14511"/>
                </a:moveTo>
                <a:cubicBezTo>
                  <a:pt x="13834" y="14489"/>
                  <a:pt x="13803" y="14467"/>
                  <a:pt x="13767" y="14486"/>
                </a:cubicBezTo>
                <a:cubicBezTo>
                  <a:pt x="13649" y="14549"/>
                  <a:pt x="13626" y="14733"/>
                  <a:pt x="13643" y="14858"/>
                </a:cubicBezTo>
                <a:cubicBezTo>
                  <a:pt x="13663" y="15005"/>
                  <a:pt x="13833" y="14964"/>
                  <a:pt x="13915" y="14908"/>
                </a:cubicBezTo>
                <a:cubicBezTo>
                  <a:pt x="14017" y="14839"/>
                  <a:pt x="14098" y="14750"/>
                  <a:pt x="14064" y="14635"/>
                </a:cubicBezTo>
                <a:cubicBezTo>
                  <a:pt x="14042" y="14562"/>
                  <a:pt x="13972" y="14513"/>
                  <a:pt x="13891" y="14486"/>
                </a:cubicBezTo>
                <a:cubicBezTo>
                  <a:pt x="13841" y="14469"/>
                  <a:pt x="13826" y="14482"/>
                  <a:pt x="13816" y="14511"/>
                </a:cubicBezTo>
              </a:path>
              <a:path w="2829" h="4069">
                <a:moveTo>
                  <a:pt x="13643" y="11683"/>
                </a:moveTo>
                <a:cubicBezTo>
                  <a:pt x="13680" y="11608"/>
                  <a:pt x="13742" y="11556"/>
                  <a:pt x="13816" y="11509"/>
                </a:cubicBezTo>
                <a:cubicBezTo>
                  <a:pt x="13918" y="11631"/>
                  <a:pt x="13885" y="11715"/>
                  <a:pt x="13816" y="11857"/>
                </a:cubicBezTo>
                <a:cubicBezTo>
                  <a:pt x="13760" y="11972"/>
                  <a:pt x="13674" y="12081"/>
                  <a:pt x="13593" y="12179"/>
                </a:cubicBezTo>
                <a:cubicBezTo>
                  <a:pt x="13655" y="12164"/>
                  <a:pt x="13642" y="12133"/>
                  <a:pt x="13717" y="12105"/>
                </a:cubicBezTo>
                <a:cubicBezTo>
                  <a:pt x="13807" y="12071"/>
                  <a:pt x="13875" y="12154"/>
                  <a:pt x="13940" y="12129"/>
                </a:cubicBezTo>
                <a:cubicBezTo>
                  <a:pt x="13963" y="12107"/>
                  <a:pt x="13968" y="12099"/>
                  <a:pt x="13990" y="12105"/>
                </a:cubicBezTo>
              </a:path>
              <a:path w="2829" h="4069">
                <a:moveTo>
                  <a:pt x="13345" y="15106"/>
                </a:moveTo>
                <a:cubicBezTo>
                  <a:pt x="13345" y="15006"/>
                  <a:pt x="13356" y="15255"/>
                  <a:pt x="13370" y="15354"/>
                </a:cubicBezTo>
                <a:cubicBezTo>
                  <a:pt x="13382" y="15435"/>
                  <a:pt x="13388" y="15559"/>
                  <a:pt x="13395" y="15553"/>
                </a:cubicBezTo>
                <a:cubicBezTo>
                  <a:pt x="13420" y="15536"/>
                  <a:pt x="13444" y="15520"/>
                  <a:pt x="13469" y="15503"/>
                </a:cubicBezTo>
              </a:path>
              <a:path w="2829" h="4069">
                <a:moveTo>
                  <a:pt x="13742" y="15106"/>
                </a:moveTo>
                <a:cubicBezTo>
                  <a:pt x="13742" y="15225"/>
                  <a:pt x="13741" y="15335"/>
                  <a:pt x="13767" y="15453"/>
                </a:cubicBezTo>
                <a:cubicBezTo>
                  <a:pt x="13801" y="15607"/>
                  <a:pt x="13966" y="15558"/>
                  <a:pt x="14064" y="15478"/>
                </a:cubicBezTo>
                <a:cubicBezTo>
                  <a:pt x="14140" y="15416"/>
                  <a:pt x="14146" y="15318"/>
                  <a:pt x="14064" y="15304"/>
                </a:cubicBezTo>
                <a:cubicBezTo>
                  <a:pt x="13970" y="15375"/>
                  <a:pt x="13965" y="15412"/>
                  <a:pt x="13965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83000" y="3554280"/>
            <a:ext cx="27000" cy="142920"/>
          </a:xfrm>
          <a:custGeom>
            <a:avLst/>
            <a:gdLst/>
            <a:ahLst/>
            <a:rect l="l" t="t" r="r" b="b"/>
            <a:pathLst>
              <a:path w="75" h="398">
                <a:moveTo>
                  <a:pt x="9674" y="9872"/>
                </a:moveTo>
                <a:cubicBezTo>
                  <a:pt x="9703" y="10003"/>
                  <a:pt x="9627" y="10363"/>
                  <a:pt x="9723" y="10269"/>
                </a:cubicBezTo>
                <a:cubicBezTo>
                  <a:pt x="9731" y="10244"/>
                  <a:pt x="9740" y="10220"/>
                  <a:pt x="9748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06800" y="2901960"/>
            <a:ext cx="171360" cy="1285920"/>
          </a:xfrm>
          <a:custGeom>
            <a:avLst/>
            <a:gdLst/>
            <a:ahLst/>
            <a:rect l="l" t="t" r="r" b="b"/>
            <a:pathLst>
              <a:path w="472" h="3572">
                <a:moveTo>
                  <a:pt x="8830" y="8086"/>
                </a:moveTo>
                <a:cubicBezTo>
                  <a:pt x="8760" y="8239"/>
                  <a:pt x="8704" y="8321"/>
                  <a:pt x="8657" y="8483"/>
                </a:cubicBezTo>
                <a:cubicBezTo>
                  <a:pt x="8560" y="8819"/>
                  <a:pt x="8920" y="8626"/>
                  <a:pt x="9004" y="8830"/>
                </a:cubicBezTo>
                <a:cubicBezTo>
                  <a:pt x="9094" y="9047"/>
                  <a:pt x="8748" y="9365"/>
                  <a:pt x="8756" y="9599"/>
                </a:cubicBezTo>
                <a:cubicBezTo>
                  <a:pt x="8764" y="9854"/>
                  <a:pt x="9056" y="9915"/>
                  <a:pt x="9029" y="10195"/>
                </a:cubicBezTo>
                <a:cubicBezTo>
                  <a:pt x="9002" y="10478"/>
                  <a:pt x="8793" y="10745"/>
                  <a:pt x="8979" y="11013"/>
                </a:cubicBezTo>
                <a:cubicBezTo>
                  <a:pt x="9132" y="11233"/>
                  <a:pt x="9076" y="11266"/>
                  <a:pt x="9029" y="11534"/>
                </a:cubicBezTo>
                <a:cubicBezTo>
                  <a:pt x="9022" y="11574"/>
                  <a:pt x="9034" y="11568"/>
                  <a:pt x="9029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55920" y="3214800"/>
            <a:ext cx="160200" cy="250560"/>
          </a:xfrm>
          <a:custGeom>
            <a:avLst/>
            <a:gdLst/>
            <a:ahLst/>
            <a:rect l="l" t="t" r="r" b="b"/>
            <a:pathLst>
              <a:path w="448" h="695">
                <a:moveTo>
                  <a:pt x="7020" y="8930"/>
                </a:moveTo>
                <a:cubicBezTo>
                  <a:pt x="6956" y="8951"/>
                  <a:pt x="6873" y="8969"/>
                  <a:pt x="6846" y="9029"/>
                </a:cubicBezTo>
                <a:cubicBezTo>
                  <a:pt x="6821" y="9084"/>
                  <a:pt x="6827" y="9164"/>
                  <a:pt x="6821" y="9227"/>
                </a:cubicBezTo>
                <a:cubicBezTo>
                  <a:pt x="6920" y="9195"/>
                  <a:pt x="7042" y="9120"/>
                  <a:pt x="7144" y="9178"/>
                </a:cubicBezTo>
                <a:cubicBezTo>
                  <a:pt x="7280" y="9255"/>
                  <a:pt x="7324" y="9475"/>
                  <a:pt x="7193" y="9575"/>
                </a:cubicBezTo>
                <a:cubicBezTo>
                  <a:pt x="7079" y="9662"/>
                  <a:pt x="6958" y="9630"/>
                  <a:pt x="6846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59000" y="3268800"/>
            <a:ext cx="162000" cy="204480"/>
          </a:xfrm>
          <a:custGeom>
            <a:avLst/>
            <a:gdLst/>
            <a:ahLst/>
            <a:rect l="l" t="t" r="r" b="b"/>
            <a:pathLst>
              <a:path w="447" h="571">
                <a:moveTo>
                  <a:pt x="6325" y="9178"/>
                </a:moveTo>
                <a:cubicBezTo>
                  <a:pt x="6360" y="9089"/>
                  <a:pt x="6444" y="9041"/>
                  <a:pt x="6548" y="9103"/>
                </a:cubicBezTo>
                <a:cubicBezTo>
                  <a:pt x="6727" y="9209"/>
                  <a:pt x="6714" y="9490"/>
                  <a:pt x="6548" y="9599"/>
                </a:cubicBezTo>
                <a:cubicBezTo>
                  <a:pt x="6414" y="9644"/>
                  <a:pt x="6378" y="9668"/>
                  <a:pt x="6300" y="9599"/>
                </a:cubicBezTo>
                <a:cubicBezTo>
                  <a:pt x="6290" y="9433"/>
                  <a:pt x="6332" y="9366"/>
                  <a:pt x="6524" y="9426"/>
                </a:cubicBezTo>
                <a:cubicBezTo>
                  <a:pt x="6618" y="9455"/>
                  <a:pt x="6623" y="9628"/>
                  <a:pt x="6722" y="9624"/>
                </a:cubicBezTo>
                <a:cubicBezTo>
                  <a:pt x="6722" y="9616"/>
                  <a:pt x="6722" y="9607"/>
                  <a:pt x="6722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16080" y="341136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5928" y="9475"/>
                </a:moveTo>
                <a:cubicBezTo>
                  <a:pt x="5917" y="9545"/>
                  <a:pt x="5881" y="9578"/>
                  <a:pt x="5904" y="9624"/>
                </a:cubicBezTo>
                <a:cubicBezTo>
                  <a:pt x="5980" y="9582"/>
                  <a:pt x="6076" y="9395"/>
                  <a:pt x="5928" y="9475"/>
                </a:cubicBezTo>
                <a:cubicBezTo>
                  <a:pt x="5904" y="9525"/>
                  <a:pt x="5896" y="9541"/>
                  <a:pt x="5953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3240" y="3259080"/>
            <a:ext cx="241560" cy="277920"/>
          </a:xfrm>
          <a:custGeom>
            <a:avLst/>
            <a:gdLst/>
            <a:ahLst/>
            <a:rect l="l" t="t" r="r" b="b"/>
            <a:pathLst>
              <a:path w="670" h="770">
                <a:moveTo>
                  <a:pt x="5259" y="9079"/>
                </a:moveTo>
                <a:cubicBezTo>
                  <a:pt x="5224" y="8973"/>
                  <a:pt x="5105" y="9175"/>
                  <a:pt x="5060" y="9277"/>
                </a:cubicBezTo>
                <a:cubicBezTo>
                  <a:pt x="4977" y="9465"/>
                  <a:pt x="4949" y="9756"/>
                  <a:pt x="5184" y="9823"/>
                </a:cubicBezTo>
                <a:cubicBezTo>
                  <a:pt x="5411" y="9888"/>
                  <a:pt x="5625" y="9644"/>
                  <a:pt x="5680" y="9451"/>
                </a:cubicBezTo>
                <a:cubicBezTo>
                  <a:pt x="5727" y="9287"/>
                  <a:pt x="5569" y="9136"/>
                  <a:pt x="5432" y="9079"/>
                </a:cubicBezTo>
                <a:cubicBezTo>
                  <a:pt x="5270" y="9012"/>
                  <a:pt x="5184" y="9018"/>
                  <a:pt x="5209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65200" y="3340080"/>
            <a:ext cx="204840" cy="27000"/>
          </a:xfrm>
          <a:custGeom>
            <a:avLst/>
            <a:gdLst/>
            <a:ahLst/>
            <a:rect l="l" t="t" r="r" b="b"/>
            <a:pathLst>
              <a:path w="571" h="75">
                <a:moveTo>
                  <a:pt x="4068" y="9351"/>
                </a:moveTo>
                <a:cubicBezTo>
                  <a:pt x="4257" y="9314"/>
                  <a:pt x="4446" y="9287"/>
                  <a:pt x="4638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0760" y="3402000"/>
            <a:ext cx="179280" cy="27000"/>
          </a:xfrm>
          <a:custGeom>
            <a:avLst/>
            <a:gdLst/>
            <a:ahLst/>
            <a:rect l="l" t="t" r="r" b="b"/>
            <a:pathLst>
              <a:path w="497" h="75">
                <a:moveTo>
                  <a:pt x="4142" y="9525"/>
                </a:moveTo>
                <a:cubicBezTo>
                  <a:pt x="4290" y="9504"/>
                  <a:pt x="4483" y="9454"/>
                  <a:pt x="4614" y="9475"/>
                </a:cubicBezTo>
                <a:cubicBezTo>
                  <a:pt x="4622" y="9475"/>
                  <a:pt x="4630" y="9475"/>
                  <a:pt x="4638" y="94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3080" y="3340080"/>
            <a:ext cx="401760" cy="61920"/>
          </a:xfrm>
          <a:custGeom>
            <a:avLst/>
            <a:gdLst/>
            <a:ahLst/>
            <a:rect l="l" t="t" r="r" b="b"/>
            <a:pathLst>
              <a:path w="1117" h="175">
                <a:moveTo>
                  <a:pt x="2704" y="9451"/>
                </a:moveTo>
                <a:cubicBezTo>
                  <a:pt x="3068" y="9393"/>
                  <a:pt x="3431" y="9330"/>
                  <a:pt x="3795" y="9277"/>
                </a:cubicBezTo>
                <a:cubicBezTo>
                  <a:pt x="3820" y="9277"/>
                  <a:pt x="3828" y="9277"/>
                  <a:pt x="3795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27080" y="3062160"/>
            <a:ext cx="179280" cy="25092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2902" y="8607"/>
                </a:moveTo>
                <a:cubicBezTo>
                  <a:pt x="2860" y="8524"/>
                  <a:pt x="3024" y="8488"/>
                  <a:pt x="3101" y="8508"/>
                </a:cubicBezTo>
                <a:cubicBezTo>
                  <a:pt x="3288" y="8557"/>
                  <a:pt x="3172" y="8764"/>
                  <a:pt x="3076" y="8830"/>
                </a:cubicBezTo>
                <a:cubicBezTo>
                  <a:pt x="3068" y="8830"/>
                  <a:pt x="3059" y="8830"/>
                  <a:pt x="3051" y="8830"/>
                </a:cubicBezTo>
                <a:cubicBezTo>
                  <a:pt x="3172" y="8823"/>
                  <a:pt x="3439" y="8847"/>
                  <a:pt x="3324" y="9054"/>
                </a:cubicBezTo>
                <a:cubicBezTo>
                  <a:pt x="3223" y="9236"/>
                  <a:pt x="3012" y="9212"/>
                  <a:pt x="2853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1080" y="3527280"/>
            <a:ext cx="169920" cy="204840"/>
          </a:xfrm>
          <a:custGeom>
            <a:avLst/>
            <a:gdLst/>
            <a:ahLst/>
            <a:rect l="l" t="t" r="r" b="b"/>
            <a:pathLst>
              <a:path w="473" h="571">
                <a:moveTo>
                  <a:pt x="3001" y="9897"/>
                </a:moveTo>
                <a:cubicBezTo>
                  <a:pt x="3151" y="9773"/>
                  <a:pt x="3283" y="9771"/>
                  <a:pt x="3373" y="9996"/>
                </a:cubicBezTo>
                <a:cubicBezTo>
                  <a:pt x="3463" y="10222"/>
                  <a:pt x="3313" y="10411"/>
                  <a:pt x="3076" y="10368"/>
                </a:cubicBezTo>
                <a:cubicBezTo>
                  <a:pt x="3051" y="10352"/>
                  <a:pt x="3026" y="10335"/>
                  <a:pt x="3001" y="10319"/>
                </a:cubicBezTo>
                <a:cubicBezTo>
                  <a:pt x="3038" y="10182"/>
                  <a:pt x="3158" y="10113"/>
                  <a:pt x="3324" y="10145"/>
                </a:cubicBezTo>
                <a:cubicBezTo>
                  <a:pt x="3402" y="10160"/>
                  <a:pt x="3449" y="10208"/>
                  <a:pt x="3473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65160" y="3517920"/>
            <a:ext cx="7920" cy="2142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2679" y="9773"/>
                </a:moveTo>
                <a:cubicBezTo>
                  <a:pt x="2700" y="9957"/>
                  <a:pt x="2704" y="10133"/>
                  <a:pt x="2704" y="10319"/>
                </a:cubicBezTo>
                <a:cubicBezTo>
                  <a:pt x="2704" y="10335"/>
                  <a:pt x="2704" y="10352"/>
                  <a:pt x="2704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2960" y="4599000"/>
            <a:ext cx="438120" cy="741240"/>
          </a:xfrm>
          <a:custGeom>
            <a:avLst/>
            <a:gdLst/>
            <a:ahLst/>
            <a:rect l="l" t="t" r="r" b="b"/>
            <a:pathLst>
              <a:path w="1216" h="2060">
                <a:moveTo>
                  <a:pt x="9203" y="12774"/>
                </a:moveTo>
                <a:cubicBezTo>
                  <a:pt x="9069" y="12868"/>
                  <a:pt x="9006" y="12939"/>
                  <a:pt x="8855" y="12898"/>
                </a:cubicBezTo>
                <a:cubicBezTo>
                  <a:pt x="8800" y="12883"/>
                  <a:pt x="8771" y="13082"/>
                  <a:pt x="8756" y="13122"/>
                </a:cubicBezTo>
                <a:cubicBezTo>
                  <a:pt x="8748" y="13138"/>
                  <a:pt x="8739" y="13155"/>
                  <a:pt x="8731" y="13171"/>
                </a:cubicBezTo>
                <a:cubicBezTo>
                  <a:pt x="8731" y="13179"/>
                  <a:pt x="8731" y="13188"/>
                  <a:pt x="8731" y="13196"/>
                </a:cubicBezTo>
                <a:cubicBezTo>
                  <a:pt x="8861" y="13159"/>
                  <a:pt x="8933" y="13062"/>
                  <a:pt x="9079" y="13122"/>
                </a:cubicBezTo>
                <a:cubicBezTo>
                  <a:pt x="9342" y="13230"/>
                  <a:pt x="9161" y="13543"/>
                  <a:pt x="8979" y="13618"/>
                </a:cubicBezTo>
                <a:cubicBezTo>
                  <a:pt x="8873" y="13662"/>
                  <a:pt x="8767" y="13654"/>
                  <a:pt x="8706" y="13593"/>
                </a:cubicBezTo>
              </a:path>
              <a:path w="1216" h="2060">
                <a:moveTo>
                  <a:pt x="8285" y="14039"/>
                </a:moveTo>
                <a:cubicBezTo>
                  <a:pt x="8671" y="13926"/>
                  <a:pt x="9059" y="13873"/>
                  <a:pt x="9451" y="13791"/>
                </a:cubicBezTo>
                <a:cubicBezTo>
                  <a:pt x="9505" y="13780"/>
                  <a:pt x="9524" y="13775"/>
                  <a:pt x="9475" y="13791"/>
                </a:cubicBezTo>
              </a:path>
              <a:path w="1216" h="2060">
                <a:moveTo>
                  <a:pt x="9103" y="14139"/>
                </a:moveTo>
                <a:cubicBezTo>
                  <a:pt x="8871" y="14166"/>
                  <a:pt x="8764" y="14217"/>
                  <a:pt x="8607" y="14387"/>
                </a:cubicBezTo>
                <a:cubicBezTo>
                  <a:pt x="8723" y="14433"/>
                  <a:pt x="9211" y="14509"/>
                  <a:pt x="9103" y="14734"/>
                </a:cubicBezTo>
                <a:cubicBezTo>
                  <a:pt x="8969" y="14823"/>
                  <a:pt x="8938" y="14856"/>
                  <a:pt x="8830" y="14833"/>
                </a:cubicBezTo>
                <a:cubicBezTo>
                  <a:pt x="8794" y="14601"/>
                  <a:pt x="8912" y="14422"/>
                  <a:pt x="9054" y="14213"/>
                </a:cubicBezTo>
                <a:cubicBezTo>
                  <a:pt x="9077" y="14190"/>
                  <a:pt x="9088" y="14182"/>
                  <a:pt x="9054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91120" y="4456080"/>
            <a:ext cx="233640" cy="741240"/>
          </a:xfrm>
          <a:custGeom>
            <a:avLst/>
            <a:gdLst/>
            <a:ahLst/>
            <a:rect l="l" t="t" r="r" b="b"/>
            <a:pathLst>
              <a:path w="646" h="2059">
                <a:moveTo>
                  <a:pt x="16991" y="12378"/>
                </a:moveTo>
                <a:cubicBezTo>
                  <a:pt x="16904" y="12464"/>
                  <a:pt x="16781" y="12481"/>
                  <a:pt x="16694" y="12551"/>
                </a:cubicBezTo>
                <a:cubicBezTo>
                  <a:pt x="16634" y="12600"/>
                  <a:pt x="16651" y="12843"/>
                  <a:pt x="16644" y="12923"/>
                </a:cubicBezTo>
                <a:cubicBezTo>
                  <a:pt x="16740" y="12876"/>
                  <a:pt x="16838" y="12740"/>
                  <a:pt x="16991" y="12799"/>
                </a:cubicBezTo>
                <a:cubicBezTo>
                  <a:pt x="17277" y="12909"/>
                  <a:pt x="16935" y="13255"/>
                  <a:pt x="16768" y="13271"/>
                </a:cubicBezTo>
                <a:cubicBezTo>
                  <a:pt x="16727" y="13254"/>
                  <a:pt x="16685" y="13238"/>
                  <a:pt x="16644" y="13221"/>
                </a:cubicBezTo>
              </a:path>
              <a:path w="646" h="2059">
                <a:moveTo>
                  <a:pt x="16669" y="13469"/>
                </a:moveTo>
                <a:cubicBezTo>
                  <a:pt x="16772" y="13444"/>
                  <a:pt x="17237" y="13348"/>
                  <a:pt x="17264" y="13320"/>
                </a:cubicBezTo>
              </a:path>
              <a:path w="646" h="2059">
                <a:moveTo>
                  <a:pt x="17090" y="13767"/>
                </a:moveTo>
                <a:cubicBezTo>
                  <a:pt x="17007" y="13781"/>
                  <a:pt x="16672" y="13859"/>
                  <a:pt x="16718" y="14015"/>
                </a:cubicBezTo>
                <a:cubicBezTo>
                  <a:pt x="16766" y="14178"/>
                  <a:pt x="17074" y="14150"/>
                  <a:pt x="17140" y="14362"/>
                </a:cubicBezTo>
                <a:cubicBezTo>
                  <a:pt x="16989" y="14437"/>
                  <a:pt x="16937" y="14462"/>
                  <a:pt x="16818" y="14436"/>
                </a:cubicBezTo>
                <a:cubicBezTo>
                  <a:pt x="16818" y="14168"/>
                  <a:pt x="16962" y="14101"/>
                  <a:pt x="17041" y="13866"/>
                </a:cubicBezTo>
                <a:cubicBezTo>
                  <a:pt x="17042" y="13862"/>
                  <a:pt x="16951" y="13881"/>
                  <a:pt x="16991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4960" y="4786200"/>
            <a:ext cx="8892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17735" y="13370"/>
                </a:moveTo>
                <a:cubicBezTo>
                  <a:pt x="17841" y="13326"/>
                  <a:pt x="18060" y="13204"/>
                  <a:pt x="17909" y="13395"/>
                </a:cubicBezTo>
              </a:path>
              <a:path w="249" h="299">
                <a:moveTo>
                  <a:pt x="17785" y="13593"/>
                </a:moveTo>
                <a:cubicBezTo>
                  <a:pt x="17843" y="13576"/>
                  <a:pt x="17901" y="13560"/>
                  <a:pt x="17959" y="13543"/>
                </a:cubicBezTo>
              </a:path>
              <a:path w="249" h="299">
                <a:moveTo>
                  <a:pt x="17959" y="13543"/>
                </a:moveTo>
                <a:lnTo>
                  <a:pt x="17959" y="1354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61080" y="4606920"/>
            <a:ext cx="312840" cy="31428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18802" y="12824"/>
                </a:moveTo>
                <a:cubicBezTo>
                  <a:pt x="18589" y="12841"/>
                  <a:pt x="18536" y="13185"/>
                  <a:pt x="18504" y="13395"/>
                </a:cubicBezTo>
                <a:cubicBezTo>
                  <a:pt x="18504" y="13453"/>
                  <a:pt x="18504" y="13510"/>
                  <a:pt x="18504" y="13568"/>
                </a:cubicBezTo>
                <a:cubicBezTo>
                  <a:pt x="18737" y="13705"/>
                  <a:pt x="18979" y="13575"/>
                  <a:pt x="19025" y="13246"/>
                </a:cubicBezTo>
                <a:cubicBezTo>
                  <a:pt x="19035" y="13172"/>
                  <a:pt x="18915" y="12731"/>
                  <a:pt x="18728" y="12849"/>
                </a:cubicBezTo>
                <a:cubicBezTo>
                  <a:pt x="18728" y="12865"/>
                  <a:pt x="18728" y="12882"/>
                  <a:pt x="18728" y="12898"/>
                </a:cubicBezTo>
              </a:path>
              <a:path w="869" h="869">
                <a:moveTo>
                  <a:pt x="19323" y="13419"/>
                </a:moveTo>
                <a:cubicBezTo>
                  <a:pt x="19286" y="13493"/>
                  <a:pt x="19269" y="13497"/>
                  <a:pt x="19273" y="13543"/>
                </a:cubicBezTo>
                <a:cubicBezTo>
                  <a:pt x="19389" y="13505"/>
                  <a:pt x="19398" y="13470"/>
                  <a:pt x="19323" y="13395"/>
                </a:cubicBezTo>
                <a:cubicBezTo>
                  <a:pt x="19315" y="13387"/>
                  <a:pt x="19306" y="13378"/>
                  <a:pt x="19298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43840" y="4438800"/>
            <a:ext cx="625320" cy="392040"/>
          </a:xfrm>
          <a:custGeom>
            <a:avLst/>
            <a:gdLst/>
            <a:ahLst/>
            <a:rect l="l" t="t" r="r" b="b"/>
            <a:pathLst>
              <a:path w="1737" h="1092">
                <a:moveTo>
                  <a:pt x="19893" y="12675"/>
                </a:moveTo>
                <a:cubicBezTo>
                  <a:pt x="19893" y="12636"/>
                  <a:pt x="19846" y="13011"/>
                  <a:pt x="19844" y="13047"/>
                </a:cubicBezTo>
                <a:cubicBezTo>
                  <a:pt x="19833" y="13226"/>
                  <a:pt x="19842" y="13298"/>
                  <a:pt x="19943" y="13419"/>
                </a:cubicBezTo>
                <a:cubicBezTo>
                  <a:pt x="20140" y="13311"/>
                  <a:pt x="20232" y="13255"/>
                  <a:pt x="20216" y="13022"/>
                </a:cubicBezTo>
                <a:cubicBezTo>
                  <a:pt x="20057" y="13052"/>
                  <a:pt x="19840" y="13205"/>
                  <a:pt x="19943" y="13419"/>
                </a:cubicBezTo>
                <a:cubicBezTo>
                  <a:pt x="19968" y="13419"/>
                  <a:pt x="19992" y="13419"/>
                  <a:pt x="20017" y="13419"/>
                </a:cubicBezTo>
              </a:path>
              <a:path w="1737" h="1092">
                <a:moveTo>
                  <a:pt x="20489" y="12675"/>
                </a:moveTo>
                <a:cubicBezTo>
                  <a:pt x="20513" y="12615"/>
                  <a:pt x="20625" y="12473"/>
                  <a:pt x="20712" y="12526"/>
                </a:cubicBezTo>
                <a:cubicBezTo>
                  <a:pt x="20942" y="12667"/>
                  <a:pt x="20768" y="13032"/>
                  <a:pt x="20613" y="13146"/>
                </a:cubicBezTo>
                <a:cubicBezTo>
                  <a:pt x="20524" y="13168"/>
                  <a:pt x="20499" y="13185"/>
                  <a:pt x="20464" y="13122"/>
                </a:cubicBezTo>
                <a:cubicBezTo>
                  <a:pt x="20533" y="13006"/>
                  <a:pt x="20650" y="12974"/>
                  <a:pt x="20786" y="13072"/>
                </a:cubicBezTo>
                <a:cubicBezTo>
                  <a:pt x="20859" y="13125"/>
                  <a:pt x="20843" y="13168"/>
                  <a:pt x="20811" y="13221"/>
                </a:cubicBezTo>
              </a:path>
              <a:path w="1737" h="1092">
                <a:moveTo>
                  <a:pt x="21208" y="12328"/>
                </a:moveTo>
                <a:cubicBezTo>
                  <a:pt x="21163" y="12358"/>
                  <a:pt x="21039" y="12411"/>
                  <a:pt x="21034" y="12452"/>
                </a:cubicBezTo>
                <a:cubicBezTo>
                  <a:pt x="21024" y="12532"/>
                  <a:pt x="21034" y="12619"/>
                  <a:pt x="21034" y="12700"/>
                </a:cubicBezTo>
                <a:cubicBezTo>
                  <a:pt x="21153" y="12624"/>
                  <a:pt x="21353" y="12467"/>
                  <a:pt x="21506" y="12576"/>
                </a:cubicBezTo>
                <a:cubicBezTo>
                  <a:pt x="21771" y="12765"/>
                  <a:pt x="21375" y="12993"/>
                  <a:pt x="21233" y="13022"/>
                </a:cubicBezTo>
                <a:cubicBezTo>
                  <a:pt x="21132" y="13022"/>
                  <a:pt x="21101" y="13042"/>
                  <a:pt x="21084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67360" y="2428920"/>
            <a:ext cx="17784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19075" y="6945"/>
                </a:moveTo>
                <a:cubicBezTo>
                  <a:pt x="19075" y="6904"/>
                  <a:pt x="19091" y="6850"/>
                  <a:pt x="19124" y="6821"/>
                </a:cubicBezTo>
                <a:cubicBezTo>
                  <a:pt x="19169" y="6782"/>
                  <a:pt x="19267" y="6758"/>
                  <a:pt x="19323" y="6747"/>
                </a:cubicBezTo>
                <a:cubicBezTo>
                  <a:pt x="19365" y="6738"/>
                  <a:pt x="19399" y="6760"/>
                  <a:pt x="19422" y="6796"/>
                </a:cubicBezTo>
                <a:cubicBezTo>
                  <a:pt x="19473" y="6875"/>
                  <a:pt x="19400" y="6959"/>
                  <a:pt x="19348" y="7020"/>
                </a:cubicBezTo>
                <a:cubicBezTo>
                  <a:pt x="19287" y="7091"/>
                  <a:pt x="19196" y="7131"/>
                  <a:pt x="19149" y="7218"/>
                </a:cubicBezTo>
                <a:cubicBezTo>
                  <a:pt x="19129" y="7279"/>
                  <a:pt x="19131" y="7293"/>
                  <a:pt x="19100" y="7317"/>
                </a:cubicBezTo>
                <a:cubicBezTo>
                  <a:pt x="19100" y="7374"/>
                  <a:pt x="19106" y="7258"/>
                  <a:pt x="19149" y="7243"/>
                </a:cubicBezTo>
                <a:cubicBezTo>
                  <a:pt x="19213" y="7220"/>
                  <a:pt x="19222" y="7230"/>
                  <a:pt x="19248" y="7243"/>
                </a:cubicBezTo>
                <a:cubicBezTo>
                  <a:pt x="19287" y="7263"/>
                  <a:pt x="19337" y="7286"/>
                  <a:pt x="19372" y="7317"/>
                </a:cubicBezTo>
                <a:cubicBezTo>
                  <a:pt x="19409" y="7350"/>
                  <a:pt x="19481" y="7342"/>
                  <a:pt x="19521" y="7317"/>
                </a:cubicBezTo>
                <a:cubicBezTo>
                  <a:pt x="19538" y="7301"/>
                  <a:pt x="19554" y="7284"/>
                  <a:pt x="19571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69120" y="1982880"/>
            <a:ext cx="214200" cy="258840"/>
          </a:xfrm>
          <a:custGeom>
            <a:avLst/>
            <a:gdLst/>
            <a:ahLst/>
            <a:rect l="l" t="t" r="r" b="b"/>
            <a:pathLst>
              <a:path w="596" h="720">
                <a:moveTo>
                  <a:pt x="20389" y="5606"/>
                </a:moveTo>
                <a:cubicBezTo>
                  <a:pt x="20394" y="5620"/>
                  <a:pt x="20327" y="5751"/>
                  <a:pt x="20290" y="5804"/>
                </a:cubicBezTo>
                <a:cubicBezTo>
                  <a:pt x="20248" y="5864"/>
                  <a:pt x="20248" y="5958"/>
                  <a:pt x="20216" y="6003"/>
                </a:cubicBezTo>
                <a:cubicBezTo>
                  <a:pt x="20214" y="6006"/>
                  <a:pt x="20196" y="6067"/>
                  <a:pt x="20216" y="6102"/>
                </a:cubicBezTo>
                <a:cubicBezTo>
                  <a:pt x="20232" y="6131"/>
                  <a:pt x="20288" y="6149"/>
                  <a:pt x="20315" y="6176"/>
                </a:cubicBezTo>
                <a:cubicBezTo>
                  <a:pt x="20341" y="6201"/>
                  <a:pt x="20405" y="6222"/>
                  <a:pt x="20439" y="6226"/>
                </a:cubicBezTo>
                <a:cubicBezTo>
                  <a:pt x="20490" y="6232"/>
                  <a:pt x="20544" y="6230"/>
                  <a:pt x="20588" y="6201"/>
                </a:cubicBezTo>
                <a:cubicBezTo>
                  <a:pt x="20636" y="6169"/>
                  <a:pt x="20654" y="6143"/>
                  <a:pt x="20687" y="6102"/>
                </a:cubicBezTo>
                <a:cubicBezTo>
                  <a:pt x="20724" y="6056"/>
                  <a:pt x="20741" y="6032"/>
                  <a:pt x="20762" y="5978"/>
                </a:cubicBezTo>
                <a:cubicBezTo>
                  <a:pt x="20782" y="5926"/>
                  <a:pt x="20808" y="5836"/>
                  <a:pt x="20786" y="5779"/>
                </a:cubicBezTo>
                <a:cubicBezTo>
                  <a:pt x="20773" y="5745"/>
                  <a:pt x="20736" y="5687"/>
                  <a:pt x="20712" y="5655"/>
                </a:cubicBezTo>
                <a:cubicBezTo>
                  <a:pt x="20683" y="5617"/>
                  <a:pt x="20644" y="5602"/>
                  <a:pt x="20613" y="5581"/>
                </a:cubicBezTo>
                <a:cubicBezTo>
                  <a:pt x="20565" y="5549"/>
                  <a:pt x="20575" y="5561"/>
                  <a:pt x="20538" y="5507"/>
                </a:cubicBezTo>
                <a:cubicBezTo>
                  <a:pt x="20489" y="5516"/>
                  <a:pt x="20454" y="5543"/>
                  <a:pt x="20414" y="5556"/>
                </a:cubicBezTo>
                <a:cubicBezTo>
                  <a:pt x="20389" y="5564"/>
                  <a:pt x="20346" y="5594"/>
                  <a:pt x="20340" y="5606"/>
                </a:cubicBezTo>
                <a:cubicBezTo>
                  <a:pt x="20333" y="5620"/>
                  <a:pt x="20340" y="5664"/>
                  <a:pt x="20340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10320" y="2571840"/>
            <a:ext cx="4464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20910" y="7144"/>
                </a:moveTo>
                <a:cubicBezTo>
                  <a:pt x="20948" y="7144"/>
                  <a:pt x="20892" y="7179"/>
                  <a:pt x="20861" y="7218"/>
                </a:cubicBezTo>
                <a:cubicBezTo>
                  <a:pt x="20897" y="7218"/>
                  <a:pt x="20970" y="7161"/>
                  <a:pt x="20935" y="7169"/>
                </a:cubicBezTo>
                <a:cubicBezTo>
                  <a:pt x="20870" y="7184"/>
                  <a:pt x="20900" y="7257"/>
                  <a:pt x="20935" y="7218"/>
                </a:cubicBezTo>
                <a:cubicBezTo>
                  <a:pt x="21029" y="7115"/>
                  <a:pt x="20876" y="7185"/>
                  <a:pt x="20910" y="7218"/>
                </a:cubicBezTo>
                <a:cubicBezTo>
                  <a:pt x="20950" y="7218"/>
                  <a:pt x="20969" y="7207"/>
                  <a:pt x="20985" y="7169"/>
                </a:cubicBezTo>
                <a:cubicBezTo>
                  <a:pt x="20965" y="7174"/>
                  <a:pt x="20879" y="7193"/>
                  <a:pt x="20935" y="7193"/>
                </a:cubicBezTo>
                <a:cubicBezTo>
                  <a:pt x="20968" y="7193"/>
                  <a:pt x="20906" y="7179"/>
                  <a:pt x="20935" y="7193"/>
                </a:cubicBezTo>
                <a:cubicBezTo>
                  <a:pt x="20963" y="7193"/>
                  <a:pt x="20974" y="7191"/>
                  <a:pt x="20985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27960" y="2205000"/>
            <a:ext cx="27000" cy="36720"/>
          </a:xfrm>
          <a:custGeom>
            <a:avLst/>
            <a:gdLst/>
            <a:ahLst/>
            <a:rect l="l" t="t" r="r" b="b"/>
            <a:pathLst>
              <a:path w="76" h="100">
                <a:moveTo>
                  <a:pt x="20985" y="6201"/>
                </a:moveTo>
                <a:cubicBezTo>
                  <a:pt x="20985" y="6131"/>
                  <a:pt x="20981" y="6166"/>
                  <a:pt x="20960" y="6176"/>
                </a:cubicBezTo>
                <a:cubicBezTo>
                  <a:pt x="20908" y="6201"/>
                  <a:pt x="21004" y="6048"/>
                  <a:pt x="20935" y="6176"/>
                </a:cubicBezTo>
                <a:cubicBezTo>
                  <a:pt x="20913" y="6220"/>
                  <a:pt x="20900" y="6241"/>
                  <a:pt x="20935" y="6201"/>
                </a:cubicBezTo>
                <a:cubicBezTo>
                  <a:pt x="20969" y="6123"/>
                  <a:pt x="20970" y="6124"/>
                  <a:pt x="20935" y="6176"/>
                </a:cubicBezTo>
                <a:cubicBezTo>
                  <a:pt x="20911" y="6212"/>
                  <a:pt x="21017" y="6123"/>
                  <a:pt x="20985" y="6152"/>
                </a:cubicBezTo>
                <a:cubicBezTo>
                  <a:pt x="20977" y="6160"/>
                  <a:pt x="20968" y="6168"/>
                  <a:pt x="20960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08960" y="2357280"/>
            <a:ext cx="214200" cy="258840"/>
          </a:xfrm>
          <a:custGeom>
            <a:avLst/>
            <a:gdLst/>
            <a:ahLst/>
            <a:rect l="l" t="t" r="r" b="b"/>
            <a:pathLst>
              <a:path w="596" h="721">
                <a:moveTo>
                  <a:pt x="21431" y="6598"/>
                </a:moveTo>
                <a:cubicBezTo>
                  <a:pt x="21420" y="6565"/>
                  <a:pt x="21386" y="6557"/>
                  <a:pt x="21357" y="6598"/>
                </a:cubicBezTo>
                <a:cubicBezTo>
                  <a:pt x="21321" y="6651"/>
                  <a:pt x="21299" y="6688"/>
                  <a:pt x="21258" y="6747"/>
                </a:cubicBezTo>
                <a:cubicBezTo>
                  <a:pt x="21224" y="6797"/>
                  <a:pt x="21205" y="6842"/>
                  <a:pt x="21183" y="6896"/>
                </a:cubicBezTo>
                <a:cubicBezTo>
                  <a:pt x="21154" y="6968"/>
                  <a:pt x="21134" y="7017"/>
                  <a:pt x="21134" y="7094"/>
                </a:cubicBezTo>
                <a:cubicBezTo>
                  <a:pt x="21134" y="7154"/>
                  <a:pt x="21162" y="7145"/>
                  <a:pt x="21183" y="7193"/>
                </a:cubicBezTo>
                <a:cubicBezTo>
                  <a:pt x="21203" y="7239"/>
                  <a:pt x="21269" y="7259"/>
                  <a:pt x="21332" y="7268"/>
                </a:cubicBezTo>
                <a:cubicBezTo>
                  <a:pt x="21396" y="7277"/>
                  <a:pt x="21445" y="7248"/>
                  <a:pt x="21506" y="7243"/>
                </a:cubicBezTo>
                <a:cubicBezTo>
                  <a:pt x="21547" y="7240"/>
                  <a:pt x="21607" y="7177"/>
                  <a:pt x="21630" y="7144"/>
                </a:cubicBezTo>
                <a:cubicBezTo>
                  <a:pt x="21659" y="7102"/>
                  <a:pt x="21701" y="7046"/>
                  <a:pt x="21704" y="6995"/>
                </a:cubicBezTo>
                <a:cubicBezTo>
                  <a:pt x="21707" y="6957"/>
                  <a:pt x="21749" y="6882"/>
                  <a:pt x="21729" y="6846"/>
                </a:cubicBezTo>
                <a:cubicBezTo>
                  <a:pt x="21709" y="6810"/>
                  <a:pt x="21699" y="6742"/>
                  <a:pt x="21679" y="6722"/>
                </a:cubicBezTo>
                <a:cubicBezTo>
                  <a:pt x="21660" y="6703"/>
                  <a:pt x="21651" y="6679"/>
                  <a:pt x="21630" y="6648"/>
                </a:cubicBezTo>
                <a:cubicBezTo>
                  <a:pt x="21607" y="6614"/>
                  <a:pt x="21568" y="6577"/>
                  <a:pt x="21530" y="6573"/>
                </a:cubicBezTo>
                <a:cubicBezTo>
                  <a:pt x="21499" y="6569"/>
                  <a:pt x="21486" y="6556"/>
                  <a:pt x="21456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27920" y="2901960"/>
            <a:ext cx="696960" cy="108000"/>
          </a:xfrm>
          <a:custGeom>
            <a:avLst/>
            <a:gdLst/>
            <a:ahLst/>
            <a:rect l="l" t="t" r="r" b="b"/>
            <a:pathLst>
              <a:path w="1936" h="298">
                <a:moveTo>
                  <a:pt x="19521" y="8359"/>
                </a:moveTo>
                <a:cubicBezTo>
                  <a:pt x="19895" y="8266"/>
                  <a:pt x="20280" y="8271"/>
                  <a:pt x="20662" y="8210"/>
                </a:cubicBezTo>
                <a:cubicBezTo>
                  <a:pt x="20927" y="8168"/>
                  <a:pt x="21192" y="8107"/>
                  <a:pt x="21456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division problem keeps going and going and go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ar n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5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76960" y="5537160"/>
            <a:ext cx="669960" cy="330120"/>
          </a:xfrm>
          <a:custGeom>
            <a:avLst/>
            <a:gdLst/>
            <a:ahLst/>
            <a:rect l="l" t="t" r="r" b="b"/>
            <a:pathLst>
              <a:path w="1861" h="919">
                <a:moveTo>
                  <a:pt x="18405" y="15453"/>
                </a:moveTo>
                <a:cubicBezTo>
                  <a:pt x="18333" y="15597"/>
                  <a:pt x="18309" y="15642"/>
                  <a:pt x="18306" y="15751"/>
                </a:cubicBezTo>
                <a:cubicBezTo>
                  <a:pt x="18461" y="15779"/>
                  <a:pt x="18811" y="15790"/>
                  <a:pt x="18728" y="15503"/>
                </a:cubicBezTo>
                <a:cubicBezTo>
                  <a:pt x="18635" y="15411"/>
                  <a:pt x="18586" y="15380"/>
                  <a:pt x="18479" y="15379"/>
                </a:cubicBezTo>
              </a:path>
              <a:path w="1861" h="919">
                <a:moveTo>
                  <a:pt x="18926" y="15825"/>
                </a:moveTo>
                <a:cubicBezTo>
                  <a:pt x="18870" y="16057"/>
                  <a:pt x="18840" y="16303"/>
                  <a:pt x="19174" y="16123"/>
                </a:cubicBezTo>
                <a:cubicBezTo>
                  <a:pt x="19638" y="15873"/>
                  <a:pt x="18957" y="15907"/>
                  <a:pt x="18852" y="15925"/>
                </a:cubicBezTo>
              </a:path>
              <a:path w="1861" h="919">
                <a:moveTo>
                  <a:pt x="17438" y="16297"/>
                </a:moveTo>
                <a:cubicBezTo>
                  <a:pt x="17652" y="16273"/>
                  <a:pt x="17718" y="16265"/>
                  <a:pt x="17859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54840" y="3286080"/>
            <a:ext cx="1152360" cy="3009960"/>
          </a:xfrm>
          <a:custGeom>
            <a:avLst/>
            <a:gdLst/>
            <a:ahLst/>
            <a:rect l="l" t="t" r="r" b="b"/>
            <a:pathLst>
              <a:path w="3200" h="8360">
                <a:moveTo>
                  <a:pt x="16991" y="10319"/>
                </a:moveTo>
                <a:cubicBezTo>
                  <a:pt x="16949" y="10425"/>
                  <a:pt x="16873" y="10489"/>
                  <a:pt x="16842" y="10616"/>
                </a:cubicBezTo>
                <a:cubicBezTo>
                  <a:pt x="16820" y="10731"/>
                  <a:pt x="16812" y="10764"/>
                  <a:pt x="16818" y="10840"/>
                </a:cubicBezTo>
                <a:cubicBezTo>
                  <a:pt x="16954" y="10853"/>
                  <a:pt x="17094" y="10755"/>
                  <a:pt x="17115" y="10592"/>
                </a:cubicBezTo>
                <a:cubicBezTo>
                  <a:pt x="17119" y="10562"/>
                  <a:pt x="17070" y="10387"/>
                  <a:pt x="17041" y="10368"/>
                </a:cubicBezTo>
                <a:cubicBezTo>
                  <a:pt x="17033" y="10368"/>
                  <a:pt x="17024" y="10368"/>
                  <a:pt x="17016" y="10368"/>
                </a:cubicBezTo>
              </a:path>
              <a:path w="3200" h="8360">
                <a:moveTo>
                  <a:pt x="16818" y="9351"/>
                </a:moveTo>
                <a:cubicBezTo>
                  <a:pt x="16818" y="9327"/>
                  <a:pt x="16818" y="9318"/>
                  <a:pt x="16818" y="9302"/>
                </a:cubicBezTo>
                <a:cubicBezTo>
                  <a:pt x="16879" y="9323"/>
                  <a:pt x="16838" y="9604"/>
                  <a:pt x="16842" y="9649"/>
                </a:cubicBezTo>
                <a:cubicBezTo>
                  <a:pt x="16845" y="9689"/>
                  <a:pt x="16850" y="9883"/>
                  <a:pt x="16892" y="9897"/>
                </a:cubicBezTo>
              </a:path>
              <a:path w="3200" h="8360">
                <a:moveTo>
                  <a:pt x="17611" y="10294"/>
                </a:moveTo>
                <a:cubicBezTo>
                  <a:pt x="17611" y="10385"/>
                  <a:pt x="17513" y="10442"/>
                  <a:pt x="17462" y="10517"/>
                </a:cubicBezTo>
                <a:cubicBezTo>
                  <a:pt x="17396" y="10628"/>
                  <a:pt x="17371" y="10654"/>
                  <a:pt x="17388" y="10740"/>
                </a:cubicBezTo>
                <a:cubicBezTo>
                  <a:pt x="17525" y="10853"/>
                  <a:pt x="17710" y="10830"/>
                  <a:pt x="17785" y="10616"/>
                </a:cubicBezTo>
                <a:cubicBezTo>
                  <a:pt x="17854" y="10416"/>
                  <a:pt x="17688" y="10401"/>
                  <a:pt x="17562" y="10418"/>
                </a:cubicBezTo>
              </a:path>
              <a:path w="3200" h="8360">
                <a:moveTo>
                  <a:pt x="17462" y="10914"/>
                </a:moveTo>
                <a:cubicBezTo>
                  <a:pt x="17462" y="10802"/>
                  <a:pt x="17508" y="11075"/>
                  <a:pt x="17512" y="11187"/>
                </a:cubicBezTo>
                <a:cubicBezTo>
                  <a:pt x="17517" y="11327"/>
                  <a:pt x="17510" y="11449"/>
                  <a:pt x="17537" y="11584"/>
                </a:cubicBezTo>
              </a:path>
              <a:path w="3200" h="8360">
                <a:moveTo>
                  <a:pt x="17537" y="11881"/>
                </a:moveTo>
                <a:cubicBezTo>
                  <a:pt x="17521" y="11819"/>
                  <a:pt x="17495" y="11824"/>
                  <a:pt x="17438" y="11857"/>
                </a:cubicBezTo>
                <a:cubicBezTo>
                  <a:pt x="17310" y="11932"/>
                  <a:pt x="17312" y="12072"/>
                  <a:pt x="17338" y="12204"/>
                </a:cubicBezTo>
                <a:cubicBezTo>
                  <a:pt x="17368" y="12359"/>
                  <a:pt x="17443" y="12355"/>
                  <a:pt x="17587" y="12303"/>
                </a:cubicBezTo>
                <a:cubicBezTo>
                  <a:pt x="17723" y="12254"/>
                  <a:pt x="17806" y="12154"/>
                  <a:pt x="17785" y="12005"/>
                </a:cubicBezTo>
                <a:cubicBezTo>
                  <a:pt x="17772" y="11913"/>
                  <a:pt x="17657" y="11831"/>
                  <a:pt x="17562" y="11857"/>
                </a:cubicBezTo>
                <a:cubicBezTo>
                  <a:pt x="17554" y="11865"/>
                  <a:pt x="17545" y="11873"/>
                  <a:pt x="17537" y="11881"/>
                </a:cubicBezTo>
              </a:path>
              <a:path w="3200" h="8360">
                <a:moveTo>
                  <a:pt x="17363" y="9252"/>
                </a:moveTo>
                <a:cubicBezTo>
                  <a:pt x="17363" y="9244"/>
                  <a:pt x="17363" y="9235"/>
                  <a:pt x="17363" y="9227"/>
                </a:cubicBezTo>
                <a:cubicBezTo>
                  <a:pt x="17393" y="9332"/>
                  <a:pt x="17325" y="9472"/>
                  <a:pt x="17338" y="9599"/>
                </a:cubicBezTo>
                <a:cubicBezTo>
                  <a:pt x="17342" y="9636"/>
                  <a:pt x="17357" y="9819"/>
                  <a:pt x="17388" y="9847"/>
                </a:cubicBezTo>
                <a:cubicBezTo>
                  <a:pt x="17436" y="9890"/>
                  <a:pt x="17548" y="9913"/>
                  <a:pt x="17611" y="9897"/>
                </a:cubicBezTo>
                <a:cubicBezTo>
                  <a:pt x="17682" y="9879"/>
                  <a:pt x="17697" y="9842"/>
                  <a:pt x="17735" y="9798"/>
                </a:cubicBezTo>
                <a:cubicBezTo>
                  <a:pt x="17758" y="9775"/>
                  <a:pt x="17766" y="9771"/>
                  <a:pt x="17760" y="9748"/>
                </a:cubicBezTo>
                <a:cubicBezTo>
                  <a:pt x="17720" y="9735"/>
                  <a:pt x="17704" y="9704"/>
                  <a:pt x="17636" y="9699"/>
                </a:cubicBezTo>
                <a:cubicBezTo>
                  <a:pt x="17546" y="9692"/>
                  <a:pt x="17525" y="9802"/>
                  <a:pt x="17512" y="9872"/>
                </a:cubicBezTo>
                <a:cubicBezTo>
                  <a:pt x="17512" y="9914"/>
                  <a:pt x="17512" y="9922"/>
                  <a:pt x="17512" y="9947"/>
                </a:cubicBezTo>
              </a:path>
              <a:path w="3200" h="8360">
                <a:moveTo>
                  <a:pt x="18852" y="10592"/>
                </a:moveTo>
                <a:cubicBezTo>
                  <a:pt x="18691" y="10505"/>
                  <a:pt x="18581" y="10568"/>
                  <a:pt x="18604" y="10815"/>
                </a:cubicBezTo>
                <a:cubicBezTo>
                  <a:pt x="18637" y="11162"/>
                  <a:pt x="19021" y="11036"/>
                  <a:pt x="19050" y="10765"/>
                </a:cubicBezTo>
                <a:cubicBezTo>
                  <a:pt x="19074" y="10543"/>
                  <a:pt x="18926" y="10603"/>
                  <a:pt x="18827" y="10641"/>
                </a:cubicBezTo>
              </a:path>
              <a:path w="3200" h="8360">
                <a:moveTo>
                  <a:pt x="18976" y="11162"/>
                </a:moveTo>
                <a:cubicBezTo>
                  <a:pt x="18976" y="11783"/>
                  <a:pt x="18983" y="12402"/>
                  <a:pt x="19000" y="13022"/>
                </a:cubicBezTo>
                <a:cubicBezTo>
                  <a:pt x="19009" y="13362"/>
                  <a:pt x="19025" y="13699"/>
                  <a:pt x="19025" y="14039"/>
                </a:cubicBezTo>
                <a:cubicBezTo>
                  <a:pt x="19025" y="14216"/>
                  <a:pt x="18998" y="14463"/>
                  <a:pt x="19050" y="14635"/>
                </a:cubicBezTo>
                <a:cubicBezTo>
                  <a:pt x="19050" y="14663"/>
                  <a:pt x="19052" y="14669"/>
                  <a:pt x="19075" y="14635"/>
                </a:cubicBezTo>
              </a:path>
              <a:path w="3200" h="8360">
                <a:moveTo>
                  <a:pt x="19124" y="15180"/>
                </a:moveTo>
                <a:cubicBezTo>
                  <a:pt x="18984" y="15331"/>
                  <a:pt x="18992" y="15363"/>
                  <a:pt x="18976" y="15577"/>
                </a:cubicBezTo>
                <a:cubicBezTo>
                  <a:pt x="19154" y="15655"/>
                  <a:pt x="19460" y="15588"/>
                  <a:pt x="19397" y="15280"/>
                </a:cubicBezTo>
                <a:cubicBezTo>
                  <a:pt x="19282" y="15136"/>
                  <a:pt x="19225" y="15087"/>
                  <a:pt x="19075" y="15081"/>
                </a:cubicBezTo>
              </a:path>
              <a:path w="3200" h="8360">
                <a:moveTo>
                  <a:pt x="18752" y="9153"/>
                </a:moveTo>
                <a:cubicBezTo>
                  <a:pt x="18714" y="9073"/>
                  <a:pt x="18687" y="9263"/>
                  <a:pt x="18678" y="9351"/>
                </a:cubicBezTo>
                <a:cubicBezTo>
                  <a:pt x="18666" y="9471"/>
                  <a:pt x="18737" y="9912"/>
                  <a:pt x="18976" y="9723"/>
                </a:cubicBezTo>
                <a:cubicBezTo>
                  <a:pt x="19070" y="9582"/>
                  <a:pt x="19102" y="9542"/>
                  <a:pt x="19100" y="9426"/>
                </a:cubicBezTo>
                <a:cubicBezTo>
                  <a:pt x="19092" y="9418"/>
                  <a:pt x="19083" y="9409"/>
                  <a:pt x="19075" y="9401"/>
                </a:cubicBezTo>
                <a:cubicBezTo>
                  <a:pt x="18937" y="9513"/>
                  <a:pt x="18728" y="9748"/>
                  <a:pt x="18901" y="9947"/>
                </a:cubicBezTo>
                <a:cubicBezTo>
                  <a:pt x="18926" y="9947"/>
                  <a:pt x="18951" y="9947"/>
                  <a:pt x="18976" y="9947"/>
                </a:cubicBezTo>
              </a:path>
              <a:path w="3200" h="8360">
                <a:moveTo>
                  <a:pt x="17959" y="15726"/>
                </a:moveTo>
                <a:cubicBezTo>
                  <a:pt x="17982" y="15880"/>
                  <a:pt x="18008" y="16014"/>
                  <a:pt x="18008" y="16173"/>
                </a:cubicBezTo>
                <a:cubicBezTo>
                  <a:pt x="18008" y="16165"/>
                  <a:pt x="18008" y="16156"/>
                  <a:pt x="18008" y="16148"/>
                </a:cubicBezTo>
              </a:path>
              <a:path w="3200" h="8360">
                <a:moveTo>
                  <a:pt x="18554" y="15751"/>
                </a:moveTo>
                <a:cubicBezTo>
                  <a:pt x="18451" y="15865"/>
                  <a:pt x="18367" y="15970"/>
                  <a:pt x="18281" y="16098"/>
                </a:cubicBezTo>
                <a:cubicBezTo>
                  <a:pt x="18446" y="16098"/>
                  <a:pt x="18590" y="16084"/>
                  <a:pt x="18728" y="16148"/>
                </a:cubicBezTo>
                <a:cubicBezTo>
                  <a:pt x="18642" y="16233"/>
                  <a:pt x="18360" y="16373"/>
                  <a:pt x="18405" y="16098"/>
                </a:cubicBezTo>
                <a:cubicBezTo>
                  <a:pt x="18425" y="15975"/>
                  <a:pt x="18560" y="15927"/>
                  <a:pt x="18628" y="15850"/>
                </a:cubicBezTo>
              </a:path>
              <a:path w="3200" h="8360">
                <a:moveTo>
                  <a:pt x="17363" y="16743"/>
                </a:moveTo>
                <a:cubicBezTo>
                  <a:pt x="17992" y="16673"/>
                  <a:pt x="18618" y="16576"/>
                  <a:pt x="19248" y="16520"/>
                </a:cubicBezTo>
                <a:cubicBezTo>
                  <a:pt x="19265" y="16520"/>
                  <a:pt x="19281" y="16520"/>
                  <a:pt x="19298" y="16520"/>
                </a:cubicBezTo>
              </a:path>
              <a:path w="3200" h="8360">
                <a:moveTo>
                  <a:pt x="19050" y="16867"/>
                </a:moveTo>
                <a:cubicBezTo>
                  <a:pt x="18901" y="17016"/>
                  <a:pt x="18877" y="17086"/>
                  <a:pt x="18852" y="17289"/>
                </a:cubicBezTo>
                <a:cubicBezTo>
                  <a:pt x="19041" y="17328"/>
                  <a:pt x="19338" y="17286"/>
                  <a:pt x="19372" y="17016"/>
                </a:cubicBezTo>
                <a:cubicBezTo>
                  <a:pt x="19397" y="16818"/>
                  <a:pt x="19183" y="16892"/>
                  <a:pt x="19075" y="16892"/>
                </a:cubicBezTo>
              </a:path>
              <a:path w="3200" h="8360">
                <a:moveTo>
                  <a:pt x="18703" y="16991"/>
                </a:moveTo>
                <a:cubicBezTo>
                  <a:pt x="18787" y="16963"/>
                  <a:pt x="18822" y="16959"/>
                  <a:pt x="18876" y="17016"/>
                </a:cubicBezTo>
                <a:cubicBezTo>
                  <a:pt x="18876" y="17256"/>
                  <a:pt x="18777" y="17429"/>
                  <a:pt x="18504" y="17487"/>
                </a:cubicBezTo>
                <a:cubicBezTo>
                  <a:pt x="18479" y="17479"/>
                  <a:pt x="18455" y="17470"/>
                  <a:pt x="18430" y="17462"/>
                </a:cubicBezTo>
                <a:cubicBezTo>
                  <a:pt x="18547" y="17287"/>
                  <a:pt x="18695" y="17239"/>
                  <a:pt x="18926" y="17314"/>
                </a:cubicBezTo>
                <a:cubicBezTo>
                  <a:pt x="19032" y="17366"/>
                  <a:pt x="19072" y="17380"/>
                  <a:pt x="19149" y="17314"/>
                </a:cubicBezTo>
              </a:path>
              <a:path w="3200" h="8360">
                <a:moveTo>
                  <a:pt x="19695" y="16768"/>
                </a:moveTo>
                <a:cubicBezTo>
                  <a:pt x="19545" y="16946"/>
                  <a:pt x="19503" y="16988"/>
                  <a:pt x="19472" y="17214"/>
                </a:cubicBezTo>
                <a:cubicBezTo>
                  <a:pt x="19607" y="17209"/>
                  <a:pt x="20093" y="17156"/>
                  <a:pt x="20017" y="16892"/>
                </a:cubicBezTo>
                <a:cubicBezTo>
                  <a:pt x="19905" y="16808"/>
                  <a:pt x="19855" y="16783"/>
                  <a:pt x="19745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3880" y="3303720"/>
            <a:ext cx="223920" cy="1741320"/>
          </a:xfrm>
          <a:custGeom>
            <a:avLst/>
            <a:gdLst/>
            <a:ahLst/>
            <a:rect l="l" t="t" r="r" b="b"/>
            <a:pathLst>
              <a:path w="622" h="4838">
                <a:moveTo>
                  <a:pt x="18355" y="10492"/>
                </a:moveTo>
                <a:cubicBezTo>
                  <a:pt x="18345" y="10431"/>
                  <a:pt x="18300" y="10390"/>
                  <a:pt x="18207" y="10393"/>
                </a:cubicBezTo>
                <a:cubicBezTo>
                  <a:pt x="18040" y="10399"/>
                  <a:pt x="17933" y="10619"/>
                  <a:pt x="17983" y="10765"/>
                </a:cubicBezTo>
                <a:cubicBezTo>
                  <a:pt x="18008" y="10790"/>
                  <a:pt x="18033" y="10815"/>
                  <a:pt x="18058" y="10840"/>
                </a:cubicBezTo>
                <a:cubicBezTo>
                  <a:pt x="18179" y="10797"/>
                  <a:pt x="18450" y="10717"/>
                  <a:pt x="18306" y="10542"/>
                </a:cubicBezTo>
                <a:cubicBezTo>
                  <a:pt x="18217" y="10435"/>
                  <a:pt x="18195" y="10498"/>
                  <a:pt x="18157" y="10567"/>
                </a:cubicBezTo>
              </a:path>
              <a:path w="622" h="4838">
                <a:moveTo>
                  <a:pt x="18207" y="11038"/>
                </a:moveTo>
                <a:cubicBezTo>
                  <a:pt x="18221" y="11336"/>
                  <a:pt x="18231" y="11634"/>
                  <a:pt x="18256" y="11931"/>
                </a:cubicBezTo>
                <a:cubicBezTo>
                  <a:pt x="18277" y="12182"/>
                  <a:pt x="18306" y="12423"/>
                  <a:pt x="18306" y="12675"/>
                </a:cubicBezTo>
                <a:cubicBezTo>
                  <a:pt x="18306" y="12741"/>
                  <a:pt x="18306" y="12808"/>
                  <a:pt x="18306" y="12874"/>
                </a:cubicBezTo>
              </a:path>
              <a:path w="622" h="4838">
                <a:moveTo>
                  <a:pt x="18306" y="13568"/>
                </a:moveTo>
                <a:cubicBezTo>
                  <a:pt x="18177" y="13624"/>
                  <a:pt x="18106" y="13722"/>
                  <a:pt x="18083" y="13866"/>
                </a:cubicBezTo>
                <a:cubicBezTo>
                  <a:pt x="18083" y="13899"/>
                  <a:pt x="18083" y="13932"/>
                  <a:pt x="18083" y="13965"/>
                </a:cubicBezTo>
                <a:cubicBezTo>
                  <a:pt x="18272" y="14028"/>
                  <a:pt x="18449" y="14038"/>
                  <a:pt x="18579" y="13841"/>
                </a:cubicBezTo>
                <a:cubicBezTo>
                  <a:pt x="18587" y="13808"/>
                  <a:pt x="18596" y="13775"/>
                  <a:pt x="18604" y="13742"/>
                </a:cubicBezTo>
                <a:cubicBezTo>
                  <a:pt x="18488" y="13595"/>
                  <a:pt x="18420" y="13569"/>
                  <a:pt x="18231" y="13593"/>
                </a:cubicBezTo>
              </a:path>
              <a:path w="622" h="4838">
                <a:moveTo>
                  <a:pt x="17983" y="9178"/>
                </a:moveTo>
                <a:cubicBezTo>
                  <a:pt x="18077" y="9248"/>
                  <a:pt x="18038" y="9364"/>
                  <a:pt x="18033" y="9475"/>
                </a:cubicBezTo>
                <a:cubicBezTo>
                  <a:pt x="18027" y="9596"/>
                  <a:pt x="18054" y="9719"/>
                  <a:pt x="18083" y="9823"/>
                </a:cubicBezTo>
                <a:cubicBezTo>
                  <a:pt x="18111" y="9922"/>
                  <a:pt x="18263" y="9845"/>
                  <a:pt x="18331" y="9823"/>
                </a:cubicBezTo>
                <a:cubicBezTo>
                  <a:pt x="18386" y="9806"/>
                  <a:pt x="18492" y="9752"/>
                  <a:pt x="18479" y="9674"/>
                </a:cubicBezTo>
                <a:cubicBezTo>
                  <a:pt x="18470" y="9621"/>
                  <a:pt x="18355" y="9566"/>
                  <a:pt x="18306" y="9599"/>
                </a:cubicBezTo>
                <a:cubicBezTo>
                  <a:pt x="18234" y="9648"/>
                  <a:pt x="18185" y="9784"/>
                  <a:pt x="18207" y="9872"/>
                </a:cubicBezTo>
                <a:cubicBezTo>
                  <a:pt x="18227" y="9913"/>
                  <a:pt x="18235" y="9919"/>
                  <a:pt x="18231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81760" y="3384720"/>
            <a:ext cx="1562040" cy="2312640"/>
          </a:xfrm>
          <a:custGeom>
            <a:avLst/>
            <a:gdLst/>
            <a:ahLst/>
            <a:rect l="l" t="t" r="r" b="b"/>
            <a:pathLst>
              <a:path w="4342" h="6425">
                <a:moveTo>
                  <a:pt x="16247" y="10319"/>
                </a:moveTo>
                <a:cubicBezTo>
                  <a:pt x="16139" y="10366"/>
                  <a:pt x="16063" y="10320"/>
                  <a:pt x="15949" y="10294"/>
                </a:cubicBezTo>
                <a:cubicBezTo>
                  <a:pt x="15894" y="10282"/>
                  <a:pt x="15843" y="10453"/>
                  <a:pt x="15825" y="10492"/>
                </a:cubicBezTo>
                <a:cubicBezTo>
                  <a:pt x="15805" y="10533"/>
                  <a:pt x="15797" y="10539"/>
                  <a:pt x="15801" y="10567"/>
                </a:cubicBezTo>
                <a:cubicBezTo>
                  <a:pt x="15909" y="10549"/>
                  <a:pt x="16006" y="10453"/>
                  <a:pt x="16123" y="10492"/>
                </a:cubicBezTo>
                <a:cubicBezTo>
                  <a:pt x="16365" y="10574"/>
                  <a:pt x="16256" y="10823"/>
                  <a:pt x="16098" y="10914"/>
                </a:cubicBezTo>
                <a:cubicBezTo>
                  <a:pt x="15937" y="11006"/>
                  <a:pt x="15769" y="10953"/>
                  <a:pt x="15627" y="10864"/>
                </a:cubicBezTo>
              </a:path>
              <a:path w="4342" h="6425">
                <a:moveTo>
                  <a:pt x="15379" y="11187"/>
                </a:moveTo>
                <a:cubicBezTo>
                  <a:pt x="15441" y="11089"/>
                  <a:pt x="15470" y="10962"/>
                  <a:pt x="15478" y="10815"/>
                </a:cubicBezTo>
                <a:cubicBezTo>
                  <a:pt x="15493" y="10558"/>
                  <a:pt x="15433" y="10405"/>
                  <a:pt x="15379" y="10170"/>
                </a:cubicBezTo>
                <a:cubicBezTo>
                  <a:pt x="15379" y="10112"/>
                  <a:pt x="15379" y="10104"/>
                  <a:pt x="15379" y="10071"/>
                </a:cubicBezTo>
                <a:cubicBezTo>
                  <a:pt x="15545" y="10080"/>
                  <a:pt x="15708" y="10114"/>
                  <a:pt x="15875" y="10120"/>
                </a:cubicBezTo>
                <a:cubicBezTo>
                  <a:pt x="16428" y="10140"/>
                  <a:pt x="16984" y="10130"/>
                  <a:pt x="17537" y="10145"/>
                </a:cubicBezTo>
                <a:cubicBezTo>
                  <a:pt x="17678" y="10149"/>
                  <a:pt x="17768" y="10145"/>
                  <a:pt x="17909" y="10145"/>
                </a:cubicBezTo>
              </a:path>
              <a:path w="4342" h="6425">
                <a:moveTo>
                  <a:pt x="14387" y="10393"/>
                </a:moveTo>
                <a:cubicBezTo>
                  <a:pt x="14454" y="10327"/>
                  <a:pt x="14582" y="10271"/>
                  <a:pt x="14684" y="10344"/>
                </a:cubicBezTo>
                <a:cubicBezTo>
                  <a:pt x="14839" y="10455"/>
                  <a:pt x="14580" y="10602"/>
                  <a:pt x="14511" y="10641"/>
                </a:cubicBezTo>
                <a:cubicBezTo>
                  <a:pt x="14494" y="10649"/>
                  <a:pt x="14478" y="10658"/>
                  <a:pt x="14461" y="10666"/>
                </a:cubicBezTo>
                <a:cubicBezTo>
                  <a:pt x="14524" y="10602"/>
                  <a:pt x="14676" y="10598"/>
                  <a:pt x="14684" y="10740"/>
                </a:cubicBezTo>
                <a:cubicBezTo>
                  <a:pt x="14697" y="10968"/>
                  <a:pt x="14406" y="11020"/>
                  <a:pt x="14238" y="11013"/>
                </a:cubicBezTo>
                <a:cubicBezTo>
                  <a:pt x="14141" y="11009"/>
                  <a:pt x="14111" y="11004"/>
                  <a:pt x="14139" y="10964"/>
                </a:cubicBezTo>
              </a:path>
              <a:path w="4342" h="6425">
                <a:moveTo>
                  <a:pt x="14957" y="10492"/>
                </a:moveTo>
                <a:cubicBezTo>
                  <a:pt x="14904" y="10467"/>
                  <a:pt x="14810" y="10637"/>
                  <a:pt x="14784" y="10716"/>
                </a:cubicBezTo>
                <a:cubicBezTo>
                  <a:pt x="14748" y="10825"/>
                  <a:pt x="14755" y="10910"/>
                  <a:pt x="14784" y="11013"/>
                </a:cubicBezTo>
                <a:cubicBezTo>
                  <a:pt x="14942" y="11034"/>
                  <a:pt x="15102" y="11030"/>
                  <a:pt x="15156" y="10840"/>
                </a:cubicBezTo>
                <a:cubicBezTo>
                  <a:pt x="15194" y="10709"/>
                  <a:pt x="15132" y="10617"/>
                  <a:pt x="15032" y="10567"/>
                </a:cubicBezTo>
                <a:cubicBezTo>
                  <a:pt x="14966" y="10534"/>
                  <a:pt x="14970" y="10556"/>
                  <a:pt x="14908" y="10592"/>
                </a:cubicBezTo>
              </a:path>
              <a:path w="4342" h="6425">
                <a:moveTo>
                  <a:pt x="16371" y="10393"/>
                </a:moveTo>
                <a:cubicBezTo>
                  <a:pt x="16310" y="10393"/>
                  <a:pt x="16279" y="10398"/>
                  <a:pt x="16222" y="10393"/>
                </a:cubicBezTo>
                <a:cubicBezTo>
                  <a:pt x="16121" y="10384"/>
                  <a:pt x="16025" y="10374"/>
                  <a:pt x="15925" y="10368"/>
                </a:cubicBezTo>
                <a:cubicBezTo>
                  <a:pt x="15868" y="10365"/>
                  <a:pt x="15853" y="10475"/>
                  <a:pt x="15825" y="10517"/>
                </a:cubicBezTo>
                <a:cubicBezTo>
                  <a:pt x="15817" y="10525"/>
                  <a:pt x="15809" y="10534"/>
                  <a:pt x="15801" y="10542"/>
                </a:cubicBezTo>
                <a:cubicBezTo>
                  <a:pt x="15873" y="10483"/>
                  <a:pt x="15952" y="10453"/>
                  <a:pt x="16049" y="10468"/>
                </a:cubicBezTo>
                <a:cubicBezTo>
                  <a:pt x="16136" y="10482"/>
                  <a:pt x="16182" y="10556"/>
                  <a:pt x="16197" y="10641"/>
                </a:cubicBezTo>
                <a:cubicBezTo>
                  <a:pt x="16227" y="10807"/>
                  <a:pt x="16065" y="10806"/>
                  <a:pt x="15949" y="10840"/>
                </a:cubicBezTo>
                <a:cubicBezTo>
                  <a:pt x="15844" y="10871"/>
                  <a:pt x="15779" y="10861"/>
                  <a:pt x="15677" y="10840"/>
                </a:cubicBezTo>
                <a:cubicBezTo>
                  <a:pt x="15652" y="10840"/>
                  <a:pt x="15644" y="10840"/>
                  <a:pt x="15652" y="10864"/>
                </a:cubicBezTo>
              </a:path>
              <a:path w="4342" h="6425">
                <a:moveTo>
                  <a:pt x="16123" y="9475"/>
                </a:moveTo>
                <a:cubicBezTo>
                  <a:pt x="16093" y="9446"/>
                  <a:pt x="16021" y="9387"/>
                  <a:pt x="15974" y="9426"/>
                </a:cubicBezTo>
                <a:cubicBezTo>
                  <a:pt x="15883" y="9502"/>
                  <a:pt x="15834" y="9685"/>
                  <a:pt x="15850" y="9798"/>
                </a:cubicBezTo>
                <a:cubicBezTo>
                  <a:pt x="15863" y="9894"/>
                  <a:pt x="15943" y="9996"/>
                  <a:pt x="16049" y="9996"/>
                </a:cubicBezTo>
                <a:cubicBezTo>
                  <a:pt x="16183" y="9996"/>
                  <a:pt x="16235" y="9844"/>
                  <a:pt x="16247" y="9748"/>
                </a:cubicBezTo>
                <a:cubicBezTo>
                  <a:pt x="16257" y="9667"/>
                  <a:pt x="16251" y="9588"/>
                  <a:pt x="16197" y="9525"/>
                </a:cubicBezTo>
                <a:cubicBezTo>
                  <a:pt x="16134" y="9452"/>
                  <a:pt x="16091" y="9413"/>
                  <a:pt x="15999" y="9401"/>
                </a:cubicBezTo>
              </a:path>
              <a:path w="4342" h="6425">
                <a:moveTo>
                  <a:pt x="16545" y="10765"/>
                </a:moveTo>
                <a:cubicBezTo>
                  <a:pt x="16504" y="10785"/>
                  <a:pt x="16488" y="10783"/>
                  <a:pt x="16495" y="10815"/>
                </a:cubicBezTo>
                <a:cubicBezTo>
                  <a:pt x="16547" y="10815"/>
                  <a:pt x="16619" y="10745"/>
                  <a:pt x="16520" y="10765"/>
                </a:cubicBezTo>
                <a:cubicBezTo>
                  <a:pt x="16493" y="10770"/>
                  <a:pt x="16425" y="10836"/>
                  <a:pt x="16495" y="10790"/>
                </a:cubicBezTo>
              </a:path>
              <a:path w="4342" h="6425">
                <a:moveTo>
                  <a:pt x="16421" y="9872"/>
                </a:moveTo>
                <a:cubicBezTo>
                  <a:pt x="16421" y="9916"/>
                  <a:pt x="16442" y="10014"/>
                  <a:pt x="16470" y="9897"/>
                </a:cubicBezTo>
                <a:cubicBezTo>
                  <a:pt x="16470" y="9880"/>
                  <a:pt x="16470" y="9864"/>
                  <a:pt x="16470" y="9847"/>
                </a:cubicBezTo>
                <a:cubicBezTo>
                  <a:pt x="16470" y="9823"/>
                  <a:pt x="16470" y="9815"/>
                  <a:pt x="16470" y="9847"/>
                </a:cubicBezTo>
                <a:cubicBezTo>
                  <a:pt x="16458" y="9892"/>
                  <a:pt x="16470" y="9825"/>
                  <a:pt x="16470" y="9872"/>
                </a:cubicBezTo>
                <a:cubicBezTo>
                  <a:pt x="16470" y="9880"/>
                  <a:pt x="16470" y="9889"/>
                  <a:pt x="16470" y="9897"/>
                </a:cubicBezTo>
              </a:path>
              <a:path w="4342" h="6425">
                <a:moveTo>
                  <a:pt x="15949" y="11187"/>
                </a:moveTo>
                <a:cubicBezTo>
                  <a:pt x="15918" y="11139"/>
                  <a:pt x="15973" y="11154"/>
                  <a:pt x="16024" y="11112"/>
                </a:cubicBezTo>
                <a:cubicBezTo>
                  <a:pt x="16068" y="11068"/>
                  <a:pt x="16078" y="11051"/>
                  <a:pt x="16123" y="11063"/>
                </a:cubicBezTo>
                <a:cubicBezTo>
                  <a:pt x="16192" y="11141"/>
                  <a:pt x="16254" y="11245"/>
                  <a:pt x="16148" y="11336"/>
                </a:cubicBezTo>
                <a:cubicBezTo>
                  <a:pt x="16127" y="11354"/>
                  <a:pt x="16014" y="11426"/>
                  <a:pt x="16049" y="11361"/>
                </a:cubicBezTo>
                <a:cubicBezTo>
                  <a:pt x="16132" y="11361"/>
                  <a:pt x="16243" y="11341"/>
                  <a:pt x="16247" y="11460"/>
                </a:cubicBezTo>
                <a:cubicBezTo>
                  <a:pt x="16253" y="11642"/>
                  <a:pt x="16031" y="11691"/>
                  <a:pt x="15900" y="11658"/>
                </a:cubicBezTo>
                <a:cubicBezTo>
                  <a:pt x="15865" y="11623"/>
                  <a:pt x="15861" y="11601"/>
                  <a:pt x="15900" y="11559"/>
                </a:cubicBezTo>
              </a:path>
              <a:path w="4342" h="6425">
                <a:moveTo>
                  <a:pt x="16694" y="11162"/>
                </a:moveTo>
                <a:cubicBezTo>
                  <a:pt x="16600" y="11309"/>
                  <a:pt x="16545" y="11388"/>
                  <a:pt x="16570" y="11559"/>
                </a:cubicBezTo>
                <a:cubicBezTo>
                  <a:pt x="16736" y="11539"/>
                  <a:pt x="16918" y="11483"/>
                  <a:pt x="16892" y="11261"/>
                </a:cubicBezTo>
                <a:cubicBezTo>
                  <a:pt x="16879" y="11150"/>
                  <a:pt x="16764" y="11167"/>
                  <a:pt x="16694" y="11162"/>
                </a:cubicBezTo>
              </a:path>
              <a:path w="4342" h="6425">
                <a:moveTo>
                  <a:pt x="15354" y="11509"/>
                </a:moveTo>
                <a:cubicBezTo>
                  <a:pt x="15426" y="11489"/>
                  <a:pt x="15476" y="11460"/>
                  <a:pt x="15553" y="11460"/>
                </a:cubicBezTo>
                <a:cubicBezTo>
                  <a:pt x="15569" y="11460"/>
                  <a:pt x="15586" y="11460"/>
                  <a:pt x="15602" y="11460"/>
                </a:cubicBezTo>
              </a:path>
              <a:path w="4342" h="6425">
                <a:moveTo>
                  <a:pt x="15180" y="11881"/>
                </a:moveTo>
                <a:cubicBezTo>
                  <a:pt x="15675" y="11798"/>
                  <a:pt x="16170" y="11760"/>
                  <a:pt x="16669" y="11708"/>
                </a:cubicBezTo>
                <a:cubicBezTo>
                  <a:pt x="16806" y="11694"/>
                  <a:pt x="16932" y="11677"/>
                  <a:pt x="17066" y="11658"/>
                </a:cubicBezTo>
              </a:path>
              <a:path w="4342" h="6425">
                <a:moveTo>
                  <a:pt x="15925" y="12080"/>
                </a:moveTo>
                <a:cubicBezTo>
                  <a:pt x="16110" y="12009"/>
                  <a:pt x="16155" y="12087"/>
                  <a:pt x="16247" y="12229"/>
                </a:cubicBezTo>
                <a:cubicBezTo>
                  <a:pt x="16148" y="12399"/>
                  <a:pt x="15990" y="12604"/>
                  <a:pt x="15751" y="12502"/>
                </a:cubicBezTo>
                <a:cubicBezTo>
                  <a:pt x="15734" y="12477"/>
                  <a:pt x="15718" y="12452"/>
                  <a:pt x="15701" y="12427"/>
                </a:cubicBezTo>
                <a:cubicBezTo>
                  <a:pt x="15810" y="12303"/>
                  <a:pt x="15988" y="12313"/>
                  <a:pt x="16148" y="12378"/>
                </a:cubicBezTo>
                <a:cubicBezTo>
                  <a:pt x="16342" y="12456"/>
                  <a:pt x="16160" y="12488"/>
                  <a:pt x="16321" y="12452"/>
                </a:cubicBezTo>
              </a:path>
              <a:path w="4342" h="6425">
                <a:moveTo>
                  <a:pt x="16644" y="12055"/>
                </a:moveTo>
                <a:cubicBezTo>
                  <a:pt x="16526" y="12114"/>
                  <a:pt x="16395" y="12242"/>
                  <a:pt x="16470" y="12402"/>
                </a:cubicBezTo>
                <a:cubicBezTo>
                  <a:pt x="16553" y="12578"/>
                  <a:pt x="16842" y="12369"/>
                  <a:pt x="16867" y="12254"/>
                </a:cubicBezTo>
                <a:cubicBezTo>
                  <a:pt x="16906" y="12073"/>
                  <a:pt x="16726" y="12062"/>
                  <a:pt x="16619" y="12080"/>
                </a:cubicBezTo>
              </a:path>
              <a:path w="4342" h="6425">
                <a:moveTo>
                  <a:pt x="16148" y="12700"/>
                </a:moveTo>
                <a:cubicBezTo>
                  <a:pt x="16148" y="12667"/>
                  <a:pt x="16126" y="13014"/>
                  <a:pt x="16123" y="13072"/>
                </a:cubicBezTo>
                <a:cubicBezTo>
                  <a:pt x="16112" y="13269"/>
                  <a:pt x="16123" y="13179"/>
                  <a:pt x="16197" y="13047"/>
                </a:cubicBezTo>
              </a:path>
              <a:path w="4342" h="6425">
                <a:moveTo>
                  <a:pt x="16694" y="12650"/>
                </a:moveTo>
                <a:cubicBezTo>
                  <a:pt x="16599" y="12691"/>
                  <a:pt x="16526" y="12734"/>
                  <a:pt x="16446" y="12799"/>
                </a:cubicBezTo>
                <a:cubicBezTo>
                  <a:pt x="16499" y="12958"/>
                  <a:pt x="16651" y="12953"/>
                  <a:pt x="16743" y="13097"/>
                </a:cubicBezTo>
                <a:cubicBezTo>
                  <a:pt x="16743" y="13113"/>
                  <a:pt x="16743" y="13130"/>
                  <a:pt x="16743" y="13146"/>
                </a:cubicBezTo>
                <a:cubicBezTo>
                  <a:pt x="16547" y="13158"/>
                  <a:pt x="16417" y="13111"/>
                  <a:pt x="16570" y="12898"/>
                </a:cubicBezTo>
                <a:cubicBezTo>
                  <a:pt x="16667" y="12763"/>
                  <a:pt x="16715" y="12757"/>
                  <a:pt x="16867" y="12725"/>
                </a:cubicBezTo>
              </a:path>
              <a:path w="4342" h="6425">
                <a:moveTo>
                  <a:pt x="17239" y="12601"/>
                </a:moveTo>
                <a:cubicBezTo>
                  <a:pt x="17154" y="12792"/>
                  <a:pt x="17106" y="12882"/>
                  <a:pt x="17115" y="13097"/>
                </a:cubicBezTo>
                <a:cubicBezTo>
                  <a:pt x="17278" y="13097"/>
                  <a:pt x="17585" y="13005"/>
                  <a:pt x="17487" y="12750"/>
                </a:cubicBezTo>
                <a:cubicBezTo>
                  <a:pt x="17381" y="12670"/>
                  <a:pt x="17339" y="12646"/>
                  <a:pt x="17239" y="12700"/>
                </a:cubicBezTo>
              </a:path>
              <a:path w="4342" h="6425">
                <a:moveTo>
                  <a:pt x="15577" y="13146"/>
                </a:moveTo>
                <a:cubicBezTo>
                  <a:pt x="15730" y="13113"/>
                  <a:pt x="15867" y="13097"/>
                  <a:pt x="16024" y="13097"/>
                </a:cubicBezTo>
              </a:path>
              <a:path w="4342" h="6425">
                <a:moveTo>
                  <a:pt x="15131" y="13618"/>
                </a:moveTo>
                <a:cubicBezTo>
                  <a:pt x="16006" y="13496"/>
                  <a:pt x="16880" y="13394"/>
                  <a:pt x="17760" y="13320"/>
                </a:cubicBezTo>
                <a:cubicBezTo>
                  <a:pt x="17896" y="13308"/>
                  <a:pt x="18002" y="13300"/>
                  <a:pt x="18132" y="13295"/>
                </a:cubicBezTo>
              </a:path>
              <a:path w="4342" h="6425">
                <a:moveTo>
                  <a:pt x="16942" y="13717"/>
                </a:moveTo>
                <a:cubicBezTo>
                  <a:pt x="16917" y="13646"/>
                  <a:pt x="17024" y="13612"/>
                  <a:pt x="17115" y="13593"/>
                </a:cubicBezTo>
                <a:cubicBezTo>
                  <a:pt x="17099" y="13810"/>
                  <a:pt x="17017" y="13884"/>
                  <a:pt x="16867" y="14039"/>
                </a:cubicBezTo>
                <a:cubicBezTo>
                  <a:pt x="16812" y="14095"/>
                  <a:pt x="16814" y="14120"/>
                  <a:pt x="16768" y="14114"/>
                </a:cubicBezTo>
                <a:cubicBezTo>
                  <a:pt x="16911" y="14094"/>
                  <a:pt x="17024" y="14059"/>
                  <a:pt x="17165" y="14064"/>
                </a:cubicBezTo>
                <a:cubicBezTo>
                  <a:pt x="17261" y="14067"/>
                  <a:pt x="17170" y="14117"/>
                  <a:pt x="17264" y="14039"/>
                </a:cubicBezTo>
              </a:path>
              <a:path w="4342" h="6425">
                <a:moveTo>
                  <a:pt x="17636" y="13593"/>
                </a:moveTo>
                <a:cubicBezTo>
                  <a:pt x="17490" y="13626"/>
                  <a:pt x="17422" y="13712"/>
                  <a:pt x="17388" y="13866"/>
                </a:cubicBezTo>
                <a:cubicBezTo>
                  <a:pt x="17343" y="14072"/>
                  <a:pt x="17585" y="14095"/>
                  <a:pt x="17711" y="13990"/>
                </a:cubicBezTo>
                <a:cubicBezTo>
                  <a:pt x="17862" y="13864"/>
                  <a:pt x="17845" y="13710"/>
                  <a:pt x="17686" y="13643"/>
                </a:cubicBezTo>
                <a:cubicBezTo>
                  <a:pt x="17661" y="13635"/>
                  <a:pt x="17636" y="13626"/>
                  <a:pt x="17611" y="13618"/>
                </a:cubicBezTo>
              </a:path>
              <a:path w="4342" h="6425">
                <a:moveTo>
                  <a:pt x="16371" y="14511"/>
                </a:moveTo>
                <a:cubicBezTo>
                  <a:pt x="16465" y="14511"/>
                  <a:pt x="16530" y="14491"/>
                  <a:pt x="16619" y="14461"/>
                </a:cubicBezTo>
              </a:path>
              <a:path w="4342" h="6425">
                <a:moveTo>
                  <a:pt x="17537" y="14238"/>
                </a:moveTo>
                <a:cubicBezTo>
                  <a:pt x="17454" y="14304"/>
                  <a:pt x="17396" y="14350"/>
                  <a:pt x="17338" y="14436"/>
                </a:cubicBezTo>
                <a:cubicBezTo>
                  <a:pt x="17439" y="14547"/>
                  <a:pt x="17561" y="14606"/>
                  <a:pt x="17636" y="14734"/>
                </a:cubicBezTo>
                <a:cubicBezTo>
                  <a:pt x="17417" y="14789"/>
                  <a:pt x="17381" y="14678"/>
                  <a:pt x="17487" y="14461"/>
                </a:cubicBezTo>
                <a:cubicBezTo>
                  <a:pt x="17519" y="14396"/>
                  <a:pt x="17553" y="14352"/>
                  <a:pt x="17611" y="14337"/>
                </a:cubicBezTo>
              </a:path>
              <a:path w="4342" h="6425">
                <a:moveTo>
                  <a:pt x="18107" y="14188"/>
                </a:moveTo>
                <a:cubicBezTo>
                  <a:pt x="17970" y="14388"/>
                  <a:pt x="17971" y="14484"/>
                  <a:pt x="18033" y="14709"/>
                </a:cubicBezTo>
                <a:cubicBezTo>
                  <a:pt x="18167" y="14670"/>
                  <a:pt x="18657" y="14507"/>
                  <a:pt x="18405" y="14263"/>
                </a:cubicBezTo>
                <a:cubicBezTo>
                  <a:pt x="18253" y="14212"/>
                  <a:pt x="18200" y="14197"/>
                  <a:pt x="18107" y="14288"/>
                </a:cubicBezTo>
              </a:path>
              <a:path w="4342" h="6425">
                <a:moveTo>
                  <a:pt x="16669" y="15329"/>
                </a:moveTo>
                <a:cubicBezTo>
                  <a:pt x="17191" y="15158"/>
                  <a:pt x="17688" y="15082"/>
                  <a:pt x="18231" y="15007"/>
                </a:cubicBezTo>
                <a:cubicBezTo>
                  <a:pt x="18322" y="14989"/>
                  <a:pt x="18329" y="14980"/>
                  <a:pt x="18380" y="14982"/>
                </a:cubicBezTo>
              </a:path>
              <a:path w="4342" h="6425">
                <a:moveTo>
                  <a:pt x="17636" y="15429"/>
                </a:moveTo>
                <a:cubicBezTo>
                  <a:pt x="17851" y="15412"/>
                  <a:pt x="17886" y="15410"/>
                  <a:pt x="18058" y="15528"/>
                </a:cubicBezTo>
                <a:cubicBezTo>
                  <a:pt x="17997" y="15795"/>
                  <a:pt x="17860" y="15853"/>
                  <a:pt x="17562" y="15801"/>
                </a:cubicBezTo>
                <a:cubicBezTo>
                  <a:pt x="17554" y="15793"/>
                  <a:pt x="17545" y="15784"/>
                  <a:pt x="17537" y="15776"/>
                </a:cubicBezTo>
                <a:cubicBezTo>
                  <a:pt x="17782" y="15697"/>
                  <a:pt x="17850" y="15734"/>
                  <a:pt x="18083" y="15801"/>
                </a:cubicBezTo>
                <a:cubicBezTo>
                  <a:pt x="18158" y="15801"/>
                  <a:pt x="18199" y="15796"/>
                  <a:pt x="18256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95800" y="3821040"/>
            <a:ext cx="884160" cy="127080"/>
          </a:xfrm>
          <a:custGeom>
            <a:avLst/>
            <a:gdLst/>
            <a:ahLst/>
            <a:rect l="l" t="t" r="r" b="b"/>
            <a:pathLst>
              <a:path w="2457" h="349">
                <a:moveTo>
                  <a:pt x="9153" y="10964"/>
                </a:moveTo>
                <a:cubicBezTo>
                  <a:pt x="9219" y="10957"/>
                  <a:pt x="9286" y="10951"/>
                  <a:pt x="9351" y="10939"/>
                </a:cubicBezTo>
                <a:cubicBezTo>
                  <a:pt x="9525" y="10906"/>
                  <a:pt x="9695" y="10873"/>
                  <a:pt x="9872" y="10864"/>
                </a:cubicBezTo>
                <a:cubicBezTo>
                  <a:pt x="10127" y="10851"/>
                  <a:pt x="10386" y="10844"/>
                  <a:pt x="10641" y="10840"/>
                </a:cubicBezTo>
                <a:cubicBezTo>
                  <a:pt x="10933" y="10836"/>
                  <a:pt x="11216" y="10790"/>
                  <a:pt x="11509" y="10790"/>
                </a:cubicBezTo>
                <a:cubicBezTo>
                  <a:pt x="11602" y="10790"/>
                  <a:pt x="11624" y="10811"/>
                  <a:pt x="11559" y="10765"/>
                </a:cubicBezTo>
                <a:cubicBezTo>
                  <a:pt x="11485" y="10715"/>
                  <a:pt x="11410" y="10666"/>
                  <a:pt x="11336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32080" y="3857760"/>
            <a:ext cx="849240" cy="107640"/>
          </a:xfrm>
          <a:custGeom>
            <a:avLst/>
            <a:gdLst/>
            <a:ahLst/>
            <a:rect l="l" t="t" r="r" b="b"/>
            <a:pathLst>
              <a:path w="2358" h="298">
                <a:moveTo>
                  <a:pt x="9475" y="10864"/>
                </a:moveTo>
                <a:cubicBezTo>
                  <a:pt x="9764" y="10864"/>
                  <a:pt x="10056" y="10846"/>
                  <a:pt x="10344" y="10815"/>
                </a:cubicBezTo>
                <a:cubicBezTo>
                  <a:pt x="10675" y="10779"/>
                  <a:pt x="11004" y="10731"/>
                  <a:pt x="11336" y="10716"/>
                </a:cubicBezTo>
                <a:cubicBezTo>
                  <a:pt x="11138" y="10751"/>
                  <a:pt x="10943" y="10775"/>
                  <a:pt x="10740" y="10790"/>
                </a:cubicBezTo>
                <a:cubicBezTo>
                  <a:pt x="10195" y="10830"/>
                  <a:pt x="9667" y="10897"/>
                  <a:pt x="9128" y="10988"/>
                </a:cubicBezTo>
                <a:cubicBezTo>
                  <a:pt x="9020" y="11006"/>
                  <a:pt x="8929" y="11014"/>
                  <a:pt x="9004" y="11013"/>
                </a:cubicBezTo>
                <a:cubicBezTo>
                  <a:pt x="9399" y="10877"/>
                  <a:pt x="9825" y="10854"/>
                  <a:pt x="10244" y="10840"/>
                </a:cubicBezTo>
                <a:cubicBezTo>
                  <a:pt x="10502" y="10832"/>
                  <a:pt x="10756" y="10826"/>
                  <a:pt x="11013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3419640"/>
            <a:ext cx="260640" cy="420480"/>
          </a:xfrm>
          <a:custGeom>
            <a:avLst/>
            <a:gdLst/>
            <a:ahLst/>
            <a:rect l="l" t="t" r="r" b="b"/>
            <a:pathLst>
              <a:path w="720" h="1167">
                <a:moveTo>
                  <a:pt x="10492" y="9500"/>
                </a:moveTo>
                <a:cubicBezTo>
                  <a:pt x="10352" y="9570"/>
                  <a:pt x="10212" y="9639"/>
                  <a:pt x="10021" y="9624"/>
                </a:cubicBezTo>
                <a:cubicBezTo>
                  <a:pt x="9907" y="9615"/>
                  <a:pt x="9940" y="9814"/>
                  <a:pt x="9922" y="9947"/>
                </a:cubicBezTo>
                <a:cubicBezTo>
                  <a:pt x="9914" y="10005"/>
                  <a:pt x="9905" y="10062"/>
                  <a:pt x="9897" y="10120"/>
                </a:cubicBezTo>
                <a:cubicBezTo>
                  <a:pt x="9897" y="10145"/>
                  <a:pt x="9897" y="10170"/>
                  <a:pt x="9897" y="10195"/>
                </a:cubicBezTo>
                <a:cubicBezTo>
                  <a:pt x="10111" y="10078"/>
                  <a:pt x="10331" y="9948"/>
                  <a:pt x="10542" y="10170"/>
                </a:cubicBezTo>
                <a:cubicBezTo>
                  <a:pt x="10828" y="10471"/>
                  <a:pt x="10172" y="10670"/>
                  <a:pt x="9971" y="10666"/>
                </a:cubicBezTo>
                <a:cubicBezTo>
                  <a:pt x="9946" y="10649"/>
                  <a:pt x="9922" y="10633"/>
                  <a:pt x="9897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02000" y="3848040"/>
            <a:ext cx="546120" cy="117360"/>
          </a:xfrm>
          <a:custGeom>
            <a:avLst/>
            <a:gdLst/>
            <a:ahLst/>
            <a:rect l="l" t="t" r="r" b="b"/>
            <a:pathLst>
              <a:path w="1514" h="323">
                <a:moveTo>
                  <a:pt x="9451" y="11013"/>
                </a:moveTo>
                <a:cubicBezTo>
                  <a:pt x="9938" y="10946"/>
                  <a:pt x="10411" y="10828"/>
                  <a:pt x="10889" y="10716"/>
                </a:cubicBezTo>
                <a:cubicBezTo>
                  <a:pt x="10947" y="10697"/>
                  <a:pt x="10972" y="10670"/>
                  <a:pt x="10964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8840" y="3983040"/>
            <a:ext cx="214200" cy="276120"/>
          </a:xfrm>
          <a:custGeom>
            <a:avLst/>
            <a:gdLst/>
            <a:ahLst/>
            <a:rect l="l" t="t" r="r" b="b"/>
            <a:pathLst>
              <a:path w="596" h="770">
                <a:moveTo>
                  <a:pt x="10790" y="11137"/>
                </a:moveTo>
                <a:cubicBezTo>
                  <a:pt x="10565" y="11323"/>
                  <a:pt x="10503" y="11474"/>
                  <a:pt x="10492" y="11757"/>
                </a:cubicBezTo>
                <a:cubicBezTo>
                  <a:pt x="10731" y="11829"/>
                  <a:pt x="11044" y="11703"/>
                  <a:pt x="11063" y="11361"/>
                </a:cubicBezTo>
                <a:cubicBezTo>
                  <a:pt x="11077" y="11108"/>
                  <a:pt x="10698" y="11014"/>
                  <a:pt x="10517" y="11088"/>
                </a:cubicBezTo>
                <a:cubicBezTo>
                  <a:pt x="10509" y="11104"/>
                  <a:pt x="10500" y="11121"/>
                  <a:pt x="10492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02000" y="4000680"/>
            <a:ext cx="304920" cy="295200"/>
          </a:xfrm>
          <a:custGeom>
            <a:avLst/>
            <a:gdLst/>
            <a:ahLst/>
            <a:rect l="l" t="t" r="r" b="b"/>
            <a:pathLst>
              <a:path w="844" h="820">
                <a:moveTo>
                  <a:pt x="9699" y="11187"/>
                </a:moveTo>
                <a:cubicBezTo>
                  <a:pt x="9771" y="11159"/>
                  <a:pt x="10175" y="10988"/>
                  <a:pt x="10170" y="11187"/>
                </a:cubicBezTo>
                <a:cubicBezTo>
                  <a:pt x="10089" y="11349"/>
                  <a:pt x="10054" y="11409"/>
                  <a:pt x="9947" y="11485"/>
                </a:cubicBezTo>
                <a:cubicBezTo>
                  <a:pt x="9914" y="11501"/>
                  <a:pt x="9880" y="11518"/>
                  <a:pt x="9847" y="11534"/>
                </a:cubicBezTo>
                <a:cubicBezTo>
                  <a:pt x="9957" y="11503"/>
                  <a:pt x="10289" y="11402"/>
                  <a:pt x="10294" y="11633"/>
                </a:cubicBezTo>
                <a:cubicBezTo>
                  <a:pt x="10301" y="11948"/>
                  <a:pt x="9686" y="11938"/>
                  <a:pt x="9500" y="11906"/>
                </a:cubicBezTo>
                <a:cubicBezTo>
                  <a:pt x="9424" y="11867"/>
                  <a:pt x="9434" y="11844"/>
                  <a:pt x="9575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00960" y="2544840"/>
            <a:ext cx="581040" cy="965160"/>
          </a:xfrm>
          <a:custGeom>
            <a:avLst/>
            <a:gdLst/>
            <a:ahLst/>
            <a:rect l="l" t="t" r="r" b="b"/>
            <a:pathLst>
              <a:path w="1613" h="2680">
                <a:moveTo>
                  <a:pt x="21382" y="7293"/>
                </a:moveTo>
                <a:cubicBezTo>
                  <a:pt x="21471" y="7203"/>
                  <a:pt x="21550" y="7190"/>
                  <a:pt x="21654" y="7243"/>
                </a:cubicBezTo>
                <a:cubicBezTo>
                  <a:pt x="21613" y="7332"/>
                  <a:pt x="21583" y="7381"/>
                  <a:pt x="21506" y="7441"/>
                </a:cubicBezTo>
                <a:cubicBezTo>
                  <a:pt x="21582" y="7441"/>
                  <a:pt x="21627" y="7451"/>
                  <a:pt x="21704" y="7466"/>
                </a:cubicBezTo>
                <a:cubicBezTo>
                  <a:pt x="21662" y="7602"/>
                  <a:pt x="21521" y="7796"/>
                  <a:pt x="21332" y="7739"/>
                </a:cubicBezTo>
                <a:cubicBezTo>
                  <a:pt x="21307" y="7714"/>
                  <a:pt x="21283" y="7690"/>
                  <a:pt x="21258" y="7665"/>
                </a:cubicBezTo>
              </a:path>
              <a:path w="1613" h="2680">
                <a:moveTo>
                  <a:pt x="21977" y="7119"/>
                </a:moveTo>
                <a:cubicBezTo>
                  <a:pt x="21924" y="7192"/>
                  <a:pt x="21757" y="7495"/>
                  <a:pt x="21952" y="7541"/>
                </a:cubicBezTo>
                <a:cubicBezTo>
                  <a:pt x="22116" y="7580"/>
                  <a:pt x="22236" y="7323"/>
                  <a:pt x="22225" y="7218"/>
                </a:cubicBezTo>
                <a:cubicBezTo>
                  <a:pt x="22092" y="7218"/>
                  <a:pt x="22043" y="7247"/>
                  <a:pt x="22027" y="7392"/>
                </a:cubicBezTo>
              </a:path>
              <a:path w="1613" h="2680">
                <a:moveTo>
                  <a:pt x="22002" y="7962"/>
                </a:moveTo>
                <a:cubicBezTo>
                  <a:pt x="21942" y="8133"/>
                  <a:pt x="21874" y="8246"/>
                  <a:pt x="22002" y="8359"/>
                </a:cubicBezTo>
                <a:cubicBezTo>
                  <a:pt x="22158" y="8264"/>
                  <a:pt x="22168" y="8267"/>
                  <a:pt x="22200" y="8086"/>
                </a:cubicBezTo>
                <a:cubicBezTo>
                  <a:pt x="22095" y="8087"/>
                  <a:pt x="21962" y="8203"/>
                  <a:pt x="22027" y="8359"/>
                </a:cubicBezTo>
                <a:cubicBezTo>
                  <a:pt x="22043" y="8359"/>
                  <a:pt x="22060" y="8359"/>
                  <a:pt x="22076" y="8359"/>
                </a:cubicBezTo>
              </a:path>
              <a:path w="1613" h="2680">
                <a:moveTo>
                  <a:pt x="22101" y="7169"/>
                </a:moveTo>
                <a:cubicBezTo>
                  <a:pt x="22101" y="7144"/>
                  <a:pt x="22118" y="7081"/>
                  <a:pt x="22076" y="7094"/>
                </a:cubicBezTo>
                <a:cubicBezTo>
                  <a:pt x="21984" y="7123"/>
                  <a:pt x="21923" y="7315"/>
                  <a:pt x="22027" y="7367"/>
                </a:cubicBezTo>
                <a:cubicBezTo>
                  <a:pt x="22148" y="7428"/>
                  <a:pt x="22298" y="7330"/>
                  <a:pt x="22299" y="7193"/>
                </a:cubicBezTo>
                <a:cubicBezTo>
                  <a:pt x="22300" y="7052"/>
                  <a:pt x="22093" y="7075"/>
                  <a:pt x="22027" y="7119"/>
                </a:cubicBezTo>
                <a:cubicBezTo>
                  <a:pt x="21965" y="7160"/>
                  <a:pt x="21878" y="7297"/>
                  <a:pt x="21952" y="7293"/>
                </a:cubicBezTo>
                <a:cubicBezTo>
                  <a:pt x="21977" y="7285"/>
                  <a:pt x="22002" y="7276"/>
                  <a:pt x="22027" y="7268"/>
                </a:cubicBezTo>
              </a:path>
              <a:path w="1613" h="2680">
                <a:moveTo>
                  <a:pt x="20836" y="8930"/>
                </a:moveTo>
                <a:cubicBezTo>
                  <a:pt x="21306" y="8773"/>
                  <a:pt x="21775" y="8623"/>
                  <a:pt x="22250" y="8483"/>
                </a:cubicBezTo>
                <a:cubicBezTo>
                  <a:pt x="22451" y="8424"/>
                  <a:pt x="22442" y="8354"/>
                  <a:pt x="22374" y="8558"/>
                </a:cubicBezTo>
              </a:path>
              <a:path w="1613" h="2680">
                <a:moveTo>
                  <a:pt x="22349" y="8880"/>
                </a:moveTo>
                <a:cubicBezTo>
                  <a:pt x="22211" y="9018"/>
                  <a:pt x="22160" y="9091"/>
                  <a:pt x="22101" y="9277"/>
                </a:cubicBezTo>
                <a:cubicBezTo>
                  <a:pt x="22242" y="9277"/>
                  <a:pt x="22510" y="9199"/>
                  <a:pt x="22448" y="8979"/>
                </a:cubicBezTo>
                <a:cubicBezTo>
                  <a:pt x="22351" y="8882"/>
                  <a:pt x="22295" y="8854"/>
                  <a:pt x="22175" y="8880"/>
                </a:cubicBezTo>
              </a:path>
              <a:path w="1613" h="2680">
                <a:moveTo>
                  <a:pt x="21183" y="9227"/>
                </a:moveTo>
                <a:cubicBezTo>
                  <a:pt x="21183" y="9305"/>
                  <a:pt x="21115" y="9725"/>
                  <a:pt x="21134" y="9748"/>
                </a:cubicBezTo>
                <a:cubicBezTo>
                  <a:pt x="21150" y="9732"/>
                  <a:pt x="21167" y="9715"/>
                  <a:pt x="21183" y="9699"/>
                </a:cubicBezTo>
              </a:path>
              <a:path w="1613" h="2680">
                <a:moveTo>
                  <a:pt x="21605" y="9103"/>
                </a:moveTo>
                <a:cubicBezTo>
                  <a:pt x="21502" y="9165"/>
                  <a:pt x="21479" y="9173"/>
                  <a:pt x="21431" y="9227"/>
                </a:cubicBezTo>
                <a:cubicBezTo>
                  <a:pt x="21554" y="9360"/>
                  <a:pt x="21692" y="9408"/>
                  <a:pt x="21704" y="9575"/>
                </a:cubicBezTo>
                <a:cubicBezTo>
                  <a:pt x="21489" y="9588"/>
                  <a:pt x="21474" y="9449"/>
                  <a:pt x="21580" y="9252"/>
                </a:cubicBezTo>
                <a:cubicBezTo>
                  <a:pt x="21635" y="9197"/>
                  <a:pt x="21660" y="9199"/>
                  <a:pt x="21654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72120" y="5153040"/>
            <a:ext cx="27000" cy="169920"/>
          </a:xfrm>
          <a:custGeom>
            <a:avLst/>
            <a:gdLst/>
            <a:ahLst/>
            <a:rect l="l" t="t" r="r" b="b"/>
            <a:pathLst>
              <a:path w="76" h="473">
                <a:moveTo>
                  <a:pt x="16867" y="14312"/>
                </a:moveTo>
                <a:cubicBezTo>
                  <a:pt x="16901" y="14473"/>
                  <a:pt x="16918" y="14622"/>
                  <a:pt x="16942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04960" y="4929120"/>
            <a:ext cx="938160" cy="420840"/>
          </a:xfrm>
          <a:custGeom>
            <a:avLst/>
            <a:gdLst/>
            <a:ahLst/>
            <a:rect l="l" t="t" r="r" b="b"/>
            <a:pathLst>
              <a:path w="2605" h="1167">
                <a:moveTo>
                  <a:pt x="5085" y="14114"/>
                </a:moveTo>
                <a:cubicBezTo>
                  <a:pt x="5131" y="14045"/>
                  <a:pt x="4978" y="14070"/>
                  <a:pt x="4936" y="14114"/>
                </a:cubicBezTo>
                <a:cubicBezTo>
                  <a:pt x="4715" y="14342"/>
                  <a:pt x="4709" y="14594"/>
                  <a:pt x="4812" y="14858"/>
                </a:cubicBezTo>
                <a:cubicBezTo>
                  <a:pt x="5070" y="14787"/>
                  <a:pt x="5357" y="14684"/>
                  <a:pt x="5308" y="14337"/>
                </a:cubicBezTo>
                <a:cubicBezTo>
                  <a:pt x="5300" y="14282"/>
                  <a:pt x="5052" y="14007"/>
                  <a:pt x="5011" y="14163"/>
                </a:cubicBezTo>
                <a:cubicBezTo>
                  <a:pt x="5019" y="14171"/>
                  <a:pt x="5027" y="14180"/>
                  <a:pt x="5035" y="14188"/>
                </a:cubicBezTo>
              </a:path>
              <a:path w="2605" h="1167">
                <a:moveTo>
                  <a:pt x="5606" y="14635"/>
                </a:moveTo>
                <a:cubicBezTo>
                  <a:pt x="5539" y="14715"/>
                  <a:pt x="5501" y="14717"/>
                  <a:pt x="5531" y="14808"/>
                </a:cubicBezTo>
                <a:cubicBezTo>
                  <a:pt x="5578" y="14796"/>
                  <a:pt x="5770" y="14651"/>
                  <a:pt x="5655" y="14660"/>
                </a:cubicBezTo>
                <a:cubicBezTo>
                  <a:pt x="5568" y="14667"/>
                  <a:pt x="5504" y="14743"/>
                  <a:pt x="5606" y="14660"/>
                </a:cubicBezTo>
              </a:path>
              <a:path w="2605" h="1167">
                <a:moveTo>
                  <a:pt x="6003" y="14089"/>
                </a:moveTo>
                <a:cubicBezTo>
                  <a:pt x="6003" y="14297"/>
                  <a:pt x="6023" y="14501"/>
                  <a:pt x="6028" y="14709"/>
                </a:cubicBezTo>
                <a:cubicBezTo>
                  <a:pt x="6028" y="14751"/>
                  <a:pt x="6028" y="14776"/>
                  <a:pt x="6028" y="14734"/>
                </a:cubicBezTo>
              </a:path>
              <a:path w="2605" h="1167">
                <a:moveTo>
                  <a:pt x="6300" y="14089"/>
                </a:moveTo>
                <a:cubicBezTo>
                  <a:pt x="6300" y="14191"/>
                  <a:pt x="6282" y="14287"/>
                  <a:pt x="6276" y="14387"/>
                </a:cubicBezTo>
                <a:cubicBezTo>
                  <a:pt x="6270" y="14489"/>
                  <a:pt x="6237" y="14708"/>
                  <a:pt x="6375" y="14759"/>
                </a:cubicBezTo>
                <a:cubicBezTo>
                  <a:pt x="6510" y="14809"/>
                  <a:pt x="6662" y="14693"/>
                  <a:pt x="6722" y="14585"/>
                </a:cubicBezTo>
                <a:cubicBezTo>
                  <a:pt x="6744" y="14520"/>
                  <a:pt x="6752" y="14505"/>
                  <a:pt x="6747" y="14461"/>
                </a:cubicBezTo>
                <a:cubicBezTo>
                  <a:pt x="6666" y="14397"/>
                  <a:pt x="6584" y="14405"/>
                  <a:pt x="6524" y="14511"/>
                </a:cubicBezTo>
                <a:cubicBezTo>
                  <a:pt x="6506" y="14543"/>
                  <a:pt x="6423" y="14751"/>
                  <a:pt x="6524" y="14734"/>
                </a:cubicBezTo>
                <a:cubicBezTo>
                  <a:pt x="6557" y="14726"/>
                  <a:pt x="6590" y="14717"/>
                  <a:pt x="6623" y="14709"/>
                </a:cubicBezTo>
              </a:path>
              <a:path w="2605" h="1167">
                <a:moveTo>
                  <a:pt x="6871" y="13990"/>
                </a:moveTo>
                <a:cubicBezTo>
                  <a:pt x="6852" y="14082"/>
                  <a:pt x="6846" y="14164"/>
                  <a:pt x="6846" y="14263"/>
                </a:cubicBezTo>
                <a:cubicBezTo>
                  <a:pt x="6846" y="14363"/>
                  <a:pt x="6820" y="14496"/>
                  <a:pt x="6871" y="14585"/>
                </a:cubicBezTo>
                <a:cubicBezTo>
                  <a:pt x="6903" y="14641"/>
                  <a:pt x="6962" y="14678"/>
                  <a:pt x="7020" y="14684"/>
                </a:cubicBezTo>
                <a:cubicBezTo>
                  <a:pt x="7078" y="14690"/>
                  <a:pt x="7117" y="14684"/>
                  <a:pt x="7169" y="14660"/>
                </a:cubicBezTo>
                <a:cubicBezTo>
                  <a:pt x="7220" y="14636"/>
                  <a:pt x="7247" y="14613"/>
                  <a:pt x="7268" y="14585"/>
                </a:cubicBezTo>
                <a:cubicBezTo>
                  <a:pt x="7289" y="14557"/>
                  <a:pt x="7351" y="14529"/>
                  <a:pt x="7342" y="14486"/>
                </a:cubicBezTo>
                <a:cubicBezTo>
                  <a:pt x="7332" y="14437"/>
                  <a:pt x="7265" y="14401"/>
                  <a:pt x="7218" y="14387"/>
                </a:cubicBezTo>
                <a:cubicBezTo>
                  <a:pt x="7174" y="14373"/>
                  <a:pt x="7108" y="14452"/>
                  <a:pt x="7094" y="14486"/>
                </a:cubicBezTo>
                <a:cubicBezTo>
                  <a:pt x="7070" y="14542"/>
                  <a:pt x="7094" y="14647"/>
                  <a:pt x="7094" y="14709"/>
                </a:cubicBezTo>
              </a:path>
              <a:path w="2605" h="1167">
                <a:moveTo>
                  <a:pt x="6821" y="13742"/>
                </a:moveTo>
                <a:cubicBezTo>
                  <a:pt x="6869" y="13742"/>
                  <a:pt x="7084" y="13742"/>
                  <a:pt x="7045" y="13742"/>
                </a:cubicBezTo>
                <a:cubicBezTo>
                  <a:pt x="6921" y="13742"/>
                  <a:pt x="6799" y="13767"/>
                  <a:pt x="6672" y="13767"/>
                </a:cubicBezTo>
                <a:cubicBezTo>
                  <a:pt x="6590" y="13767"/>
                  <a:pt x="6789" y="13777"/>
                  <a:pt x="6871" y="13767"/>
                </a:cubicBezTo>
                <a:cubicBezTo>
                  <a:pt x="6976" y="13754"/>
                  <a:pt x="7206" y="13721"/>
                  <a:pt x="6921" y="13742"/>
                </a:cubicBezTo>
                <a:cubicBezTo>
                  <a:pt x="6813" y="13742"/>
                  <a:pt x="6788" y="13742"/>
                  <a:pt x="6722" y="13742"/>
                </a:cubicBezTo>
                <a:cubicBezTo>
                  <a:pt x="6630" y="13742"/>
                  <a:pt x="6854" y="13732"/>
                  <a:pt x="6945" y="13717"/>
                </a:cubicBezTo>
                <a:cubicBezTo>
                  <a:pt x="7017" y="13705"/>
                  <a:pt x="7282" y="13692"/>
                  <a:pt x="7069" y="13692"/>
                </a:cubicBezTo>
                <a:cubicBezTo>
                  <a:pt x="6937" y="13692"/>
                  <a:pt x="6904" y="13692"/>
                  <a:pt x="6821" y="13692"/>
                </a:cubicBezTo>
                <a:cubicBezTo>
                  <a:pt x="6608" y="13692"/>
                  <a:pt x="6980" y="13692"/>
                  <a:pt x="6995" y="13692"/>
                </a:cubicBezTo>
                <a:cubicBezTo>
                  <a:pt x="7109" y="13692"/>
                  <a:pt x="7164" y="13688"/>
                  <a:pt x="7020" y="13717"/>
                </a:cubicBezTo>
                <a:cubicBezTo>
                  <a:pt x="6995" y="13717"/>
                  <a:pt x="6987" y="13717"/>
                  <a:pt x="7020" y="13717"/>
                </a:cubicBezTo>
              </a:path>
              <a:path w="2605" h="1167">
                <a:moveTo>
                  <a:pt x="6796" y="13767"/>
                </a:moveTo>
                <a:cubicBezTo>
                  <a:pt x="6779" y="13715"/>
                  <a:pt x="6768" y="13762"/>
                  <a:pt x="6722" y="13767"/>
                </a:cubicBezTo>
                <a:cubicBezTo>
                  <a:pt x="6678" y="13772"/>
                  <a:pt x="6876" y="13745"/>
                  <a:pt x="6921" y="13742"/>
                </a:cubicBezTo>
                <a:cubicBezTo>
                  <a:pt x="6945" y="13740"/>
                  <a:pt x="6971" y="13742"/>
                  <a:pt x="6995" y="13742"/>
                </a:cubicBezTo>
                <a:cubicBezTo>
                  <a:pt x="6910" y="13756"/>
                  <a:pt x="6836" y="13767"/>
                  <a:pt x="6747" y="13767"/>
                </a:cubicBezTo>
                <a:cubicBezTo>
                  <a:pt x="6736" y="13767"/>
                  <a:pt x="6630" y="13767"/>
                  <a:pt x="6697" y="13767"/>
                </a:cubicBezTo>
                <a:cubicBezTo>
                  <a:pt x="6821" y="13767"/>
                  <a:pt x="6945" y="13767"/>
                  <a:pt x="7069" y="13767"/>
                </a:cubicBezTo>
                <a:cubicBezTo>
                  <a:pt x="6960" y="13767"/>
                  <a:pt x="6904" y="13758"/>
                  <a:pt x="6796" y="13742"/>
                </a:cubicBezTo>
                <a:cubicBezTo>
                  <a:pt x="6731" y="13733"/>
                  <a:pt x="6879" y="13742"/>
                  <a:pt x="6945" y="13742"/>
                </a:cubicBezTo>
                <a:cubicBezTo>
                  <a:pt x="6987" y="13742"/>
                  <a:pt x="6995" y="13742"/>
                  <a:pt x="7020" y="13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convert fractions to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it is a mixed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3  2/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93960" y="3054240"/>
            <a:ext cx="330120" cy="258840"/>
          </a:xfrm>
          <a:custGeom>
            <a:avLst/>
            <a:gdLst/>
            <a:ahLst/>
            <a:rect l="l" t="t" r="r" b="b"/>
            <a:pathLst>
              <a:path w="918" h="721">
                <a:moveTo>
                  <a:pt x="5358" y="8632"/>
                </a:moveTo>
                <a:cubicBezTo>
                  <a:pt x="5458" y="8571"/>
                  <a:pt x="5303" y="8793"/>
                  <a:pt x="5283" y="8880"/>
                </a:cubicBezTo>
                <a:cubicBezTo>
                  <a:pt x="5257" y="8990"/>
                  <a:pt x="5248" y="9081"/>
                  <a:pt x="5283" y="9178"/>
                </a:cubicBezTo>
                <a:cubicBezTo>
                  <a:pt x="5444" y="9203"/>
                  <a:pt x="5540" y="9155"/>
                  <a:pt x="5631" y="9004"/>
                </a:cubicBezTo>
                <a:cubicBezTo>
                  <a:pt x="5697" y="8893"/>
                  <a:pt x="5602" y="8764"/>
                  <a:pt x="5507" y="8706"/>
                </a:cubicBezTo>
                <a:cubicBezTo>
                  <a:pt x="5440" y="8684"/>
                  <a:pt x="5422" y="8680"/>
                  <a:pt x="5383" y="8657"/>
                </a:cubicBezTo>
              </a:path>
              <a:path w="918" h="721">
                <a:moveTo>
                  <a:pt x="6102" y="8483"/>
                </a:moveTo>
                <a:cubicBezTo>
                  <a:pt x="6000" y="8483"/>
                  <a:pt x="5943" y="8512"/>
                  <a:pt x="5854" y="8558"/>
                </a:cubicBezTo>
                <a:cubicBezTo>
                  <a:pt x="5786" y="8593"/>
                  <a:pt x="5804" y="8599"/>
                  <a:pt x="5779" y="8682"/>
                </a:cubicBezTo>
                <a:cubicBezTo>
                  <a:pt x="5885" y="8814"/>
                  <a:pt x="6083" y="8857"/>
                  <a:pt x="6176" y="9004"/>
                </a:cubicBezTo>
                <a:cubicBezTo>
                  <a:pt x="6176" y="9021"/>
                  <a:pt x="6176" y="9037"/>
                  <a:pt x="6176" y="9054"/>
                </a:cubicBezTo>
                <a:cubicBezTo>
                  <a:pt x="6039" y="9142"/>
                  <a:pt x="6010" y="9162"/>
                  <a:pt x="5854" y="9153"/>
                </a:cubicBezTo>
                <a:cubicBezTo>
                  <a:pt x="5854" y="8955"/>
                  <a:pt x="5905" y="8908"/>
                  <a:pt x="6028" y="8756"/>
                </a:cubicBezTo>
                <a:cubicBezTo>
                  <a:pt x="6070" y="8705"/>
                  <a:pt x="6201" y="8591"/>
                  <a:pt x="6176" y="8508"/>
                </a:cubicBezTo>
                <a:cubicBezTo>
                  <a:pt x="6168" y="8500"/>
                  <a:pt x="6160" y="8491"/>
                  <a:pt x="6152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11200" y="2536920"/>
            <a:ext cx="223920" cy="26820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4142" y="7169"/>
                </a:moveTo>
                <a:cubicBezTo>
                  <a:pt x="4142" y="7136"/>
                  <a:pt x="4142" y="7119"/>
                  <a:pt x="4142" y="7094"/>
                </a:cubicBezTo>
                <a:cubicBezTo>
                  <a:pt x="4164" y="7265"/>
                  <a:pt x="4182" y="7445"/>
                  <a:pt x="4217" y="7615"/>
                </a:cubicBezTo>
                <a:cubicBezTo>
                  <a:pt x="4236" y="7672"/>
                  <a:pt x="4245" y="7679"/>
                  <a:pt x="4242" y="7714"/>
                </a:cubicBezTo>
              </a:path>
              <a:path w="621" h="745">
                <a:moveTo>
                  <a:pt x="4093" y="7516"/>
                </a:moveTo>
                <a:cubicBezTo>
                  <a:pt x="4116" y="7585"/>
                  <a:pt x="4169" y="7676"/>
                  <a:pt x="4217" y="7714"/>
                </a:cubicBezTo>
                <a:cubicBezTo>
                  <a:pt x="4305" y="7685"/>
                  <a:pt x="4338" y="7607"/>
                  <a:pt x="4415" y="7565"/>
                </a:cubicBezTo>
                <a:cubicBezTo>
                  <a:pt x="4423" y="7565"/>
                  <a:pt x="4432" y="7565"/>
                  <a:pt x="4440" y="7565"/>
                </a:cubicBezTo>
              </a:path>
              <a:path w="621" h="745">
                <a:moveTo>
                  <a:pt x="4192" y="7045"/>
                </a:moveTo>
                <a:cubicBezTo>
                  <a:pt x="4116" y="7168"/>
                  <a:pt x="4223" y="7334"/>
                  <a:pt x="4242" y="7466"/>
                </a:cubicBezTo>
                <a:cubicBezTo>
                  <a:pt x="4248" y="7506"/>
                  <a:pt x="4242" y="7751"/>
                  <a:pt x="4242" y="7714"/>
                </a:cubicBezTo>
              </a:path>
              <a:path w="621" h="745">
                <a:moveTo>
                  <a:pt x="3969" y="7565"/>
                </a:moveTo>
                <a:cubicBezTo>
                  <a:pt x="3910" y="7479"/>
                  <a:pt x="4127" y="7630"/>
                  <a:pt x="4142" y="7640"/>
                </a:cubicBezTo>
                <a:cubicBezTo>
                  <a:pt x="4165" y="7663"/>
                  <a:pt x="4169" y="7671"/>
                  <a:pt x="4192" y="7665"/>
                </a:cubicBezTo>
                <a:cubicBezTo>
                  <a:pt x="4136" y="7626"/>
                  <a:pt x="4027" y="7557"/>
                  <a:pt x="3994" y="7516"/>
                </a:cubicBezTo>
                <a:cubicBezTo>
                  <a:pt x="4017" y="7633"/>
                  <a:pt x="4123" y="7659"/>
                  <a:pt x="4192" y="7739"/>
                </a:cubicBezTo>
                <a:cubicBezTo>
                  <a:pt x="4250" y="7806"/>
                  <a:pt x="4223" y="7777"/>
                  <a:pt x="4316" y="7665"/>
                </a:cubicBezTo>
                <a:cubicBezTo>
                  <a:pt x="4447" y="7512"/>
                  <a:pt x="4482" y="7479"/>
                  <a:pt x="4539" y="7367"/>
                </a:cubicBezTo>
                <a:cubicBezTo>
                  <a:pt x="4485" y="7513"/>
                  <a:pt x="4375" y="7575"/>
                  <a:pt x="4291" y="7689"/>
                </a:cubicBezTo>
                <a:cubicBezTo>
                  <a:pt x="4299" y="7689"/>
                  <a:pt x="4308" y="7689"/>
                  <a:pt x="4316" y="7689"/>
                </a:cubicBezTo>
                <a:cubicBezTo>
                  <a:pt x="4345" y="7655"/>
                  <a:pt x="4532" y="7424"/>
                  <a:pt x="4465" y="7491"/>
                </a:cubicBezTo>
              </a:path>
              <a:path w="621" h="745">
                <a:moveTo>
                  <a:pt x="4018" y="7491"/>
                </a:moveTo>
                <a:cubicBezTo>
                  <a:pt x="4122" y="7526"/>
                  <a:pt x="4179" y="7600"/>
                  <a:pt x="4242" y="7689"/>
                </a:cubicBezTo>
                <a:cubicBezTo>
                  <a:pt x="4147" y="7607"/>
                  <a:pt x="4049" y="7537"/>
                  <a:pt x="3944" y="7466"/>
                </a:cubicBezTo>
                <a:cubicBezTo>
                  <a:pt x="3921" y="7477"/>
                  <a:pt x="4029" y="7572"/>
                  <a:pt x="4068" y="7615"/>
                </a:cubicBezTo>
                <a:cubicBezTo>
                  <a:pt x="4107" y="7654"/>
                  <a:pt x="4108" y="7671"/>
                  <a:pt x="4142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28840" y="3027240"/>
            <a:ext cx="349200" cy="374760"/>
          </a:xfrm>
          <a:custGeom>
            <a:avLst/>
            <a:gdLst/>
            <a:ahLst/>
            <a:rect l="l" t="t" r="r" b="b"/>
            <a:pathLst>
              <a:path w="968" h="1043">
                <a:moveTo>
                  <a:pt x="4018" y="8533"/>
                </a:moveTo>
                <a:cubicBezTo>
                  <a:pt x="4088" y="8490"/>
                  <a:pt x="4425" y="8267"/>
                  <a:pt x="4440" y="8508"/>
                </a:cubicBezTo>
                <a:cubicBezTo>
                  <a:pt x="4451" y="8681"/>
                  <a:pt x="4307" y="8808"/>
                  <a:pt x="4192" y="8905"/>
                </a:cubicBezTo>
                <a:cubicBezTo>
                  <a:pt x="4273" y="8885"/>
                  <a:pt x="4383" y="8843"/>
                  <a:pt x="4465" y="8930"/>
                </a:cubicBezTo>
                <a:cubicBezTo>
                  <a:pt x="4676" y="9155"/>
                  <a:pt x="4384" y="9361"/>
                  <a:pt x="4192" y="9426"/>
                </a:cubicBezTo>
                <a:cubicBezTo>
                  <a:pt x="4067" y="9447"/>
                  <a:pt x="4040" y="9463"/>
                  <a:pt x="3969" y="9426"/>
                </a:cubicBezTo>
              </a:path>
              <a:path w="968" h="1043">
                <a:moveTo>
                  <a:pt x="4936" y="9203"/>
                </a:moveTo>
                <a:cubicBezTo>
                  <a:pt x="4867" y="9161"/>
                  <a:pt x="4831" y="9191"/>
                  <a:pt x="4812" y="9277"/>
                </a:cubicBezTo>
                <a:cubicBezTo>
                  <a:pt x="4812" y="9294"/>
                  <a:pt x="4812" y="9310"/>
                  <a:pt x="4812" y="9327"/>
                </a:cubicBezTo>
                <a:cubicBezTo>
                  <a:pt x="4843" y="9318"/>
                  <a:pt x="4975" y="9225"/>
                  <a:pt x="4887" y="9203"/>
                </a:cubicBezTo>
                <a:cubicBezTo>
                  <a:pt x="4814" y="9185"/>
                  <a:pt x="4819" y="9255"/>
                  <a:pt x="4787" y="9302"/>
                </a:cubicBezTo>
                <a:cubicBezTo>
                  <a:pt x="4853" y="9328"/>
                  <a:pt x="4843" y="9313"/>
                  <a:pt x="4887" y="9252"/>
                </a:cubicBezTo>
                <a:cubicBezTo>
                  <a:pt x="4878" y="9200"/>
                  <a:pt x="4784" y="9277"/>
                  <a:pt x="4837" y="9277"/>
                </a:cubicBezTo>
                <a:cubicBezTo>
                  <a:pt x="4964" y="9276"/>
                  <a:pt x="4813" y="9209"/>
                  <a:pt x="4911" y="9277"/>
                </a:cubicBezTo>
              </a:path>
              <a:path w="968" h="1043">
                <a:moveTo>
                  <a:pt x="4862" y="9227"/>
                </a:moveTo>
                <a:cubicBezTo>
                  <a:pt x="4851" y="9195"/>
                  <a:pt x="4815" y="9187"/>
                  <a:pt x="4787" y="9227"/>
                </a:cubicBezTo>
                <a:cubicBezTo>
                  <a:pt x="4767" y="9268"/>
                  <a:pt x="4758" y="9274"/>
                  <a:pt x="4762" y="9302"/>
                </a:cubicBezTo>
                <a:cubicBezTo>
                  <a:pt x="4802" y="9292"/>
                  <a:pt x="4872" y="9230"/>
                  <a:pt x="4837" y="9178"/>
                </a:cubicBezTo>
                <a:cubicBezTo>
                  <a:pt x="4799" y="9121"/>
                  <a:pt x="4764" y="9268"/>
                  <a:pt x="4762" y="9277"/>
                </a:cubicBezTo>
                <a:cubicBezTo>
                  <a:pt x="4834" y="9253"/>
                  <a:pt x="4789" y="9259"/>
                  <a:pt x="4837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54760" y="1731960"/>
            <a:ext cx="1143000" cy="162000"/>
          </a:xfrm>
          <a:custGeom>
            <a:avLst/>
            <a:gdLst/>
            <a:ahLst/>
            <a:rect l="l" t="t" r="r" b="b"/>
            <a:pathLst>
              <a:path w="3176" h="448">
                <a:moveTo>
                  <a:pt x="14039" y="5259"/>
                </a:moveTo>
                <a:cubicBezTo>
                  <a:pt x="14181" y="5239"/>
                  <a:pt x="14313" y="5194"/>
                  <a:pt x="14461" y="5184"/>
                </a:cubicBezTo>
              </a:path>
              <a:path w="3176" h="448">
                <a:moveTo>
                  <a:pt x="16867" y="4911"/>
                </a:moveTo>
                <a:cubicBezTo>
                  <a:pt x="16983" y="4864"/>
                  <a:pt x="17090" y="4828"/>
                  <a:pt x="17214" y="4812"/>
                </a:cubicBezTo>
              </a:path>
              <a:path w="3176" h="448">
                <a:moveTo>
                  <a:pt x="16966" y="5035"/>
                </a:moveTo>
                <a:cubicBezTo>
                  <a:pt x="17024" y="5027"/>
                  <a:pt x="17082" y="5019"/>
                  <a:pt x="17140" y="5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5120" y="1598760"/>
            <a:ext cx="938160" cy="812520"/>
          </a:xfrm>
          <a:custGeom>
            <a:avLst/>
            <a:gdLst/>
            <a:ahLst/>
            <a:rect l="l" t="t" r="r" b="b"/>
            <a:pathLst>
              <a:path w="2605" h="2258">
                <a:moveTo>
                  <a:pt x="10988" y="4589"/>
                </a:moveTo>
                <a:cubicBezTo>
                  <a:pt x="11029" y="4487"/>
                  <a:pt x="11111" y="4480"/>
                  <a:pt x="11212" y="4465"/>
                </a:cubicBezTo>
                <a:cubicBezTo>
                  <a:pt x="11278" y="4703"/>
                  <a:pt x="11140" y="4857"/>
                  <a:pt x="10988" y="5035"/>
                </a:cubicBezTo>
                <a:cubicBezTo>
                  <a:pt x="10884" y="5139"/>
                  <a:pt x="10859" y="5156"/>
                  <a:pt x="10815" y="5234"/>
                </a:cubicBezTo>
                <a:cubicBezTo>
                  <a:pt x="10959" y="5180"/>
                  <a:pt x="11107" y="5106"/>
                  <a:pt x="11261" y="5060"/>
                </a:cubicBezTo>
                <a:cubicBezTo>
                  <a:pt x="11286" y="5060"/>
                  <a:pt x="11294" y="5060"/>
                  <a:pt x="11311" y="5060"/>
                </a:cubicBezTo>
              </a:path>
              <a:path w="2605" h="2258">
                <a:moveTo>
                  <a:pt x="10492" y="5581"/>
                </a:moveTo>
                <a:cubicBezTo>
                  <a:pt x="10841" y="5474"/>
                  <a:pt x="11178" y="5424"/>
                  <a:pt x="11534" y="5358"/>
                </a:cubicBezTo>
                <a:cubicBezTo>
                  <a:pt x="11556" y="5354"/>
                  <a:pt x="11701" y="5333"/>
                  <a:pt x="11584" y="5333"/>
                </a:cubicBezTo>
              </a:path>
              <a:path w="2605" h="2258">
                <a:moveTo>
                  <a:pt x="10567" y="6102"/>
                </a:moveTo>
                <a:cubicBezTo>
                  <a:pt x="10657" y="6066"/>
                  <a:pt x="10662" y="6049"/>
                  <a:pt x="10716" y="6052"/>
                </a:cubicBezTo>
                <a:cubicBezTo>
                  <a:pt x="10698" y="6271"/>
                  <a:pt x="10615" y="6384"/>
                  <a:pt x="10468" y="6548"/>
                </a:cubicBezTo>
                <a:cubicBezTo>
                  <a:pt x="10372" y="6644"/>
                  <a:pt x="10366" y="6667"/>
                  <a:pt x="10294" y="6697"/>
                </a:cubicBezTo>
                <a:cubicBezTo>
                  <a:pt x="10462" y="6634"/>
                  <a:pt x="10577" y="6582"/>
                  <a:pt x="10765" y="6573"/>
                </a:cubicBezTo>
                <a:cubicBezTo>
                  <a:pt x="10790" y="6573"/>
                  <a:pt x="10815" y="6573"/>
                  <a:pt x="10840" y="6573"/>
                </a:cubicBezTo>
              </a:path>
              <a:path w="2605" h="2258">
                <a:moveTo>
                  <a:pt x="11286" y="5904"/>
                </a:moveTo>
                <a:cubicBezTo>
                  <a:pt x="11225" y="5944"/>
                  <a:pt x="11134" y="5984"/>
                  <a:pt x="11112" y="6052"/>
                </a:cubicBezTo>
                <a:cubicBezTo>
                  <a:pt x="11083" y="6142"/>
                  <a:pt x="11071" y="6145"/>
                  <a:pt x="11112" y="6201"/>
                </a:cubicBezTo>
                <a:cubicBezTo>
                  <a:pt x="11225" y="6164"/>
                  <a:pt x="11435" y="6084"/>
                  <a:pt x="11460" y="6276"/>
                </a:cubicBezTo>
                <a:cubicBezTo>
                  <a:pt x="11494" y="6532"/>
                  <a:pt x="11202" y="6557"/>
                  <a:pt x="11038" y="6548"/>
                </a:cubicBezTo>
              </a:path>
              <a:path w="2605" h="2258">
                <a:moveTo>
                  <a:pt x="11956" y="5209"/>
                </a:moveTo>
                <a:cubicBezTo>
                  <a:pt x="12034" y="5225"/>
                  <a:pt x="12100" y="5311"/>
                  <a:pt x="12129" y="5383"/>
                </a:cubicBezTo>
                <a:cubicBezTo>
                  <a:pt x="12129" y="5399"/>
                  <a:pt x="12129" y="5416"/>
                  <a:pt x="12129" y="5432"/>
                </a:cubicBezTo>
              </a:path>
              <a:path w="2605" h="2258">
                <a:moveTo>
                  <a:pt x="12154" y="5209"/>
                </a:moveTo>
                <a:cubicBezTo>
                  <a:pt x="12122" y="5277"/>
                  <a:pt x="11991" y="5493"/>
                  <a:pt x="12030" y="5531"/>
                </a:cubicBezTo>
              </a:path>
              <a:path w="2605" h="2258">
                <a:moveTo>
                  <a:pt x="12601" y="5333"/>
                </a:moveTo>
                <a:cubicBezTo>
                  <a:pt x="12626" y="5333"/>
                  <a:pt x="12634" y="5333"/>
                  <a:pt x="12626" y="5308"/>
                </a:cubicBezTo>
                <a:cubicBezTo>
                  <a:pt x="12615" y="5351"/>
                  <a:pt x="12543" y="5439"/>
                  <a:pt x="12576" y="5482"/>
                </a:cubicBezTo>
                <a:cubicBezTo>
                  <a:pt x="12614" y="5532"/>
                  <a:pt x="12738" y="5476"/>
                  <a:pt x="12774" y="5457"/>
                </a:cubicBezTo>
              </a:path>
              <a:path w="2605" h="2258">
                <a:moveTo>
                  <a:pt x="12725" y="5234"/>
                </a:moveTo>
                <a:cubicBezTo>
                  <a:pt x="12719" y="5379"/>
                  <a:pt x="12741" y="5625"/>
                  <a:pt x="12675" y="5755"/>
                </a:cubicBezTo>
                <a:cubicBezTo>
                  <a:pt x="12675" y="5738"/>
                  <a:pt x="12675" y="5722"/>
                  <a:pt x="12675" y="5705"/>
                </a:cubicBezTo>
              </a:path>
              <a:path w="2605" h="2258">
                <a:moveTo>
                  <a:pt x="12477" y="5110"/>
                </a:moveTo>
                <a:cubicBezTo>
                  <a:pt x="12618" y="5073"/>
                  <a:pt x="12756" y="5042"/>
                  <a:pt x="12898" y="5011"/>
                </a:cubicBezTo>
              </a:path>
              <a:path w="2605" h="2258">
                <a:moveTo>
                  <a:pt x="12601" y="4638"/>
                </a:moveTo>
                <a:cubicBezTo>
                  <a:pt x="12594" y="4698"/>
                  <a:pt x="12583" y="4717"/>
                  <a:pt x="12601" y="4762"/>
                </a:cubicBezTo>
                <a:cubicBezTo>
                  <a:pt x="12686" y="4734"/>
                  <a:pt x="12694" y="4707"/>
                  <a:pt x="12750" y="4638"/>
                </a:cubicBezTo>
              </a:path>
              <a:path w="2605" h="2258">
                <a:moveTo>
                  <a:pt x="12675" y="4440"/>
                </a:moveTo>
                <a:cubicBezTo>
                  <a:pt x="12675" y="4617"/>
                  <a:pt x="12665" y="4790"/>
                  <a:pt x="12700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4760" y="1795320"/>
            <a:ext cx="812520" cy="384480"/>
          </a:xfrm>
          <a:custGeom>
            <a:avLst/>
            <a:gdLst/>
            <a:ahLst/>
            <a:rect l="l" t="t" r="r" b="b"/>
            <a:pathLst>
              <a:path w="2259" h="1067">
                <a:moveTo>
                  <a:pt x="14039" y="5432"/>
                </a:moveTo>
                <a:cubicBezTo>
                  <a:pt x="14171" y="5403"/>
                  <a:pt x="14303" y="5380"/>
                  <a:pt x="14436" y="5358"/>
                </a:cubicBezTo>
              </a:path>
              <a:path w="2259" h="1067">
                <a:moveTo>
                  <a:pt x="14684" y="5432"/>
                </a:moveTo>
                <a:cubicBezTo>
                  <a:pt x="14668" y="5623"/>
                  <a:pt x="14656" y="5879"/>
                  <a:pt x="14560" y="6052"/>
                </a:cubicBezTo>
                <a:cubicBezTo>
                  <a:pt x="14560" y="6036"/>
                  <a:pt x="14560" y="6019"/>
                  <a:pt x="14560" y="6003"/>
                </a:cubicBezTo>
              </a:path>
              <a:path w="2259" h="1067">
                <a:moveTo>
                  <a:pt x="15180" y="5333"/>
                </a:moveTo>
                <a:cubicBezTo>
                  <a:pt x="15098" y="5514"/>
                  <a:pt x="15050" y="5658"/>
                  <a:pt x="15032" y="5854"/>
                </a:cubicBezTo>
                <a:cubicBezTo>
                  <a:pt x="15188" y="5854"/>
                  <a:pt x="15506" y="5755"/>
                  <a:pt x="15404" y="5507"/>
                </a:cubicBezTo>
                <a:cubicBezTo>
                  <a:pt x="15304" y="5432"/>
                  <a:pt x="15270" y="5407"/>
                  <a:pt x="15180" y="5407"/>
                </a:cubicBezTo>
              </a:path>
              <a:path w="2259" h="1067">
                <a:moveTo>
                  <a:pt x="15875" y="5333"/>
                </a:moveTo>
                <a:cubicBezTo>
                  <a:pt x="15751" y="5511"/>
                  <a:pt x="15716" y="5644"/>
                  <a:pt x="15726" y="5854"/>
                </a:cubicBezTo>
                <a:cubicBezTo>
                  <a:pt x="15813" y="5833"/>
                  <a:pt x="16258" y="5662"/>
                  <a:pt x="16073" y="5482"/>
                </a:cubicBezTo>
                <a:cubicBezTo>
                  <a:pt x="15935" y="5435"/>
                  <a:pt x="15897" y="5419"/>
                  <a:pt x="15801" y="5432"/>
                </a:cubicBezTo>
              </a:path>
              <a:path w="2259" h="1067">
                <a:moveTo>
                  <a:pt x="14808" y="5184"/>
                </a:moveTo>
                <a:cubicBezTo>
                  <a:pt x="15149" y="5104"/>
                  <a:pt x="15473" y="5046"/>
                  <a:pt x="15825" y="5011"/>
                </a:cubicBezTo>
                <a:cubicBezTo>
                  <a:pt x="16006" y="4993"/>
                  <a:pt x="16132" y="4992"/>
                  <a:pt x="16297" y="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57960" y="1554120"/>
            <a:ext cx="938160" cy="438120"/>
          </a:xfrm>
          <a:custGeom>
            <a:avLst/>
            <a:gdLst/>
            <a:ahLst/>
            <a:rect l="l" t="t" r="r" b="b"/>
            <a:pathLst>
              <a:path w="2605" h="1216">
                <a:moveTo>
                  <a:pt x="18107" y="4614"/>
                </a:moveTo>
                <a:cubicBezTo>
                  <a:pt x="17887" y="4724"/>
                  <a:pt x="17777" y="4928"/>
                  <a:pt x="17661" y="5159"/>
                </a:cubicBezTo>
                <a:cubicBezTo>
                  <a:pt x="17861" y="5230"/>
                  <a:pt x="18239" y="5188"/>
                  <a:pt x="18256" y="4862"/>
                </a:cubicBezTo>
                <a:cubicBezTo>
                  <a:pt x="18263" y="4727"/>
                  <a:pt x="18036" y="4553"/>
                  <a:pt x="18058" y="4787"/>
                </a:cubicBezTo>
              </a:path>
              <a:path w="2605" h="1216">
                <a:moveTo>
                  <a:pt x="18455" y="5184"/>
                </a:moveTo>
                <a:cubicBezTo>
                  <a:pt x="18455" y="5257"/>
                  <a:pt x="18436" y="5236"/>
                  <a:pt x="18529" y="5184"/>
                </a:cubicBezTo>
              </a:path>
              <a:path w="2605" h="1216">
                <a:moveTo>
                  <a:pt x="19248" y="4440"/>
                </a:moveTo>
                <a:cubicBezTo>
                  <a:pt x="19062" y="4472"/>
                  <a:pt x="18962" y="4674"/>
                  <a:pt x="18901" y="4837"/>
                </a:cubicBezTo>
                <a:cubicBezTo>
                  <a:pt x="18893" y="4887"/>
                  <a:pt x="18884" y="4936"/>
                  <a:pt x="18876" y="4986"/>
                </a:cubicBezTo>
                <a:cubicBezTo>
                  <a:pt x="19147" y="5035"/>
                  <a:pt x="19335" y="4948"/>
                  <a:pt x="19323" y="4614"/>
                </a:cubicBezTo>
                <a:cubicBezTo>
                  <a:pt x="19277" y="4500"/>
                  <a:pt x="19270" y="4461"/>
                  <a:pt x="19174" y="4465"/>
                </a:cubicBezTo>
              </a:path>
              <a:path w="2605" h="1216">
                <a:moveTo>
                  <a:pt x="19943" y="4316"/>
                </a:moveTo>
                <a:cubicBezTo>
                  <a:pt x="19813" y="4342"/>
                  <a:pt x="19767" y="4354"/>
                  <a:pt x="19695" y="4415"/>
                </a:cubicBezTo>
                <a:cubicBezTo>
                  <a:pt x="19695" y="4683"/>
                  <a:pt x="19931" y="4750"/>
                  <a:pt x="19968" y="4986"/>
                </a:cubicBezTo>
                <a:cubicBezTo>
                  <a:pt x="19951" y="5019"/>
                  <a:pt x="19935" y="5052"/>
                  <a:pt x="19918" y="5085"/>
                </a:cubicBezTo>
                <a:cubicBezTo>
                  <a:pt x="19578" y="5085"/>
                  <a:pt x="19696" y="4896"/>
                  <a:pt x="19844" y="4663"/>
                </a:cubicBezTo>
                <a:cubicBezTo>
                  <a:pt x="19921" y="4542"/>
                  <a:pt x="20052" y="4488"/>
                  <a:pt x="19943" y="4415"/>
                </a:cubicBezTo>
              </a:path>
              <a:path w="2605" h="1216">
                <a:moveTo>
                  <a:pt x="18455" y="5283"/>
                </a:moveTo>
                <a:cubicBezTo>
                  <a:pt x="18485" y="5211"/>
                  <a:pt x="18476" y="5208"/>
                  <a:pt x="18479" y="5209"/>
                </a:cubicBezTo>
                <a:cubicBezTo>
                  <a:pt x="18551" y="5223"/>
                  <a:pt x="18628" y="5159"/>
                  <a:pt x="18504" y="5159"/>
                </a:cubicBezTo>
              </a:path>
              <a:path w="2605" h="1216">
                <a:moveTo>
                  <a:pt x="18653" y="5531"/>
                </a:moveTo>
                <a:cubicBezTo>
                  <a:pt x="18645" y="5523"/>
                  <a:pt x="18636" y="5515"/>
                  <a:pt x="18628" y="5507"/>
                </a:cubicBezTo>
                <a:cubicBezTo>
                  <a:pt x="18721" y="5501"/>
                  <a:pt x="18808" y="5485"/>
                  <a:pt x="18901" y="5482"/>
                </a:cubicBezTo>
                <a:cubicBezTo>
                  <a:pt x="18990" y="5479"/>
                  <a:pt x="19063" y="5467"/>
                  <a:pt x="19149" y="5457"/>
                </a:cubicBezTo>
                <a:cubicBezTo>
                  <a:pt x="19255" y="5445"/>
                  <a:pt x="19367" y="5452"/>
                  <a:pt x="19472" y="5432"/>
                </a:cubicBezTo>
                <a:cubicBezTo>
                  <a:pt x="19571" y="5413"/>
                  <a:pt x="19670" y="5409"/>
                  <a:pt x="19769" y="5383"/>
                </a:cubicBezTo>
                <a:cubicBezTo>
                  <a:pt x="19872" y="5356"/>
                  <a:pt x="19966" y="5354"/>
                  <a:pt x="20067" y="5333"/>
                </a:cubicBezTo>
                <a:cubicBezTo>
                  <a:pt x="20143" y="5317"/>
                  <a:pt x="20189" y="5292"/>
                  <a:pt x="20265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29160" y="1535040"/>
            <a:ext cx="115920" cy="189000"/>
          </a:xfrm>
          <a:custGeom>
            <a:avLst/>
            <a:gdLst/>
            <a:ahLst/>
            <a:rect l="l" t="t" r="r" b="b"/>
            <a:pathLst>
              <a:path w="324" h="522">
                <a:moveTo>
                  <a:pt x="15354" y="4341"/>
                </a:moveTo>
                <a:cubicBezTo>
                  <a:pt x="15365" y="4309"/>
                  <a:pt x="15372" y="4302"/>
                  <a:pt x="15404" y="4291"/>
                </a:cubicBezTo>
                <a:cubicBezTo>
                  <a:pt x="15381" y="4222"/>
                  <a:pt x="15221" y="4297"/>
                  <a:pt x="15180" y="4316"/>
                </a:cubicBezTo>
                <a:cubicBezTo>
                  <a:pt x="14961" y="4417"/>
                  <a:pt x="15226" y="4454"/>
                  <a:pt x="15304" y="4539"/>
                </a:cubicBezTo>
                <a:cubicBezTo>
                  <a:pt x="15460" y="4710"/>
                  <a:pt x="15263" y="4768"/>
                  <a:pt x="15131" y="4787"/>
                </a:cubicBezTo>
                <a:cubicBezTo>
                  <a:pt x="15156" y="4587"/>
                  <a:pt x="15218" y="4457"/>
                  <a:pt x="15329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9:39:55Z</dcterms:created>
  <dc:creator>deanne e mcgrath</dc:creator>
  <dc:description/>
  <dc:language>en-US</dc:language>
  <cp:lastModifiedBy>deanne e mcgrath</cp:lastModifiedBy>
  <dcterms:modified xsi:type="dcterms:W3CDTF">2011-10-05T20:12:57Z</dcterms:modified>
  <cp:revision>4</cp:revision>
  <dc:subject/>
  <dc:title>Slide 1</dc:title>
</cp:coreProperties>
</file>